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9802-7FF6-484C-84C3-B242E0B0185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F29E-B25F-4644-8388-F7026F02C8B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0B1B-91A9-4B2A-9248-BA2981583F9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9BC0-94A2-4F2A-83ED-4CDFBDA57DA2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A7EE-5353-4D6B-83C2-1BA5C6C22BC3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8856-D3F9-46E8-9688-7B9E733CF1F2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0C13-8442-44D2-9D65-E46DB6B78AC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B321-8709-4D78-BABC-05F85D627E8C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05D2-2319-4611-8AAD-E6A7733D2DB6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C29A-3A6E-416D-8917-C316D04DFFD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2827-FF95-4D99-A1A5-32996E1D154C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C13-CFCB-4272-8650-83D4EA8F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67B-0E85-4385-B193-6EFCC9E8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CF1-CA28-418C-8D26-2EA8FFBF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23C-2038-4638-A13A-330C99BC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A44BE-FBEC-4055-9F5C-E9B1300F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62827-21E2-4631-B2DA-615E442C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7DE19-53DB-4013-B6DB-DA257E0D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854A0-29B2-4E61-8937-9B50A77B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FA4C6-376A-4AEB-AD8E-2A2DC898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70892-40F2-4BCB-B694-C8388E8E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6745F-BC21-4916-A8D5-1E2C7579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C5D-1BBE-4526-9A50-7A213E66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221E8-259E-437E-A80D-1C94D491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50CA0-0D28-44A4-8DE9-0409A15F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B4603-94E0-47DF-B630-F0AED33A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92D10-F691-469E-B9CE-82DC09E9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A18D0-3C4E-4E0A-8762-1FE64871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197-6FE2-4246-894F-FB632E09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46C-2393-46AD-8F25-2A4DDF8D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8A8-4924-46E3-9A10-EA00C5F1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992-DF90-4792-8745-33A1F9AA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7CD-E39E-413E-BAEE-B1D43F55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283-480D-4CC5-83E3-E3FC1E69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9E3-A208-4AB6-A1AE-B1C18731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81D0-80E6-4A1C-8233-A0E1E7ACE58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EFE5-F6BD-48D9-B734-1C55ACC2826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3e3ff"/>
                </a:solidFill>
                <a:latin typeface="Arial"/>
              </a:rPr>
              <a:t>Instituto Tecnológico de Aeronáutica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002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TC-10 Lógica Mate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 u="sng">
                <a:solidFill>
                  <a:srgbClr val="ffffff"/>
                </a:solidFill>
                <a:uFillTx/>
                <a:latin typeface="Arial"/>
              </a:rPr>
              <a:t>Introdução a Aritmética de Pe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f. Paulo Marcelo Tasinaff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1"/>
          <a:stretch/>
        </p:blipFill>
        <p:spPr>
          <a:xfrm>
            <a:off x="179280" y="484200"/>
            <a:ext cx="151308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3e3ff"/>
                </a:solidFill>
                <a:latin typeface="Arial"/>
              </a:rPr>
              <a:t>Instituto Tecnológico de Aeronáutica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12392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22280" y="1052640"/>
            <a:ext cx="8253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3e3ff"/>
                </a:solidFill>
                <a:latin typeface="Arial"/>
              </a:rPr>
              <a:t>Instituto Tecnológico de Aeronáutica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12392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Object 4"/>
          <p:cNvGraphicFramePr/>
          <p:nvPr/>
        </p:nvGraphicFramePr>
        <p:xfrm>
          <a:off x="1044720" y="765000"/>
          <a:ext cx="7127640" cy="583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765000"/>
                    <a:ext cx="7127640" cy="583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3e3ff"/>
                </a:solidFill>
                <a:latin typeface="Arial"/>
              </a:rPr>
              <a:t>Instituto Tecnológico de Aeronáutica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12392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Object 4"/>
          <p:cNvGraphicFramePr/>
          <p:nvPr/>
        </p:nvGraphicFramePr>
        <p:xfrm>
          <a:off x="826920" y="692280"/>
          <a:ext cx="7490160" cy="603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692280"/>
                    <a:ext cx="749016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3e3ff"/>
                </a:solidFill>
                <a:latin typeface="Arial"/>
              </a:rPr>
              <a:t>Instituto Tecnológico de Aeronáutica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12392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4"/>
          <p:cNvGraphicFramePr/>
          <p:nvPr/>
        </p:nvGraphicFramePr>
        <p:xfrm>
          <a:off x="1476360" y="754200"/>
          <a:ext cx="6264360" cy="598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754200"/>
                    <a:ext cx="626436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3e3ff"/>
                </a:solidFill>
                <a:latin typeface="Arial"/>
              </a:rPr>
              <a:t>Instituto Tecnológico de Aeronáutica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12392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4"/>
          <p:cNvGraphicFramePr/>
          <p:nvPr/>
        </p:nvGraphicFramePr>
        <p:xfrm>
          <a:off x="971640" y="692280"/>
          <a:ext cx="7200720" cy="60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692280"/>
                    <a:ext cx="72007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3e3ff"/>
                </a:solidFill>
                <a:latin typeface="Arial"/>
              </a:rPr>
              <a:t>Instituto Tecnológico de Aeronáutica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12392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Object 4"/>
          <p:cNvGraphicFramePr/>
          <p:nvPr/>
        </p:nvGraphicFramePr>
        <p:xfrm>
          <a:off x="1260360" y="692280"/>
          <a:ext cx="6480360" cy="603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0360" y="692280"/>
                    <a:ext cx="64803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3e3ff"/>
                </a:solidFill>
                <a:latin typeface="Arial"/>
              </a:rPr>
              <a:t>Instituto Tecnológico de Aeronáutica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12392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Object 4"/>
          <p:cNvGraphicFramePr/>
          <p:nvPr/>
        </p:nvGraphicFramePr>
        <p:xfrm>
          <a:off x="395280" y="1328760"/>
          <a:ext cx="8424720" cy="38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328760"/>
                    <a:ext cx="842472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51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3e3ff"/>
                </a:solidFill>
                <a:latin typeface="Arial"/>
              </a:rPr>
              <a:t>Instituto Tecnológico de Aeronáutica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09680"/>
            <a:ext cx="80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08000" y="165240"/>
            <a:ext cx="1584360" cy="671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457200" y="1454040"/>
            <a:ext cx="80755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18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13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0" y="2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2520" y="406332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08000" y="1197000"/>
            <a:ext cx="8496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2"/>
          <a:stretch/>
        </p:blipFill>
        <p:spPr>
          <a:xfrm>
            <a:off x="6659640" y="1771560"/>
            <a:ext cx="2368440" cy="3745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2"/>
          <p:cNvSpPr/>
          <p:nvPr/>
        </p:nvSpPr>
        <p:spPr>
          <a:xfrm>
            <a:off x="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4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419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22:41:31Z</dcterms:created>
  <dc:creator>Paulo Marcelo Tasinaffo</dc:creator>
  <dc:description/>
  <dc:language>en-US</dc:language>
  <cp:lastModifiedBy>Paulo Tasinaffo</cp:lastModifiedBy>
  <dcterms:modified xsi:type="dcterms:W3CDTF">2012-02-04T15:39:03Z</dcterms:modified>
  <cp:revision>70</cp:revision>
  <dc:subject/>
  <dc:title>Instituto Tecnológico de Aeronáutica</dc:title>
</cp:coreProperties>
</file>