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0" y="936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4022640" y="936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1"/>
          </p:nvPr>
        </p:nvSpPr>
        <p:spPr>
          <a:xfrm>
            <a:off x="0" y="9743760"/>
            <a:ext cx="3076560" cy="4777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2"/>
          </p:nvPr>
        </p:nvSpPr>
        <p:spPr>
          <a:xfrm>
            <a:off x="4022640" y="9743760"/>
            <a:ext cx="3076560" cy="4777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330960" y="9798120"/>
            <a:ext cx="9921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465AA-7ADB-452D-A931-E541EE116A6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uitas linguagens de programação (derivadas de Algol: como Pascal, por ex.) são descritas por BN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Se alguém tiver/achar um exemplo, xerocar uma “parte” da descrição, só para os alunos terem uma idé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ode-se derivar quaisquer outros números que se queira, com ou sem sin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x: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inteiro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inteiro sem sinal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digito&gt; &lt;inteiro sem sina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igito&gt; &lt;digito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 &lt;digito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x: +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inteiro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inteiro com sinal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&lt;inteiro sem sina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&lt;digito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mática regular também é chamada d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mática linear à direita (ou esquerda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ref3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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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  indica que o comprimento da cadeia (derivada) sempre cresce ou se mantém, nunca diminu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: nas gramáticas irrestritas, produções do tip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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com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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(N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* - T*] 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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*, indicam qu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é uma cadeia contendo no mínimo um não terminal 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é uma cadeia, eventualmente vazia, de terminais e não termina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. da [ref.1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a mesma forma, todas as linguagens do tipo 1 podem ser geradas através de gramáticas irrestritas (tipo 0), embora o inverso não seja verdade. Assim, existe uma </a:t>
            </a: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relação de inclusão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oda gramática ou linguagem do tipo 2 também é do tipo 1 e, portanto, do tipo 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oda gramática ou linguagem do tipo 3 também é do tipo 2, do tipo 1 ou do tipo 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OBS importante: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ara que se tenha uma inclusão própria (TODOS os elementos de um conjunto incluso em outro conjunto), com o objetivo de respeitar a hierarquia de Chomsky, deve-se observar a seguinte restrição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convenção da produção nula)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: caso a linguagem livre de contexto contenha a cadeia nula como uma sentença válida, deve-se ter uma produção da cadeia nula separada na raiz da gramática, isto é, esta produção deve ser SEMPRE derivada a partir do símbolo inicial (que é um não terminal):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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efinição na pg.562 [ref 1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Leitura (informal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: [(N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* - T*] x (N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*,  produções mapeiam [qualquer concatenação de terminais e não terminais, excluindo cadeias de terminais sozinhos (sem não-terminais junto)] em [qualquer concatenação de não terminais e terminais (pode inclusive ser não-terminal sozinho ou terminal sozinho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C552-FBD4-4823-83FA-F5893FC6B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3730-4A00-451C-99EC-FDF73DFBA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EFBB-8CB8-498C-92C7-CACE4CA60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4E59-ACDF-46D0-AF09-1BB70E259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8F2BC-4D63-40D9-A85B-FDEADDF2D1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22EA3-0912-470D-904B-8274E36E3D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D333B-A0F0-41EC-A87F-739A50554F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246D8-55CA-44D5-A4FA-84E8406AB9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2B5C8-5CFC-476A-8C85-D38D290538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DC607-1663-43F4-AA90-2158988C45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0F22F-2AC6-404D-B146-CE901EDA2B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9D72-0867-458F-9C53-C989486E8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F65A4-2789-4C37-8566-570BEA632B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4CE5D-CFF4-47D4-8804-98A38CBA9D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E3A2D-64ED-4E47-AFE7-5A9BE6BCA9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0ED5F-B2ED-47BF-8886-DFDD7332A9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EBEDA-4CDA-416D-A99B-7FCF2F93EC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26FD-C627-4F3F-9388-7441EC12E4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C604-D399-427C-916D-2E498007E9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04E8-2998-4617-AA0D-42173ADE12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DA61-DA64-4E46-A2E2-C3B9DEEAD5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896E-1ECB-4749-AB15-B375857234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1C95-F636-4B01-94C7-3D8C0675A6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912E-7170-428D-A60C-C5AA8C055A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A601-8543-4D43-90EA-987B07E642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DE7A-DADB-42E3-A62B-D9F83E0FEE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F9C8-610B-4F35-BEE7-01F1150120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A6F2-6910-4A3B-BF58-4204E853C5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F839-3A97-4BC9-B81B-B9D2CF8338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A312-F235-4F7D-AD3B-E63BCFF7DA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0C40-8546-42E2-B01C-094AC141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1F3DA-EF66-4DC3-8768-9481814E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4FB33-96A3-4F21-BC0C-2FAB39C0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DD513-1E81-4829-920D-4B81939D1B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D78C-076B-4AA7-9FF7-41802FE1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597E-30BA-47A2-B682-FC005A4E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B652-DC36-4D05-8865-892482CC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9910-826B-4598-89A1-E6B731DE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FBA3-82ED-4C5A-90ED-F368A79D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9FC6-580F-4AFB-8A55-8275085D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4472-E2A9-4D13-8073-DDE7197F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1CE3-BB65-457E-92DC-1202EEB2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9DAE-3C5B-4A46-8450-C7F8C77D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57E2-A13C-4F94-93BF-918884C88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4FFA-82B6-43D4-8177-75F7A53F2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7609-BFC5-43D2-8E2C-CFB8CD96E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37246-37D4-48B6-AC37-5836A2B03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4AD1-6BDC-49DD-AC45-0E1E057EE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4680"/>
            <a:ext cx="552960" cy="6857640"/>
            <a:chOff x="0" y="-4680"/>
            <a:chExt cx="552960" cy="6857640"/>
          </a:xfrm>
        </p:grpSpPr>
        <p:grpSp>
          <p:nvGrpSpPr>
            <p:cNvPr id="1" name="Group 3"/>
            <p:cNvGrpSpPr/>
            <p:nvPr/>
          </p:nvGrpSpPr>
          <p:grpSpPr>
            <a:xfrm>
              <a:off x="26640" y="1440"/>
              <a:ext cx="522360" cy="6845040"/>
              <a:chOff x="26640" y="1440"/>
              <a:chExt cx="522360" cy="68450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46800" y="1440"/>
                <a:ext cx="490320" cy="6820200"/>
              </a:xfrm>
              <a:custGeom>
                <a:avLst/>
                <a:gdLst>
                  <a:gd name="textAreaLeft" fmla="*/ 360 w 490320"/>
                  <a:gd name="textAreaRight" fmla="*/ 491040 w 490320"/>
                  <a:gd name="textAreaTop" fmla="*/ 0 h 6820200"/>
                  <a:gd name="textAreaBottom" fmla="*/ 6820560 h 68202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47160" y="1699560"/>
                <a:ext cx="490680" cy="499680"/>
              </a:xfrm>
              <a:custGeom>
                <a:avLst/>
                <a:gdLst>
                  <a:gd name="textAreaLeft" fmla="*/ 0 w 490680"/>
                  <a:gd name="textAreaRight" fmla="*/ 490680 w 49068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47160" y="1285200"/>
                <a:ext cx="490680" cy="501840"/>
              </a:xfrm>
              <a:custGeom>
                <a:avLst/>
                <a:gdLst>
                  <a:gd name="textAreaLeft" fmla="*/ 0 w 490680"/>
                  <a:gd name="textAreaRight" fmla="*/ 490680 w 49068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47160" y="151560"/>
                <a:ext cx="490680" cy="302400"/>
              </a:xfrm>
              <a:custGeom>
                <a:avLst/>
                <a:gdLst>
                  <a:gd name="textAreaLeft" fmla="*/ 0 w 490680"/>
                  <a:gd name="textAreaRight" fmla="*/ 490680 w 490680"/>
                  <a:gd name="textAreaTop" fmla="*/ 0 h 302400"/>
                  <a:gd name="textAreaBottom" fmla="*/ 302760 h 3024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47160" y="994320"/>
                <a:ext cx="490680" cy="347760"/>
              </a:xfrm>
              <a:custGeom>
                <a:avLst/>
                <a:gdLst>
                  <a:gd name="textAreaLeft" fmla="*/ 0 w 490680"/>
                  <a:gd name="textAreaRight" fmla="*/ 490680 w 4906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43200" y="684720"/>
                <a:ext cx="493560" cy="432000"/>
              </a:xfrm>
              <a:custGeom>
                <a:avLst/>
                <a:gdLst>
                  <a:gd name="textAreaLeft" fmla="*/ -360 w 493560"/>
                  <a:gd name="textAreaRight" fmla="*/ 493560 w 49356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47160" y="383040"/>
                <a:ext cx="501480" cy="373680"/>
              </a:xfrm>
              <a:custGeom>
                <a:avLst/>
                <a:gdLst>
                  <a:gd name="textAreaLeft" fmla="*/ -360 w 501480"/>
                  <a:gd name="textAreaRight" fmla="*/ 501480 w 50148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26280" y="3929040"/>
                <a:ext cx="493560" cy="498240"/>
              </a:xfrm>
              <a:custGeom>
                <a:avLst/>
                <a:gdLst>
                  <a:gd name="textAreaLeft" fmla="*/ -360 w 493560"/>
                  <a:gd name="textAreaRight" fmla="*/ 493560 w 49356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040" y="3527640"/>
                <a:ext cx="488880" cy="498600"/>
              </a:xfrm>
              <a:custGeom>
                <a:avLst/>
                <a:gdLst>
                  <a:gd name="textAreaLeft" fmla="*/ 360 w 488880"/>
                  <a:gd name="textAreaRight" fmla="*/ 489600 w 488880"/>
                  <a:gd name="textAreaTop" fmla="*/ 0 h 498600"/>
                  <a:gd name="textAreaBottom" fmla="*/ 498960 h 498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4280" y="2399400"/>
                <a:ext cx="488880" cy="303840"/>
              </a:xfrm>
              <a:custGeom>
                <a:avLst/>
                <a:gdLst>
                  <a:gd name="textAreaLeft" fmla="*/ 360 w 488880"/>
                  <a:gd name="textAreaRight" fmla="*/ 489600 w 488880"/>
                  <a:gd name="textAreaTop" fmla="*/ 0 h 303840"/>
                  <a:gd name="textAreaBottom" fmla="*/ 304200 h 3038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4280" y="3228840"/>
                <a:ext cx="488880" cy="346680"/>
              </a:xfrm>
              <a:custGeom>
                <a:avLst/>
                <a:gdLst>
                  <a:gd name="textAreaLeft" fmla="*/ 360 w 488880"/>
                  <a:gd name="textAreaRight" fmla="*/ 489600 w 488880"/>
                  <a:gd name="textAreaTop" fmla="*/ 0 h 346680"/>
                  <a:gd name="textAreaBottom" fmla="*/ 347040 h 346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4280" y="2931120"/>
                <a:ext cx="488880" cy="427320"/>
              </a:xfrm>
              <a:custGeom>
                <a:avLst/>
                <a:gdLst>
                  <a:gd name="textAreaLeft" fmla="*/ 360 w 488880"/>
                  <a:gd name="textAreaRight" fmla="*/ 489600 w 488880"/>
                  <a:gd name="textAreaTop" fmla="*/ 0 h 427320"/>
                  <a:gd name="textAreaBottom" fmla="*/ 427680 h 4273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560" y="2616840"/>
                <a:ext cx="495360" cy="374760"/>
              </a:xfrm>
              <a:custGeom>
                <a:avLst/>
                <a:gdLst>
                  <a:gd name="textAreaLeft" fmla="*/ 360 w 495360"/>
                  <a:gd name="textAreaRight" fmla="*/ 496080 w 49536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37080" y="4964040"/>
                <a:ext cx="490680" cy="499680"/>
              </a:xfrm>
              <a:custGeom>
                <a:avLst/>
                <a:gdLst>
                  <a:gd name="textAreaLeft" fmla="*/ 0 w 490680"/>
                  <a:gd name="textAreaRight" fmla="*/ 490680 w 49068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38880" y="4553280"/>
                <a:ext cx="490320" cy="502200"/>
              </a:xfrm>
              <a:custGeom>
                <a:avLst/>
                <a:gdLst>
                  <a:gd name="textAreaLeft" fmla="*/ 360 w 490320"/>
                  <a:gd name="textAreaRight" fmla="*/ 491040 w 4903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31680" y="5650200"/>
                <a:ext cx="493560" cy="302400"/>
              </a:xfrm>
              <a:custGeom>
                <a:avLst/>
                <a:gdLst>
                  <a:gd name="textAreaLeft" fmla="*/ -360 w 493560"/>
                  <a:gd name="textAreaRight" fmla="*/ 493560 w 493560"/>
                  <a:gd name="textAreaTop" fmla="*/ 0 h 302400"/>
                  <a:gd name="textAreaBottom" fmla="*/ 302760 h 3024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106560" y="6426000"/>
                <a:ext cx="345240" cy="49536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27720" y="6188040"/>
                <a:ext cx="493560" cy="426960"/>
              </a:xfrm>
              <a:custGeom>
                <a:avLst/>
                <a:gdLst>
                  <a:gd name="textAreaLeft" fmla="*/ -360 w 493560"/>
                  <a:gd name="textAreaRight" fmla="*/ 493560 w 49356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26280" y="5878080"/>
                <a:ext cx="500040" cy="374760"/>
              </a:xfrm>
              <a:custGeom>
                <a:avLst/>
                <a:gdLst>
                  <a:gd name="textAreaLeft" fmla="*/ -360 w 500040"/>
                  <a:gd name="textAreaRight" fmla="*/ 500040 w 5000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251160" y="3258720"/>
              <a:ext cx="6845400" cy="342720"/>
            </a:xfrm>
            <a:custGeom>
              <a:avLst/>
              <a:gdLst>
                <a:gd name="textAreaLeft" fmla="*/ -360 w 6845400"/>
                <a:gd name="textAreaRight" fmla="*/ 6845400 w 68454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945880" y="3340440"/>
              <a:ext cx="6843960" cy="153720"/>
            </a:xfrm>
            <a:custGeom>
              <a:avLst/>
              <a:gdLst>
                <a:gd name="textAreaLeft" fmla="*/ -360 w 6843960"/>
                <a:gd name="textAreaRight" fmla="*/ 6843960 w 6843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829D-7009-4EEA-B658-864EFB15EAE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-720" y="-4680"/>
            <a:ext cx="686520" cy="6858000"/>
            <a:chOff x="-720" y="-4680"/>
            <a:chExt cx="686520" cy="6858000"/>
          </a:xfrm>
        </p:grpSpPr>
        <p:grpSp>
          <p:nvGrpSpPr>
            <p:cNvPr id="64" name="Group 3"/>
            <p:cNvGrpSpPr/>
            <p:nvPr/>
          </p:nvGrpSpPr>
          <p:grpSpPr>
            <a:xfrm>
              <a:off x="28440" y="-4680"/>
              <a:ext cx="650520" cy="6856200"/>
              <a:chOff x="28440" y="-4680"/>
              <a:chExt cx="650520" cy="6856200"/>
            </a:xfrm>
          </p:grpSpPr>
          <p:sp>
            <p:nvSpPr>
              <p:cNvPr id="65" name="Freeform 4"/>
              <p:cNvSpPr/>
              <p:nvPr/>
            </p:nvSpPr>
            <p:spPr>
              <a:xfrm flipH="1">
                <a:off x="49680" y="-4680"/>
                <a:ext cx="618840" cy="6831360"/>
              </a:xfrm>
              <a:custGeom>
                <a:avLst/>
                <a:gdLst>
                  <a:gd name="textAreaLeft" fmla="*/ -360 w 618840"/>
                  <a:gd name="textAreaRight" fmla="*/ 618840 w 618840"/>
                  <a:gd name="textAreaTop" fmla="*/ 0 h 6831360"/>
                  <a:gd name="textAreaBottom" fmla="*/ 6831720 h 683136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 flipH="1">
                <a:off x="46800" y="1697040"/>
                <a:ext cx="621720" cy="500400"/>
              </a:xfrm>
              <a:custGeom>
                <a:avLst/>
                <a:gdLst>
                  <a:gd name="textAreaLeft" fmla="*/ -360 w 621720"/>
                  <a:gd name="textAreaRight" fmla="*/ 621720 w 62172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6"/>
              <p:cNvSpPr/>
              <p:nvPr/>
            </p:nvSpPr>
            <p:spPr>
              <a:xfrm flipH="1">
                <a:off x="49320" y="1285560"/>
                <a:ext cx="619920" cy="503640"/>
              </a:xfrm>
              <a:custGeom>
                <a:avLst/>
                <a:gdLst>
                  <a:gd name="textAreaLeft" fmla="*/ 360 w 619920"/>
                  <a:gd name="textAreaRight" fmla="*/ 620640 w 619920"/>
                  <a:gd name="textAreaTop" fmla="*/ 0 h 503640"/>
                  <a:gd name="textAreaBottom" fmla="*/ 504000 h 5036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 flipH="1">
                <a:off x="49320" y="150120"/>
                <a:ext cx="619920" cy="304200"/>
              </a:xfrm>
              <a:custGeom>
                <a:avLst/>
                <a:gdLst>
                  <a:gd name="textAreaLeft" fmla="*/ 360 w 619920"/>
                  <a:gd name="textAreaRight" fmla="*/ 620640 w 6199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 flipH="1">
                <a:off x="46800" y="990000"/>
                <a:ext cx="621720" cy="348120"/>
              </a:xfrm>
              <a:custGeom>
                <a:avLst/>
                <a:gdLst>
                  <a:gd name="textAreaLeft" fmla="*/ -360 w 621720"/>
                  <a:gd name="textAreaRight" fmla="*/ 621720 w 6217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 flipH="1">
                <a:off x="49320" y="680400"/>
                <a:ext cx="619920" cy="432720"/>
              </a:xfrm>
              <a:custGeom>
                <a:avLst/>
                <a:gdLst>
                  <a:gd name="textAreaLeft" fmla="*/ 360 w 619920"/>
                  <a:gd name="textAreaRight" fmla="*/ 620640 w 6199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 flipH="1">
                <a:off x="48960" y="377640"/>
                <a:ext cx="629640" cy="374400"/>
              </a:xfrm>
              <a:custGeom>
                <a:avLst/>
                <a:gdLst>
                  <a:gd name="textAreaLeft" fmla="*/ -360 w 629640"/>
                  <a:gd name="textAreaRight" fmla="*/ 629640 w 62964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 flipH="1">
                <a:off x="32760" y="3934080"/>
                <a:ext cx="621720" cy="499320"/>
              </a:xfrm>
              <a:custGeom>
                <a:avLst/>
                <a:gdLst>
                  <a:gd name="textAreaLeft" fmla="*/ -360 w 621720"/>
                  <a:gd name="textAreaRight" fmla="*/ 621720 w 6217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 flipH="1">
                <a:off x="41400" y="3531240"/>
                <a:ext cx="618480" cy="50040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 flipH="1">
                <a:off x="41400" y="2398320"/>
                <a:ext cx="622800" cy="304200"/>
              </a:xfrm>
              <a:custGeom>
                <a:avLst/>
                <a:gdLst>
                  <a:gd name="textAreaLeft" fmla="*/ 360 w 622800"/>
                  <a:gd name="textAreaRight" fmla="*/ 623520 w 6228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 flipH="1">
                <a:off x="41400" y="3229200"/>
                <a:ext cx="622800" cy="346680"/>
              </a:xfrm>
              <a:custGeom>
                <a:avLst/>
                <a:gdLst>
                  <a:gd name="textAreaLeft" fmla="*/ 360 w 622800"/>
                  <a:gd name="textAreaRight" fmla="*/ 623520 w 622800"/>
                  <a:gd name="textAreaTop" fmla="*/ 0 h 346680"/>
                  <a:gd name="textAreaBottom" fmla="*/ 347040 h 346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 flipH="1">
                <a:off x="41400" y="2931120"/>
                <a:ext cx="622800" cy="427680"/>
              </a:xfrm>
              <a:custGeom>
                <a:avLst/>
                <a:gdLst>
                  <a:gd name="textAreaLeft" fmla="*/ 360 w 622800"/>
                  <a:gd name="textAreaRight" fmla="*/ 623520 w 6228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 flipH="1">
                <a:off x="41040" y="2617560"/>
                <a:ext cx="629640" cy="375480"/>
              </a:xfrm>
              <a:custGeom>
                <a:avLst/>
                <a:gdLst>
                  <a:gd name="textAreaLeft" fmla="*/ -360 w 629640"/>
                  <a:gd name="textAreaRight" fmla="*/ 629640 w 6296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 flipH="1">
                <a:off x="38520" y="4967280"/>
                <a:ext cx="619920" cy="500400"/>
              </a:xfrm>
              <a:custGeom>
                <a:avLst/>
                <a:gdLst>
                  <a:gd name="textAreaLeft" fmla="*/ 360 w 619920"/>
                  <a:gd name="textAreaRight" fmla="*/ 620640 w 61992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 flipH="1">
                <a:off x="41400" y="4553640"/>
                <a:ext cx="618480" cy="50256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502560"/>
                  <a:gd name="textAreaBottom" fmla="*/ 502920 h 502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 flipH="1">
                <a:off x="29520" y="5659200"/>
                <a:ext cx="622800" cy="303120"/>
              </a:xfrm>
              <a:custGeom>
                <a:avLst/>
                <a:gdLst>
                  <a:gd name="textAreaLeft" fmla="*/ 360 w 622800"/>
                  <a:gd name="textAreaRight" fmla="*/ 623520 w 6228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 flipH="1" rot="16200000">
                <a:off x="172440" y="6366240"/>
                <a:ext cx="345600" cy="624600"/>
              </a:xfrm>
              <a:custGeom>
                <a:avLst/>
                <a:gdLst>
                  <a:gd name="textAreaLeft" fmla="*/ 360 w 345600"/>
                  <a:gd name="textAreaRight" fmla="*/ 346320 w 345600"/>
                  <a:gd name="textAreaTop" fmla="*/ 0 h 624600"/>
                  <a:gd name="textAreaBottom" fmla="*/ 624960 h 6246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 flipH="1">
                <a:off x="28440" y="6192000"/>
                <a:ext cx="622800" cy="427680"/>
              </a:xfrm>
              <a:custGeom>
                <a:avLst/>
                <a:gdLst>
                  <a:gd name="textAreaLeft" fmla="*/ 360 w 622800"/>
                  <a:gd name="textAreaRight" fmla="*/ 623520 w 6228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 flipH="1">
                <a:off x="29520" y="5882760"/>
                <a:ext cx="629640" cy="375840"/>
              </a:xfrm>
              <a:custGeom>
                <a:avLst/>
                <a:gdLst>
                  <a:gd name="textAreaLeft" fmla="*/ -360 w 629640"/>
                  <a:gd name="textAreaRight" fmla="*/ 629640 w 6296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Freeform 23"/>
            <p:cNvSpPr/>
            <p:nvPr/>
          </p:nvSpPr>
          <p:spPr>
            <a:xfrm flipH="1" rot="16200000">
              <a:off x="-3218040" y="3213720"/>
              <a:ext cx="6856560" cy="422280"/>
            </a:xfrm>
            <a:custGeom>
              <a:avLst/>
              <a:gdLst>
                <a:gd name="textAreaLeft" fmla="*/ 360 w 6856560"/>
                <a:gd name="textAreaRight" fmla="*/ 6857280 w 685656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 flipH="1" rot="16200000">
              <a:off x="-2837880" y="3326040"/>
              <a:ext cx="6854760" cy="192960"/>
            </a:xfrm>
            <a:custGeom>
              <a:avLst/>
              <a:gdLst>
                <a:gd name="textAreaLeft" fmla="*/ -360 w 6854760"/>
                <a:gd name="textAreaRight" fmla="*/ 6854760 w 685476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4"/>
          </p:nvPr>
        </p:nvSpPr>
        <p:spPr>
          <a:xfrm>
            <a:off x="795636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B3BE-B3A3-4310-881A-93211F0B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27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128" name="Freeform 4"/>
              <p:cNvSpPr/>
              <p:nvPr/>
            </p:nvSpPr>
            <p:spPr>
              <a:xfrm flipH="1" rot="5400000">
                <a:off x="4092840" y="-1574640"/>
                <a:ext cx="987480" cy="911376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9113760"/>
                  <a:gd name="textAreaBottom" fmla="*/ 9114120 h 911376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5"/>
              <p:cNvSpPr/>
              <p:nvPr/>
            </p:nvSpPr>
            <p:spPr>
              <a:xfrm flipH="1" rot="5400000">
                <a:off x="6054120" y="2648160"/>
                <a:ext cx="987480" cy="6674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7440"/>
                  <a:gd name="textAreaBottom" fmla="*/ 667800 h 6674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6"/>
              <p:cNvSpPr/>
              <p:nvPr/>
            </p:nvSpPr>
            <p:spPr>
              <a:xfrm flipH="1" rot="5400000">
                <a:off x="6587640" y="2647440"/>
                <a:ext cx="987480" cy="6692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 flipH="1" rot="5400000">
                <a:off x="8243280" y="2782800"/>
                <a:ext cx="987480" cy="4046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 flipH="1" rot="5400000">
                <a:off x="7092000" y="2748960"/>
                <a:ext cx="987480" cy="4662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 flipH="1" rot="5400000">
                <a:off x="7444440" y="2694960"/>
                <a:ext cx="987480" cy="5738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73840"/>
                  <a:gd name="textAreaBottom" fmla="*/ 574200 h 5738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 flipH="1" rot="5400000">
                <a:off x="7892640" y="2742120"/>
                <a:ext cx="1000080" cy="49968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1"/>
              <p:cNvSpPr/>
              <p:nvPr/>
            </p:nvSpPr>
            <p:spPr>
              <a:xfrm flipH="1" rot="5400000">
                <a:off x="3058560" y="2642040"/>
                <a:ext cx="987120" cy="66780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 flipH="1" rot="5400000">
                <a:off x="3592440" y="2639520"/>
                <a:ext cx="987480" cy="6692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3"/>
              <p:cNvSpPr/>
              <p:nvPr/>
            </p:nvSpPr>
            <p:spPr>
              <a:xfrm flipH="1" rot="5400000">
                <a:off x="5249160" y="2775240"/>
                <a:ext cx="987480" cy="4042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 flipH="1" rot="5400000">
                <a:off x="4098600" y="2741040"/>
                <a:ext cx="987480" cy="4662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5"/>
              <p:cNvSpPr/>
              <p:nvPr/>
            </p:nvSpPr>
            <p:spPr>
              <a:xfrm flipH="1" rot="5400000">
                <a:off x="4456800" y="2689920"/>
                <a:ext cx="987120" cy="57240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6"/>
              <p:cNvSpPr/>
              <p:nvPr/>
            </p:nvSpPr>
            <p:spPr>
              <a:xfrm flipH="1" rot="5400000">
                <a:off x="4892040" y="2730240"/>
                <a:ext cx="1000080" cy="50112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7"/>
              <p:cNvSpPr/>
              <p:nvPr/>
            </p:nvSpPr>
            <p:spPr>
              <a:xfrm flipH="1" rot="5400000">
                <a:off x="1684800" y="2648160"/>
                <a:ext cx="987480" cy="6678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8"/>
              <p:cNvSpPr/>
              <p:nvPr/>
            </p:nvSpPr>
            <p:spPr>
              <a:xfrm flipH="1" rot="5400000">
                <a:off x="2218680" y="2647440"/>
                <a:ext cx="987480" cy="6692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 flipH="1" rot="5400000">
                <a:off x="880560" y="2775240"/>
                <a:ext cx="987480" cy="4042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20"/>
              <p:cNvSpPr/>
              <p:nvPr/>
            </p:nvSpPr>
            <p:spPr>
              <a:xfrm flipH="1">
                <a:off x="-3240" y="2479680"/>
                <a:ext cx="461520" cy="98892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88920"/>
                  <a:gd name="textAreaBottom" fmla="*/ 989280 h 9889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1"/>
              <p:cNvSpPr/>
              <p:nvPr/>
            </p:nvSpPr>
            <p:spPr>
              <a:xfrm flipH="1" rot="5400000">
                <a:off x="87480" y="2689920"/>
                <a:ext cx="987120" cy="57240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2"/>
              <p:cNvSpPr/>
              <p:nvPr/>
            </p:nvSpPr>
            <p:spPr>
              <a:xfrm flipH="1" rot="5400000">
                <a:off x="522360" y="2729880"/>
                <a:ext cx="1000080" cy="50148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5"/>
          </p:nvPr>
        </p:nvSpPr>
        <p:spPr>
          <a:xfrm>
            <a:off x="2028960" y="6248520"/>
            <a:ext cx="549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6"/>
          </p:nvPr>
        </p:nvSpPr>
        <p:spPr>
          <a:xfrm>
            <a:off x="7954920" y="624852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F3C4-BA89-4741-9815-479E256E31E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90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191" name="Freeform 4"/>
              <p:cNvSpPr/>
              <p:nvPr/>
            </p:nvSpPr>
            <p:spPr>
              <a:xfrm flipH="1" rot="5400000">
                <a:off x="4092840" y="-1574640"/>
                <a:ext cx="987480" cy="911376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9113760"/>
                  <a:gd name="textAreaBottom" fmla="*/ 9114120 h 911376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5"/>
              <p:cNvSpPr/>
              <p:nvPr/>
            </p:nvSpPr>
            <p:spPr>
              <a:xfrm flipH="1" rot="5400000">
                <a:off x="6054120" y="2648160"/>
                <a:ext cx="987480" cy="6674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7440"/>
                  <a:gd name="textAreaBottom" fmla="*/ 667800 h 6674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6"/>
              <p:cNvSpPr/>
              <p:nvPr/>
            </p:nvSpPr>
            <p:spPr>
              <a:xfrm flipH="1" rot="5400000">
                <a:off x="6587640" y="2647440"/>
                <a:ext cx="987480" cy="6692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7"/>
              <p:cNvSpPr/>
              <p:nvPr/>
            </p:nvSpPr>
            <p:spPr>
              <a:xfrm flipH="1" rot="5400000">
                <a:off x="8243280" y="2782800"/>
                <a:ext cx="987480" cy="4046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8"/>
              <p:cNvSpPr/>
              <p:nvPr/>
            </p:nvSpPr>
            <p:spPr>
              <a:xfrm flipH="1" rot="5400000">
                <a:off x="7092000" y="2748960"/>
                <a:ext cx="987480" cy="4662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9"/>
              <p:cNvSpPr/>
              <p:nvPr/>
            </p:nvSpPr>
            <p:spPr>
              <a:xfrm flipH="1" rot="5400000">
                <a:off x="7444440" y="2694960"/>
                <a:ext cx="987480" cy="5738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73840"/>
                  <a:gd name="textAreaBottom" fmla="*/ 574200 h 5738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 flipH="1" rot="5400000">
                <a:off x="7892640" y="2742120"/>
                <a:ext cx="1000080" cy="49968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 flipH="1" rot="5400000">
                <a:off x="3058560" y="2642040"/>
                <a:ext cx="987120" cy="66780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 flipH="1" rot="5400000">
                <a:off x="3592440" y="2639520"/>
                <a:ext cx="987480" cy="6692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 flipH="1" rot="5400000">
                <a:off x="5249160" y="2775240"/>
                <a:ext cx="987480" cy="4042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4"/>
              <p:cNvSpPr/>
              <p:nvPr/>
            </p:nvSpPr>
            <p:spPr>
              <a:xfrm flipH="1" rot="5400000">
                <a:off x="4098600" y="2741040"/>
                <a:ext cx="987480" cy="4662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5"/>
              <p:cNvSpPr/>
              <p:nvPr/>
            </p:nvSpPr>
            <p:spPr>
              <a:xfrm flipH="1" rot="5400000">
                <a:off x="4456800" y="2689920"/>
                <a:ext cx="987120" cy="57240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6"/>
              <p:cNvSpPr/>
              <p:nvPr/>
            </p:nvSpPr>
            <p:spPr>
              <a:xfrm flipH="1" rot="5400000">
                <a:off x="4892040" y="2730240"/>
                <a:ext cx="1000080" cy="50112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7"/>
              <p:cNvSpPr/>
              <p:nvPr/>
            </p:nvSpPr>
            <p:spPr>
              <a:xfrm flipH="1" rot="5400000">
                <a:off x="1684800" y="2648160"/>
                <a:ext cx="987480" cy="6678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8"/>
              <p:cNvSpPr/>
              <p:nvPr/>
            </p:nvSpPr>
            <p:spPr>
              <a:xfrm flipH="1" rot="5400000">
                <a:off x="2218680" y="2647440"/>
                <a:ext cx="987480" cy="6692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9"/>
              <p:cNvSpPr/>
              <p:nvPr/>
            </p:nvSpPr>
            <p:spPr>
              <a:xfrm flipH="1" rot="5400000">
                <a:off x="880560" y="2775240"/>
                <a:ext cx="987480" cy="4042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20"/>
              <p:cNvSpPr/>
              <p:nvPr/>
            </p:nvSpPr>
            <p:spPr>
              <a:xfrm flipH="1">
                <a:off x="-3240" y="2479680"/>
                <a:ext cx="461520" cy="98892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88920"/>
                  <a:gd name="textAreaBottom" fmla="*/ 989280 h 9889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21"/>
              <p:cNvSpPr/>
              <p:nvPr/>
            </p:nvSpPr>
            <p:spPr>
              <a:xfrm flipH="1" rot="5400000">
                <a:off x="87480" y="2689920"/>
                <a:ext cx="987120" cy="57240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22"/>
              <p:cNvSpPr/>
              <p:nvPr/>
            </p:nvSpPr>
            <p:spPr>
              <a:xfrm flipH="1" rot="5400000">
                <a:off x="522360" y="2729880"/>
                <a:ext cx="1000080" cy="50148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659B-CDEA-410C-98D9-2A01059EF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os@comp.ita.br" TargetMode="External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142200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T200</a:t>
            </a:r>
            <a:br>
              <a:rPr sz="3600"/>
            </a:b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damentos de Automata e Linguagens Formais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. Carlos H. C. Ribeiro   </a:t>
            </a: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carlos@comp.ita.br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Ramal: 5895   Sala: 106</a:t>
            </a:r>
            <a:br>
              <a:rPr sz="54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268360" y="3860640"/>
            <a:ext cx="5183280" cy="17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UL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amáticas e linguag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Hierarquia de Chom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FDs e gramáticas reg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ço Reservado para Rodapé 2"/>
          <p:cNvSpPr/>
          <p:nvPr/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Espaço Reservado para Número de Slide 3"/>
          <p:cNvSpPr/>
          <p:nvPr/>
        </p:nvSpPr>
        <p:spPr>
          <a:xfrm>
            <a:off x="795672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B695-1652-45E6-9A4E-745A977C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349440" y="131400"/>
            <a:ext cx="557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920880" y="10332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115920" y="1109520"/>
            <a:ext cx="9028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7E5C-EEA3-4E16-A255-FDF0203FA8B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2640" y="225000"/>
            <a:ext cx="708660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Derivaçõ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37920" y="109224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ja a gramática G = (V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, S). S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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é uma produção 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*, dizemos qu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tamente deriváv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escrevemos: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* par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e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+1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é diretamente derivável d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=1,..,n-1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zemos qu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é derivável d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escrevemos: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ação d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or convenção, qualquer elemento de (V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* é derivável de si mesmo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7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linguagem L(G) gerada por 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siste de todas as cadeias sobr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rivadas de 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30"/>
          <p:cNvSpPr/>
          <p:nvPr/>
        </p:nvSpPr>
        <p:spPr>
          <a:xfrm>
            <a:off x="5154480" y="33148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031"/>
          <p:cNvSpPr/>
          <p:nvPr/>
        </p:nvSpPr>
        <p:spPr>
          <a:xfrm>
            <a:off x="3130560" y="287964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32"/>
          <p:cNvSpPr/>
          <p:nvPr/>
        </p:nvSpPr>
        <p:spPr>
          <a:xfrm>
            <a:off x="838080" y="5589720"/>
            <a:ext cx="75009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gramáticas G e G’ são equivalentes se L(G) = L(G’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8499-1E53-42AB-B359-01D91CC7739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679320"/>
            <a:ext cx="7086600" cy="4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rivações: Exemplos, Formas Sentenciais e Sentenç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84240" y="1523880"/>
            <a:ext cx="7321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ja a gramática 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, com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{S, A}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{a,b}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{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, 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,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,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 cadeia abAbb é diretamente derivável de aAbb, escrita como aAb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Abb, usando a produção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A cadeia bbab é derivável de S, escrita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ab. A derivação é: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a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ja a gramática 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. Diz-se q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* é um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ma senten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G se existir derivação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a cade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é um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ntenç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G se existir uma derivação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 sentencial: qualquer cadeia (incluindo símbolos não-terminais) deriváveis a partir do símbolo inicial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ça: forma sentenci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enas com símbolos termin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543640" y="266544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6545160" y="383076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2658960" y="43704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ço Reservado para Rodapé 2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Espaço Reservado para Número de Slide 3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9F88-C8F1-489D-A3B6-76775953DAB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49440" y="131400"/>
            <a:ext cx="557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920880" y="10332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"/>
          <p:cNvPicPr/>
          <p:nvPr/>
        </p:nvPicPr>
        <p:blipFill>
          <a:blip r:embed="rId2"/>
          <a:stretch/>
        </p:blipFill>
        <p:spPr>
          <a:xfrm>
            <a:off x="536400" y="1738440"/>
            <a:ext cx="8498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54B4-7FDE-46E0-A08D-A64F10F8EA3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28240" y="223560"/>
            <a:ext cx="708660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orma Backus-Nau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6800" y="1066680"/>
            <a:ext cx="80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NF (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us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m”): modo alternativo de descrever gramátic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mbolos não terminais: inclusos em &lt;..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ção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escrita: A::=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ções da forma: A::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::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A::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m ser combinadas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: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…|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lê-se “ou” para “|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ática para inteiros - um inteiro é definido como uma cadeia contendo um sinal opcional (+ ou -), seguido por uma cadeia de dígitos (0 a 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ímbolo inici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inteir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gito&gt;::= 0 |1| 2 | 3 | 4 | 5 | 6 | 7 | 8 |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teiro&gt;::= &lt;inteiro com sinal&gt; | &lt;inteiro sem sin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teiro com sinal&gt;::=   + &lt; inteiro sem sinal&gt; | -  &lt;inteiro sem sin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teiro sem sinal&gt;::=   &lt;digito&gt; |  &lt;digito&gt; &lt;inteiro sem sin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EA5A-645B-4298-850F-D45424E1138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2640" y="587520"/>
            <a:ext cx="708660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NF: Exempl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ção do inteiro -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inteiro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inteiro com sina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&lt;inteiro sem sina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&lt;digito&gt; &lt;inteiro sem sina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&lt;digito&gt; &lt;digito&gt; &lt;inteiro sem sina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&lt;digito&gt; &lt;digito&gt; &lt;digi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9 &lt;digito&gt; &lt;digi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90 &lt;digi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9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11DB-18FB-4327-B549-CAEDBDE0A23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4960" y="1612440"/>
            <a:ext cx="825660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orme as restrições impostas ao formato das produções de uma gramática, varia-se a classe de linguagens que tal gramática g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m 4 classes de gramáticas, capazes de gerar 4 classes correspondentes de linguagens, de acordo com a denominad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erarquia de Choms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estabelece uma relação de inclusão entre as gramát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173240" y="448920"/>
            <a:ext cx="777240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 Hierarquia de Chomsk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7" name="Picture 4" descr="chomsky"/>
          <p:cNvPicPr/>
          <p:nvPr/>
        </p:nvPicPr>
        <p:blipFill>
          <a:blip r:embed="rId1"/>
          <a:stretch/>
        </p:blipFill>
        <p:spPr>
          <a:xfrm>
            <a:off x="1120680" y="3679920"/>
            <a:ext cx="1379520" cy="1854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057320" y="5627520"/>
            <a:ext cx="28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Times New Roman"/>
              </a:rPr>
              <a:t>Noam Chom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8"/>
          <p:cNvSpPr/>
          <p:nvPr/>
        </p:nvSpPr>
        <p:spPr>
          <a:xfrm>
            <a:off x="2751120" y="3670200"/>
            <a:ext cx="3521160" cy="2400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9"/>
          <p:cNvSpPr/>
          <p:nvPr/>
        </p:nvSpPr>
        <p:spPr>
          <a:xfrm>
            <a:off x="3065400" y="3997440"/>
            <a:ext cx="2892600" cy="1963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10"/>
          <p:cNvSpPr/>
          <p:nvPr/>
        </p:nvSpPr>
        <p:spPr>
          <a:xfrm>
            <a:off x="3379680" y="4324320"/>
            <a:ext cx="2264040" cy="147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11"/>
          <p:cNvSpPr/>
          <p:nvPr/>
        </p:nvSpPr>
        <p:spPr>
          <a:xfrm>
            <a:off x="3693960" y="4707000"/>
            <a:ext cx="1635120" cy="981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4137120" y="501012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4165560" y="438156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4164120" y="39736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4137120" y="36640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4951440" y="383364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4951440" y="42148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5014800" y="4597560"/>
            <a:ext cx="1508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>
            <a:off x="5014800" y="5197320"/>
            <a:ext cx="182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332760" y="359244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,G: irrestr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6288840" y="399240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,G: sensíveis ao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6594120" y="4427640"/>
            <a:ext cx="25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,G: livres de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6835680" y="50576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,G: 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BACC-EC26-4C24-8780-DB93EDCA607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191960"/>
            <a:ext cx="8207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ção (inclui itens a,b,c e d)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ja G uma gramática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a cadeia n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Se toda produção estiver na forma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o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 o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,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 é u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ática reg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 gramática, pode-se substituir um símbolo não terminal por: (i) um símbolo terminal, (ii) um símbolo terminal seguido por um não terminal ou (iii) pela cadeia n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,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{a,b}, V={S, X}, P={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,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 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X, 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}  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ções possíveis: ab, abb, bbbabb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(G)={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,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}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 é uma gramática regular, portanto, a linguagem L(G) que ela gera é uma linguagem regul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50960" y="274320"/>
            <a:ext cx="777240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Regular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Espaço Reservado para Rodapé 2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Espaço Reservado para Número de Slide 3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EB53-07BF-4F27-9D52-C89C956F8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49440" y="131400"/>
            <a:ext cx="557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920880" y="10332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2"/>
          <a:stretch/>
        </p:blipFill>
        <p:spPr>
          <a:xfrm>
            <a:off x="493560" y="1625760"/>
            <a:ext cx="859500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3206-B4BA-4DB5-9232-7C2C3FCE21F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34680" y="331920"/>
            <a:ext cx="800100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Regulares e Automata Finit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91640" y="1103040"/>
            <a:ext cx="7923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 seção mostraremos que gramáticas regulares e automata finitos são essencialmente equivalentes, no sentido em que ambos são especificações de uma linguagem reg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amática 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rado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lingu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utômato 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heced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linguagem (já vim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ja o autômato finito abaixo, o qual aceita cadeias sobre {a,b} que contêm um número ímpar de 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determinar a gramática  regular equival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279680" y="405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3135240" y="436392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821040" y="4440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AutoShape 7"/>
          <p:cNvCxnSpPr>
            <a:stCxn id="369" idx="0"/>
            <a:endCxn id="369" idx="7"/>
          </p:cNvCxnSpPr>
          <p:nvPr/>
        </p:nvCxnSpPr>
        <p:spPr>
          <a:xfrm flipH="1" rot="16200000">
            <a:off x="3612240" y="4267800"/>
            <a:ext cx="78480" cy="270360"/>
          </a:xfrm>
          <a:prstGeom prst="curvedConnector5">
            <a:avLst>
              <a:gd name="adj1" fmla="val -646543"/>
              <a:gd name="adj2" fmla="val 50000"/>
              <a:gd name="adj3" fmla="val -6465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Text Box 8"/>
          <p:cNvSpPr/>
          <p:nvPr/>
        </p:nvSpPr>
        <p:spPr>
          <a:xfrm>
            <a:off x="3724560" y="38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4279680" y="405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3287880" y="43783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5268960" y="436392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5426640" y="4403880"/>
            <a:ext cx="3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5116680" y="4211640"/>
            <a:ext cx="10666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4"/>
          <p:cNvSpPr/>
          <p:nvPr/>
        </p:nvSpPr>
        <p:spPr>
          <a:xfrm flipH="1">
            <a:off x="3821040" y="4821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AutoShape 15"/>
          <p:cNvCxnSpPr/>
          <p:nvPr/>
        </p:nvCxnSpPr>
        <p:spPr>
          <a:xfrm flipH="1" rot="16200000">
            <a:off x="5760360" y="4113720"/>
            <a:ext cx="78480" cy="270720"/>
          </a:xfrm>
          <a:prstGeom prst="curvedConnector5">
            <a:avLst>
              <a:gd name="adj1" fmla="val -646543"/>
              <a:gd name="adj2" fmla="val 49933"/>
              <a:gd name="adj3" fmla="val -6465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Text Box 16"/>
          <p:cNvSpPr/>
          <p:nvPr/>
        </p:nvSpPr>
        <p:spPr>
          <a:xfrm>
            <a:off x="5423040" y="367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4279680" y="4668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"/>
          <p:cNvSpPr/>
          <p:nvPr/>
        </p:nvSpPr>
        <p:spPr>
          <a:xfrm flipH="1" flipV="1">
            <a:off x="2975040" y="4397400"/>
            <a:ext cx="1461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9"/>
          <p:cNvSpPr/>
          <p:nvPr/>
        </p:nvSpPr>
        <p:spPr>
          <a:xfrm flipH="1">
            <a:off x="2975040" y="4630680"/>
            <a:ext cx="1461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ço Reservado para Rodapé 2"/>
          <p:cNvSpPr/>
          <p:nvPr/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Espaço Reservado para Número de Slide 3"/>
          <p:cNvSpPr/>
          <p:nvPr/>
        </p:nvSpPr>
        <p:spPr>
          <a:xfrm>
            <a:off x="795672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CF2C-272E-48AC-916C-DC45039C5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93800" y="290160"/>
            <a:ext cx="6377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 Livres de Contex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14240" y="32076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658800" y="1071720"/>
            <a:ext cx="8086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F366-E76C-4792-A0A1-7322693AD95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36120" y="406080"/>
            <a:ext cx="8001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Regulares a partir de AF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em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Chomsky e Miller, 195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m AF de estado inicial S. Sej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conjunto dos símbolos de entrada e V o conjunto de estados de M. Defina produções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 se existir um arco rotula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A para A’ e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A for um estado de aceitação. Então a gramática regular G=(V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,S) é tal que L(G)=L(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o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      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s símbolos de entrada {a,b} do AF são os símbolos terminais de G. Os estados 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ão os símbolos não-terminais. O estado inicial 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é o símbolo inicial. Os arcos do AF correspondem às produções de G. Se existir um arco rotulado p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A para A’, escreve-se a produção: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os então: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ém disso, se A for estado de aceitação, inclui-se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exemplo: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m, a gramática G=(V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,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com V={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{a,b} e P={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gera a linguagem L(G), que corresponde ao conjunto de cadeias aceitas pelo autômato fin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398600" y="3556080"/>
            <a:ext cx="264960" cy="137880"/>
          </a:xfrm>
          <a:custGeom>
            <a:avLst/>
            <a:gdLst>
              <a:gd name="textAreaLeft" fmla="*/ 41400 w 264960"/>
              <a:gd name="textAreaRight" fmla="*/ 231840 w 264960"/>
              <a:gd name="textAreaTop" fmla="*/ 34560 h 137880"/>
              <a:gd name="textAreaBottom" fmla="*/ 103680 h 137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Espaço Reservado para Rodapé 2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Espaço Reservado para Número de Slide 3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684A-478E-4FC2-A135-0A1A67D5401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349440" y="131400"/>
            <a:ext cx="557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920880" y="10332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1015920" y="768240"/>
            <a:ext cx="763128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Espaço Reservado para Rodapé 2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Espaço Reservado para Número de Slide 3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1972-B94B-45DF-AAB1-28E1A97DE8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66800" y="131400"/>
            <a:ext cx="6360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Autômatos Finitos -&gt;Gramáticas Regula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920880" y="10332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130320" y="1233360"/>
            <a:ext cx="89992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Espaço Reservado para Rodapé 2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Espaço Reservado para Número de Slide 3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44FB-272F-4C9A-A46D-E599046A1D8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81200" y="131400"/>
            <a:ext cx="6346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Gramáticas Regulares -&gt; Autômatos Fini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920880" y="10332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2"/>
          <a:stretch/>
        </p:blipFill>
        <p:spPr>
          <a:xfrm>
            <a:off x="171360" y="952560"/>
            <a:ext cx="89442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Espaço Reservado para Rodapé 2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Espaço Reservado para Número de Slide 3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87D6-D545-4731-910C-75EDC07305F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49440" y="131400"/>
            <a:ext cx="557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920880" y="10332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2"/>
          <a:stretch/>
        </p:blipFill>
        <p:spPr>
          <a:xfrm>
            <a:off x="1001880" y="789120"/>
            <a:ext cx="768636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303F-67B1-40D1-AA74-680862F9FDE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80010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Fs a Partir de Gramáticas Regular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26684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em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Chomsky e Miller, 1958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ja G = (V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,S) uma gramática regular. Seja  I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 = V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F}, onde 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(X,x) = {X’ | 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’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F |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}, A = {F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X | 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}. O autômato finito não-determinístic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X, I, f, S, A) aceita precisamente as cadeias de L(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ja a gramática regular G=(V,T,P,S), com V={S, C}, T={a,b}, P={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,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,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,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}. Determinar o AF correspon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     AF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s símbolos não terminais serão os estados. Para cada produção da forma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, desenhar uma ligação de A a A’, com rótul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oduções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,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,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). A produção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equivale a: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, 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o F um símbolo não-terminal adicional. A produção 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 que F é um estado de aceit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4"/>
          <p:cNvSpPr/>
          <p:nvPr/>
        </p:nvSpPr>
        <p:spPr>
          <a:xfrm>
            <a:off x="1509840" y="4176720"/>
            <a:ext cx="293400" cy="152280"/>
          </a:xfrm>
          <a:custGeom>
            <a:avLst/>
            <a:gdLst>
              <a:gd name="textAreaLeft" fmla="*/ 45720 w 293400"/>
              <a:gd name="textAreaRight" fmla="*/ 257040 w 293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B1AC-C830-4584-891E-604EAC81ADD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639360"/>
            <a:ext cx="76197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quivalência AFs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Gramática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mos então que, se A é um autômato finito, existe uma gramática regular G, com L(G)=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Vimos também que, se G é uma gramática regular, existe um autômato finito não-determinístic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 L(G)=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já vimos (aula 2) que existe um AFD equivalente a qualquer AFN, concluímos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 G é gramática regular, existe um autômato finito determinístico M, com L(G)=L(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298B-9C96-41DE-8FFB-36EF361A066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09280" y="267840"/>
            <a:ext cx="708660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Livres de Contex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58520" y="1164960"/>
            <a:ext cx="797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Se toda produção estiver na forma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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, G é u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ática livre de contex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 gramática, pode-se substituir A (um não terminal isolado) p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empre que se queira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ependentemente do contex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 que A esteja inserid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gramática 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,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{a,b}, V={S}, P={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b,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}  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re de contex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ções possíveis: ab, aabb, aaabbb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(G)={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,2,…}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 é uma linguagem livre de contexto e não é uma linguagem regul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guagens livres de contexto permitem, além das operações permitidas para uma linguagem regular,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erações de aninhament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261B-4700-4CC4-BC3D-94393332718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742680" y="1374840"/>
            <a:ext cx="80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Se toda produção estiver na forma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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 -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G é u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ática sensível ao contex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 gramática, pode-se substituir A p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e A estiv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ntro do contex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gramática do tipo 1,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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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, exceto para a produção 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 S sendo o símbolo in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: A gramática 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,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{a,b,c}, V={S,A,B,C,D,E}, P={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B,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C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,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, 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 C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, C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, D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, C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c} 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ível ao contex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ex.: CE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diz que C pode ser substituído por 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 for seguido por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ções possíveis: abc, aabbcc, aaabbbccc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(G)={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,2,…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ão existe uma gramática livre de contexto G com L=L(G); assim, L não é uma linguagem livre de contex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723960" y="463680"/>
            <a:ext cx="777240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Sensíveis ao Contex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8FFD-3DF6-40DF-8F56-7278245EA40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2640" y="587520"/>
            <a:ext cx="708660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Irrestrit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Se toda produção de G estiver na forma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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(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*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]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*, G é u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ática irrestri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a gramática, nenhuma limitação é impos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1123920" y="3825720"/>
            <a:ext cx="76932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gramática 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,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{a,b}, V={S,B,C}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{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, B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,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} 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restrita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(G)={ab, ba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rodução B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 só é permitida em gramáticas irrestri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ço Reservado para Rodapé 2"/>
          <p:cNvSpPr/>
          <p:nvPr/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ço Reservado para Número de Slide 3"/>
          <p:cNvSpPr/>
          <p:nvPr/>
        </p:nvSpPr>
        <p:spPr>
          <a:xfrm>
            <a:off x="795672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91F8-85AB-4964-A0C2-EDF257510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08400" y="188640"/>
            <a:ext cx="673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 Livres de Contex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735120" y="10152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774720" y="868320"/>
            <a:ext cx="80010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C94F-2B16-4D2A-855F-7BDBDA2743D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780840" y="1676520"/>
            <a:ext cx="803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linguagem L é sensível ao contexto (respectivamente livre de contexto, regular) se existe uma gramática sensível ao contexto G (respectivamente livre de contexto, regular) com L=L(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s: Uma convenção para a produção nul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uma gramática permitir produção da cadeia nula, ela deverá ser da forma 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nde S é o símbolo inicial e não pertence ao lado direito de qualquer produção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 a cadeia nula. Assim, pode-se tratar esta produção como um caso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 sempre possível transformar uma gramática G em uma gramática equivalente G’ que satisfaz a convenção ac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781200" y="448920"/>
            <a:ext cx="777240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inguagens e Gramátic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1CC2-37F0-43BD-A1D0-422E0E488EB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1052640" y="1439640"/>
            <a:ext cx="7175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gramática regular é uma gramática livre de contex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gramática livre de contexto, sem produções do tip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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é uma gramática sensível ao contex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gramática sensível ao contexto é uma gramática irrestr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Espaço Reservado para Rodapé 3"/>
          <p:cNvSpPr/>
          <p:nvPr/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Espaço Reservado para Número de Slide 4"/>
          <p:cNvSpPr/>
          <p:nvPr/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B417-7CDD-488C-8E4D-1F30606E5EB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2562120" y="2017800"/>
            <a:ext cx="40197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ço Reservado para Rodapé 2"/>
          <p:cNvSpPr/>
          <p:nvPr/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Espaço Reservado para Número de Slide 3"/>
          <p:cNvSpPr/>
          <p:nvPr/>
        </p:nvSpPr>
        <p:spPr>
          <a:xfrm>
            <a:off x="795672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45EB-D769-4A52-A692-EFADC305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55840" y="160200"/>
            <a:ext cx="6129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 Livres de Contex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677880" y="17604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2"/>
          <a:stretch/>
        </p:blipFill>
        <p:spPr>
          <a:xfrm>
            <a:off x="1876320" y="774720"/>
            <a:ext cx="662148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ço Reservado para Rodapé 2"/>
          <p:cNvSpPr/>
          <p:nvPr/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Espaço Reservado para Número de Slide 3"/>
          <p:cNvSpPr/>
          <p:nvPr/>
        </p:nvSpPr>
        <p:spPr>
          <a:xfrm>
            <a:off x="795672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65F1-5C33-4491-850A-0804A81AB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09760" y="145800"/>
            <a:ext cx="624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 Livres de Contex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635040" y="14616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2"/>
          <a:stretch/>
        </p:blipFill>
        <p:spPr>
          <a:xfrm>
            <a:off x="960480" y="763560"/>
            <a:ext cx="75438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ço Reservado para Rodapé 2"/>
          <p:cNvSpPr/>
          <p:nvPr/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Espaço Reservado para Número de Slide 3"/>
          <p:cNvSpPr/>
          <p:nvPr/>
        </p:nvSpPr>
        <p:spPr>
          <a:xfrm>
            <a:off x="795672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DD0E-D884-479F-B3B8-FFD8C67F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65360" y="131400"/>
            <a:ext cx="6362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 Livres de Contex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920880" y="10332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2"/>
          <a:stretch/>
        </p:blipFill>
        <p:spPr>
          <a:xfrm>
            <a:off x="1192320" y="830160"/>
            <a:ext cx="712764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Espaço Reservado para Rodapé 3"/>
          <p:cNvSpPr/>
          <p:nvPr/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Espaço Reservado para Número de Slide 4"/>
          <p:cNvSpPr/>
          <p:nvPr/>
        </p:nvSpPr>
        <p:spPr>
          <a:xfrm>
            <a:off x="795672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CE27-B6A5-4C1D-81F3-A5A9229FB29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2640" y="383760"/>
            <a:ext cx="708660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: Definiçã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1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á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 = (V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, S) consiste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conjunto finito V de símbolos não-termin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conjunto fini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símbolos terminais, onde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subconjunto P de [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] x 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, chamado conjunto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duçõ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símbolo inicial 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produção (A,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é escrita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 onde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]   e   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m, A deve conter ao menos um símbolo não-terminal e B pode conter qualquer combinação de símbolos terminais e não-termi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a gramátic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ra (produz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cadeias de uma lingu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Espaço Reservado para Rodapé 3"/>
          <p:cNvSpPr/>
          <p:nvPr/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Espaço Reservado para Número de Slide 4"/>
          <p:cNvSpPr/>
          <p:nvPr/>
        </p:nvSpPr>
        <p:spPr>
          <a:xfrm>
            <a:off x="795672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742D-979E-4CB3-BF32-C66B7BA91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587520"/>
            <a:ext cx="708660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xemplos de Gramátic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520" y="1554120"/>
            <a:ext cx="8055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ja a gramática G = (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, S), c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{A,B}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0,1,#}, P={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A1,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},S=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{S}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{a,b}, P={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, 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}, S=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{A,B}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{0,1}, P={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A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}, S=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gramática para gerar palíndromos sobre {a,b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{S}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{a,b}, P={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,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,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a,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Sb}, S=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ço Reservado para Rodapé 2"/>
          <p:cNvSpPr/>
          <p:nvPr/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200 - Fundamentos de Automata e Linguagens For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Espaço Reservado para Número de Slide 3"/>
          <p:cNvSpPr/>
          <p:nvPr/>
        </p:nvSpPr>
        <p:spPr>
          <a:xfrm>
            <a:off x="795672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7B13-0A67-43AA-A3D8-623FC5ED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49440" y="131400"/>
            <a:ext cx="5578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amát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920880" y="10332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tretch/>
        </p:blipFill>
        <p:spPr>
          <a:xfrm>
            <a:off x="777960" y="914400"/>
            <a:ext cx="80978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23:29:22Z</dcterms:created>
  <dc:creator>Carlos Ribeiro</dc:creator>
  <dc:description/>
  <dc:language>en-US</dc:language>
  <cp:lastModifiedBy>Paulo Tasinaffo</cp:lastModifiedBy>
  <cp:lastPrinted>2001-04-01T13:35:18Z</cp:lastPrinted>
  <dcterms:modified xsi:type="dcterms:W3CDTF">2012-04-05T18:51:00Z</dcterms:modified>
  <cp:revision>813</cp:revision>
  <dc:subject/>
  <dc:title>Gramáticas e linguagens</dc:title>
</cp:coreProperties>
</file>