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53E0-6F98-4082-B0BD-607E648C086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C45A-0225-4807-8F4D-D2B4AB709CC3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E77D-C2B1-4778-AB1F-C8CC9EB8370E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E031-81FB-4215-B3E8-70D7FCBF1DB8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F3FE-2A3B-47E7-83FD-818E5A17F71C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DC9A-5256-43C1-828F-9F75B888117C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649D-25B8-4B7D-9323-189AA77EC9D2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8EBA-4774-47DD-B2FD-AA0C60583546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FDD0-6C15-4A09-9838-7BB53A4ABD0D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C557-0C6E-4CA6-8DD8-D0290C0E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834F-E1AB-43F4-AFBF-7096514B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DA8-0315-436F-B151-0750A09E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4F6-0DBF-4FC4-9363-52DD3A9B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45F2-6A85-466A-A05F-05192675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CA75-F37F-42A8-B06E-ABB571A6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39BF-1732-4D8E-B104-B3ECC6AC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01D0-DD41-4355-92DE-731F4704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1D5A-D6E0-4627-8A30-886F103D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A681-4387-4B34-A173-C390402B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DB9E-7B72-43F7-8AA2-8817763D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3D9-1E86-48A8-A155-B84F5779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4551-F2FF-4C98-B87E-605FD656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A606-DF94-4585-8753-94690101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A1AE-ADB9-4BE0-A6D5-79051017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F6B9-26F1-4D85-914D-B17FB1CC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52AB-A369-460E-916E-ED23A20A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A47-9E21-419F-8EE6-A3C8FA25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98A-9ADB-4C75-87E5-E1D3E502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22A-4895-4A5E-A6FC-73E11B63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21A-DCE1-4C94-B5F8-067D6DBE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EEA-E9B1-4495-823B-62716A35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664A-3D82-4D6E-9A82-EEF45B87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7FA9-8F8E-40BA-ACFE-AC5E2BE4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CB85-A317-42ED-8FE1-D2704D8571FD}" type="slidenum">
              <a:rPr b="0" lang="pt-BR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6C0C-BD5D-45A5-8C62-808AA2D6D977}" type="slidenum">
              <a:rPr b="0" lang="pt-BR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7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8002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CT-200 Teoria de Autômata e Linguagens Forma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 u="sng">
                <a:solidFill>
                  <a:srgbClr val="ffffff"/>
                </a:solidFill>
                <a:uFillTx/>
                <a:latin typeface="Book Antiqua"/>
              </a:rPr>
              <a:t>Introdução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Prof. Paulo Marcelo Tasinaffo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2"/>
          <a:stretch/>
        </p:blipFill>
        <p:spPr>
          <a:xfrm>
            <a:off x="130320" y="484200"/>
            <a:ext cx="1512720" cy="6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ço Reservado para Número de Slide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449D-B749-41B9-AEA6-EFEE8750DFD1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536400" y="-73080"/>
            <a:ext cx="7785360" cy="12556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124416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Horários: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34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ook Antiqua"/>
              </a:rPr>
              <a:t>3 tempos semanais (teoria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Avaliação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Dois exames escritos individuais em sala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Um seminário </a:t>
            </a:r>
            <a:r>
              <a:rPr b="0" lang="pt-BR" sz="1600" spc="-1" strike="noStrike" u="sng">
                <a:solidFill>
                  <a:srgbClr val="ffffff"/>
                </a:solidFill>
                <a:uFillTx/>
                <a:latin typeface="Book Antiqua"/>
              </a:rPr>
              <a:t>relatado e apresentado</a:t>
            </a: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Um projeto </a:t>
            </a:r>
            <a:r>
              <a:rPr b="0" lang="pt-BR" sz="1600" spc="-1" strike="noStrike" u="sng">
                <a:solidFill>
                  <a:srgbClr val="ffffff"/>
                </a:solidFill>
                <a:uFillTx/>
                <a:latin typeface="Book Antiqua"/>
              </a:rPr>
              <a:t>relatado e apresentado</a:t>
            </a: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Duas listas de exercícios realizadas </a:t>
            </a:r>
            <a:r>
              <a:rPr b="0" lang="pt-BR" sz="1600" spc="-1" strike="noStrike" u="sng">
                <a:solidFill>
                  <a:srgbClr val="ffffff"/>
                </a:solidFill>
                <a:uFillTx/>
                <a:latin typeface="Book Antiqua"/>
              </a:rPr>
              <a:t>individualment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39640" y="3860640"/>
            <a:ext cx="77724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eb9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Nota (1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° bimestre):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N1 = (5*s + 4*e1 +l1)/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s = nota do seminá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e1 = nota do exame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l1= nota da lista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eb9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Nota (2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° bimestre):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N2 = (5*p + 4*e2 +l2)/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p = nota do proje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e2 = nota do exame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l2 = nota da lista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eb9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Nota final: ((N1+N2)/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929200" y="1343160"/>
            <a:ext cx="2952720" cy="463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ritérios para avaliação do projet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Qualidade do relatório (50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dequação da metodolog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Qualidade dos resul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apacidade crít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Qualidade do tex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Integração com demais projetos (30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Qualidade da apresentação (20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valiação individ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ada projeto desenvolvido por grupo de </a:t>
            </a:r>
            <a:r>
              <a:rPr b="1" lang="pt-BR" sz="1400" spc="-1" strike="noStrike" u="sng">
                <a:solidFill>
                  <a:srgbClr val="ffffff"/>
                </a:solidFill>
                <a:uFillTx/>
                <a:latin typeface="Arial"/>
              </a:rPr>
              <a:t>x alun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436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Objetivo do curso: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presentar os fundamentos da Teoria da Computação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mo definir o processo computacional de maneira formal?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Quais as capacidades / limitações da computação?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mo definir uma máquina abstrata que realiza computações?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m suma: quais as capacidades e limitações de um computador?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Veremos que existem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Times New Roman"/>
              </a:rPr>
              <a:t>vário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modelos, e que a capacidade computacional de uma máquina é caracterizada pela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Times New Roman"/>
              </a:rPr>
              <a:t>linguagem formal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que ela pode reconhece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Quanto mais “poderosa” uma máquina, maior a complexidade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a linguagem que ela pode reconhece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ço Reservado para Número de Slide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6B2F-D17E-4B39-ABDC-325EB319593D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1139760" y="14616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lnSpc>
                <a:spcPct val="9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Introduction to Automata Theory, Languages and Computation</a:t>
            </a: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 - J.E. Hopcroft e J.D. Ullman. Addison-Wesley. </a:t>
            </a:r>
            <a:r>
              <a:rPr b="0" i="1" lang="pt-BR" sz="1800" spc="-1" strike="noStrike">
                <a:solidFill>
                  <a:srgbClr val="ffffff"/>
                </a:solidFill>
                <a:latin typeface="Book Antiqua"/>
              </a:rPr>
              <a:t>Um clássico na área, razoavelmente completo e didático. Provas sumárias de teoremas. Apresenta soluções comentadas para alguns exercícios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9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Introdução à Teoria de Autômatos, Linguagens e Computação </a:t>
            </a: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– J.E. Hopcroft, J.D. Ullman e R. Motwami. Campus. </a:t>
            </a:r>
            <a:r>
              <a:rPr b="0" i="1" lang="pt-BR" sz="1800" spc="-1" strike="noStrike">
                <a:solidFill>
                  <a:srgbClr val="ffffff"/>
                </a:solidFill>
                <a:latin typeface="Book Antiqua"/>
              </a:rPr>
              <a:t>Tradução da 2a. edição americana de versão estendida do Hopcroft/Ullman. Vários erros de tradução. Bem completo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9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Elements of the Theory of Computation</a:t>
            </a: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 - H.R. Lewis e C.H. Papadimitriou. Prentice-Hall. </a:t>
            </a:r>
            <a:r>
              <a:rPr b="0" i="1" lang="pt-BR" sz="1800" spc="-1" strike="noStrike">
                <a:solidFill>
                  <a:srgbClr val="ffffff"/>
                </a:solidFill>
                <a:latin typeface="Book Antiqua"/>
              </a:rPr>
              <a:t>Um pouco mais pesado e menos didático do que o anterior.Conciso e objetivo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9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Languages and Machines</a:t>
            </a: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 - T. Sudkamp. Addison-Wesley. </a:t>
            </a:r>
            <a:r>
              <a:rPr b="0" i="1" lang="pt-BR" sz="1800" spc="-1" strike="noStrike">
                <a:solidFill>
                  <a:srgbClr val="ffffff"/>
                </a:solidFill>
                <a:latin typeface="Book Antiqua"/>
              </a:rPr>
              <a:t>Mais didático do que os anteriores. Ordenação não muito ortodoxa: primeiro discute linguagens e gramáticas e só então introduz a teoria de autômatos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9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Introduction to the Theory of Computation</a:t>
            </a: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 – M. Sipser. PWS. </a:t>
            </a:r>
            <a:r>
              <a:rPr b="0" i="1" lang="pt-BR" sz="1800" spc="-1" strike="noStrike">
                <a:solidFill>
                  <a:srgbClr val="ffffff"/>
                </a:solidFill>
                <a:latin typeface="Book Antiqua"/>
              </a:rPr>
              <a:t>Conciso e didático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9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Notas de aul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69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179280" y="144360"/>
            <a:ext cx="112392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2376360" y="662040"/>
            <a:ext cx="441036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2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695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79280" y="144360"/>
            <a:ext cx="1123920" cy="476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428760" y="714240"/>
            <a:ext cx="841032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695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179280" y="144360"/>
            <a:ext cx="112392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2214720" y="600120"/>
            <a:ext cx="450036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1000080" y="714240"/>
            <a:ext cx="735804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22:41:31Z</dcterms:created>
  <dc:creator>Paulo Marcelo Tasinaffo</dc:creator>
  <dc:description/>
  <dc:language>en-US</dc:language>
  <cp:lastModifiedBy>Paulo Tasinaffo</cp:lastModifiedBy>
  <dcterms:modified xsi:type="dcterms:W3CDTF">2012-03-01T12:21:05Z</dcterms:modified>
  <cp:revision>91</cp:revision>
  <dc:subject/>
  <dc:title>Instituto Tecnológico de Aeronáutica</dc:title>
</cp:coreProperties>
</file>