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1E94F-579B-4FDE-8259-6CCDC4574757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A1ECB-CA44-4083-9CBD-57D83B746187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E4866-7B44-4CA3-A038-CEC2E2341D40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CFD0F-4E71-4C6A-BAC7-FDCAFD861755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3A7DA-D81A-413B-A6EC-615FB56824B2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F7DAC-9D0C-4D0A-97DB-65C8844D5438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27444-8030-4FB1-BD24-7CC005387B1E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7279A-E1E9-4DE6-94E6-4FA793E5D557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1B061-D7CE-4888-8EEA-6119BC099FBE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0F1FD-CE92-4456-A699-A688C06E39FA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7B8F2-CEA6-460D-BF5C-DC1C75CEE059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660B5-A036-4336-89A8-4C07D3673C9B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D88E3-A364-4BE7-9DB9-197799D69D94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B25C5-888E-4621-87E5-059A2F0DCCAD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B6773-E6B6-4570-9D6F-0423B4033E21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ADCD7-7563-4998-8CCB-2B26E20916C9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6ADE7-3C35-4D76-9752-3A2951DE6DF3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01FED-1A72-44CA-BAB7-FCCB78D57873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943DE-EAAE-4A24-AE94-A166CD67DEB9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1425-90CB-4AD1-9AA5-E663BDD2F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F798-B9B5-4BAC-B709-96715248A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FEFD-02E1-449E-85F0-A9ACEB8AE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364A-39FD-497F-8672-F4F60D804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26513D-79EE-40DA-83F2-816459C16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C447A1-227C-4B54-8B18-1BC531623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8744F1-C352-4436-9FE6-38DBCDC59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9E9516-0FC8-4FD0-A269-28E7B0940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027C7C-57A1-4E49-98FD-7502D4895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CD053F-FB31-4B2B-B943-439292EC4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8217B9-CB3F-4450-B2BA-D54D282ED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1741-CE65-4CBE-A2C2-5A2BE69E7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5E7090-5F69-4496-908B-345EB70E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E427E9-5DDA-4A32-90CC-61DC6606A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3F1BE3-FE65-4742-A1A1-228AA2499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A89F0F-E797-48ED-A216-6364FCB16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70A0C0-2B7A-44DB-9C8D-4092CC65D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949E-F284-469B-8829-64BCFB576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4FF0-D691-4437-B834-13585EB82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B5C2-5AD6-42E0-983A-1B6A44A6A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3F5E-23DC-48E0-9C98-431CFEAEF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E606-C07B-4498-AE0F-366BBACBA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C687-B125-4FF0-BD2A-2C7CC76C8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6443-5C71-444A-95BE-94F33888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4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5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6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7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8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9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10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1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2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3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4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5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6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7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8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9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20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1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2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F69D4-77F5-4312-B8C2-F1AE4AEB7529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8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29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30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31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7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8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9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10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1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2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3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4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5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6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7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C3C70-54B6-4933-B406-9361315608E8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050560" y="117000"/>
            <a:ext cx="5905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e3e3ff"/>
                </a:solidFill>
                <a:latin typeface="Arial"/>
              </a:rPr>
              <a:t>Linguagens Regulares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34920" y="44280"/>
            <a:ext cx="1728720" cy="7318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2"/>
          <a:stretch/>
        </p:blipFill>
        <p:spPr>
          <a:xfrm>
            <a:off x="660240" y="822240"/>
            <a:ext cx="7944120" cy="599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050560" y="259920"/>
            <a:ext cx="5905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e3e3ff"/>
                </a:solidFill>
                <a:latin typeface="Arial"/>
              </a:rPr>
              <a:t>Linguagens Regulares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728720" cy="7318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"/>
          <p:cNvPicPr/>
          <p:nvPr/>
        </p:nvPicPr>
        <p:blipFill>
          <a:blip r:embed="rId2"/>
          <a:stretch/>
        </p:blipFill>
        <p:spPr>
          <a:xfrm>
            <a:off x="179280" y="1197000"/>
            <a:ext cx="87282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050560" y="142560"/>
            <a:ext cx="5905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e3e3ff"/>
                </a:solidFill>
                <a:latin typeface="Arial"/>
              </a:rPr>
              <a:t>Linguagens Regulares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128520" y="71280"/>
            <a:ext cx="1728720" cy="7318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"/>
          <p:cNvPicPr/>
          <p:nvPr/>
        </p:nvPicPr>
        <p:blipFill>
          <a:blip r:embed="rId2"/>
          <a:stretch/>
        </p:blipFill>
        <p:spPr>
          <a:xfrm>
            <a:off x="1230480" y="830160"/>
            <a:ext cx="7229160" cy="58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050560" y="44280"/>
            <a:ext cx="59058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e3e3ff"/>
                </a:solidFill>
                <a:latin typeface="Arial"/>
              </a:rPr>
              <a:t>Linguagens Regulares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34920" y="44280"/>
            <a:ext cx="1728720" cy="7318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"/>
          <p:cNvPicPr/>
          <p:nvPr/>
        </p:nvPicPr>
        <p:blipFill>
          <a:blip r:embed="rId2"/>
          <a:stretch/>
        </p:blipFill>
        <p:spPr>
          <a:xfrm>
            <a:off x="1403280" y="692280"/>
            <a:ext cx="6378480" cy="60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050560" y="142560"/>
            <a:ext cx="5905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e3e3ff"/>
                </a:solidFill>
                <a:latin typeface="Arial"/>
              </a:rPr>
              <a:t>Linguagens Regulares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128520" y="71280"/>
            <a:ext cx="1728720" cy="7318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"/>
          <p:cNvPicPr/>
          <p:nvPr/>
        </p:nvPicPr>
        <p:blipFill>
          <a:blip r:embed="rId2"/>
          <a:stretch/>
        </p:blipFill>
        <p:spPr>
          <a:xfrm>
            <a:off x="108000" y="1052640"/>
            <a:ext cx="896616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050560" y="259920"/>
            <a:ext cx="5905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e3e3ff"/>
                </a:solidFill>
                <a:latin typeface="Arial"/>
              </a:rPr>
              <a:t>Linguagens Regulares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322200" y="189000"/>
            <a:ext cx="1728720" cy="731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" descr=""/>
          <p:cNvPicPr/>
          <p:nvPr/>
        </p:nvPicPr>
        <p:blipFill>
          <a:blip r:embed="rId2"/>
          <a:stretch/>
        </p:blipFill>
        <p:spPr>
          <a:xfrm>
            <a:off x="857160" y="1000080"/>
            <a:ext cx="6929640" cy="55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050560" y="259920"/>
            <a:ext cx="5905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e3e3ff"/>
                </a:solidFill>
                <a:latin typeface="Arial"/>
              </a:rPr>
              <a:t>Linguagens Regulares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322200" y="71280"/>
            <a:ext cx="1728720" cy="7318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" descr=""/>
          <p:cNvPicPr/>
          <p:nvPr/>
        </p:nvPicPr>
        <p:blipFill>
          <a:blip r:embed="rId2"/>
          <a:stretch/>
        </p:blipFill>
        <p:spPr>
          <a:xfrm>
            <a:off x="895320" y="857160"/>
            <a:ext cx="753444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050560" y="259920"/>
            <a:ext cx="5905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e3e3ff"/>
                </a:solidFill>
                <a:latin typeface="Arial"/>
              </a:rPr>
              <a:t>Linguagens Regulares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75" name="Picture 3" descr=""/>
          <p:cNvPicPr/>
          <p:nvPr/>
        </p:nvPicPr>
        <p:blipFill>
          <a:blip r:embed="rId1"/>
          <a:stretch/>
        </p:blipFill>
        <p:spPr>
          <a:xfrm>
            <a:off x="322200" y="189000"/>
            <a:ext cx="1728720" cy="7318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"/>
          <p:cNvPicPr/>
          <p:nvPr/>
        </p:nvPicPr>
        <p:blipFill>
          <a:blip r:embed="rId2"/>
          <a:stretch/>
        </p:blipFill>
        <p:spPr>
          <a:xfrm>
            <a:off x="642960" y="1052640"/>
            <a:ext cx="7715160" cy="55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050560" y="259920"/>
            <a:ext cx="5905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e3e3ff"/>
                </a:solidFill>
                <a:latin typeface="Arial"/>
              </a:rPr>
              <a:t>Linguagens Regulares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78" name="Picture 3" descr=""/>
          <p:cNvPicPr/>
          <p:nvPr/>
        </p:nvPicPr>
        <p:blipFill>
          <a:blip r:embed="rId1"/>
          <a:stretch/>
        </p:blipFill>
        <p:spPr>
          <a:xfrm>
            <a:off x="322200" y="189000"/>
            <a:ext cx="1728720" cy="7318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2"/>
          <a:stretch/>
        </p:blipFill>
        <p:spPr>
          <a:xfrm>
            <a:off x="1763640" y="1476360"/>
            <a:ext cx="3632400" cy="3682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3"/>
          <a:stretch/>
        </p:blipFill>
        <p:spPr>
          <a:xfrm>
            <a:off x="468360" y="2217600"/>
            <a:ext cx="806112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2562120" y="2017800"/>
            <a:ext cx="401976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050560" y="404640"/>
            <a:ext cx="59058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e3e3ff"/>
                </a:solidFill>
                <a:latin typeface="Arial"/>
              </a:rPr>
              <a:t>Linguagens Regulares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466560" y="189000"/>
            <a:ext cx="1729080" cy="7318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"/>
          <p:cNvPicPr/>
          <p:nvPr/>
        </p:nvPicPr>
        <p:blipFill>
          <a:blip r:embed="rId2"/>
          <a:stretch/>
        </p:blipFill>
        <p:spPr>
          <a:xfrm>
            <a:off x="614520" y="1125360"/>
            <a:ext cx="7989840" cy="554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050560" y="404640"/>
            <a:ext cx="59058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e3e3ff"/>
                </a:solidFill>
                <a:latin typeface="Arial"/>
              </a:rPr>
              <a:t>Linguagens Regulares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0" y="320760"/>
            <a:ext cx="1728720" cy="7318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"/>
          <p:cNvPicPr/>
          <p:nvPr/>
        </p:nvPicPr>
        <p:blipFill>
          <a:blip r:embed="rId2"/>
          <a:stretch/>
        </p:blipFill>
        <p:spPr>
          <a:xfrm>
            <a:off x="101520" y="1589040"/>
            <a:ext cx="893448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050560" y="115560"/>
            <a:ext cx="5905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e3e3ff"/>
                </a:solidFill>
                <a:latin typeface="Arial"/>
              </a:rPr>
              <a:t>Linguagens Regulares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106200" y="44280"/>
            <a:ext cx="1729080" cy="7318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"/>
          <p:cNvPicPr/>
          <p:nvPr/>
        </p:nvPicPr>
        <p:blipFill>
          <a:blip r:embed="rId2"/>
          <a:stretch/>
        </p:blipFill>
        <p:spPr>
          <a:xfrm>
            <a:off x="907920" y="836640"/>
            <a:ext cx="74091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050560" y="404640"/>
            <a:ext cx="59058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e3e3ff"/>
                </a:solidFill>
                <a:latin typeface="Arial"/>
              </a:rPr>
              <a:t>Linguagens Regulares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0" y="320760"/>
            <a:ext cx="1728720" cy="7318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"/>
          <p:cNvPicPr/>
          <p:nvPr/>
        </p:nvPicPr>
        <p:blipFill>
          <a:blip r:embed="rId2"/>
          <a:stretch/>
        </p:blipFill>
        <p:spPr>
          <a:xfrm>
            <a:off x="108000" y="1413000"/>
            <a:ext cx="88930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050560" y="142560"/>
            <a:ext cx="5905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e3e3ff"/>
                </a:solidFill>
                <a:latin typeface="Arial"/>
              </a:rPr>
              <a:t>Linguagens Regulares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108000" y="71280"/>
            <a:ext cx="1728720" cy="7318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"/>
          <p:cNvPicPr/>
          <p:nvPr/>
        </p:nvPicPr>
        <p:blipFill>
          <a:blip r:embed="rId2"/>
          <a:stretch/>
        </p:blipFill>
        <p:spPr>
          <a:xfrm>
            <a:off x="1185840" y="836640"/>
            <a:ext cx="66992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5905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e3e3ff"/>
                </a:solidFill>
                <a:latin typeface="Arial"/>
              </a:rPr>
              <a:t>Linguagens Regulares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106200" y="189000"/>
            <a:ext cx="1729080" cy="7318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"/>
          <p:cNvPicPr/>
          <p:nvPr/>
        </p:nvPicPr>
        <p:blipFill>
          <a:blip r:embed="rId2"/>
          <a:stretch/>
        </p:blipFill>
        <p:spPr>
          <a:xfrm>
            <a:off x="179280" y="1125360"/>
            <a:ext cx="880920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050560" y="44280"/>
            <a:ext cx="59058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e3e3ff"/>
                </a:solidFill>
                <a:latin typeface="Arial"/>
              </a:rPr>
              <a:t>Linguagens Regulares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106200" y="115920"/>
            <a:ext cx="1729080" cy="7318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"/>
          <p:cNvPicPr/>
          <p:nvPr/>
        </p:nvPicPr>
        <p:blipFill>
          <a:blip r:embed="rId2"/>
          <a:stretch/>
        </p:blipFill>
        <p:spPr>
          <a:xfrm>
            <a:off x="755640" y="682560"/>
            <a:ext cx="7561440" cy="60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050560" y="115560"/>
            <a:ext cx="5905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e3e3ff"/>
                </a:solidFill>
                <a:latin typeface="Arial"/>
              </a:rPr>
              <a:t>Linguagens Regulares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106200" y="115920"/>
            <a:ext cx="1729080" cy="731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"/>
          <p:cNvPicPr/>
          <p:nvPr/>
        </p:nvPicPr>
        <p:blipFill>
          <a:blip r:embed="rId2"/>
          <a:stretch/>
        </p:blipFill>
        <p:spPr>
          <a:xfrm>
            <a:off x="250920" y="981000"/>
            <a:ext cx="846288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12:50:53Z</dcterms:created>
  <dc:creator>Paulo Marcelo Tasinaffo</dc:creator>
  <dc:description/>
  <dc:language>en-US</dc:language>
  <cp:lastModifiedBy>Paulo Tasinaffo</cp:lastModifiedBy>
  <dcterms:modified xsi:type="dcterms:W3CDTF">2012-05-18T18:56:18Z</dcterms:modified>
  <cp:revision>5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