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0" y="936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marL="21600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0"/>
          </p:nvPr>
        </p:nvSpPr>
        <p:spPr>
          <a:xfrm>
            <a:off x="4022640" y="9360"/>
            <a:ext cx="30765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1"/>
          </p:nvPr>
        </p:nvSpPr>
        <p:spPr>
          <a:xfrm>
            <a:off x="0" y="9743760"/>
            <a:ext cx="3076560" cy="4777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4022640" y="9743760"/>
            <a:ext cx="3076560" cy="4777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30960" y="9798120"/>
            <a:ext cx="9921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sp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B7076-6627-471C-B82F-AF9C35B5F62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ode-se derivar quaisquer outros números que se queira, com ou sem sin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x: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inteiro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inteiro sem sinal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digito&gt; &lt;inteiro sem sina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igito&gt; &lt;digito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 &lt;digito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x: +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inteiro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inteiro com sinal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&lt;inteiro sem sina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&lt;digito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. da [ref.1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mática regular também é chamada d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mática linear à direita (ou esquerda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ref3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xempl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 +4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ímbolo inicial: &lt;inteiro&gt;  (vide slide 2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nteiro&gt; ::= + &lt;inteiro sem sinal&gt;   =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&gt; + 4 &lt;digitos&gt; =&gt; +40 &lt;digitos&gt; =&gt; +405 &lt;digitos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&gt; +405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+4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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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  indica que o comprimento da cadeia (derivada) sempre cresce ou se mantém, nunca diminu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: nas gramáticas irrestritas, produções do tip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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com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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(N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* - T*] 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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*, indicam qu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é uma cadeia contendo no mínimo um não terminal 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é uma cadeia, eventualmente vazia, de terminais e não termina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a mesma forma, todas as linguagens do tipo 1 podem ser geradas através de gramáticas irrestritas (tipo 0), embora o inverso não seja verdade. Assim, existe uma </a:t>
            </a: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relação de inclusão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oda gramática ou linguagem do tipo 2 também é do tipo 1 e, portanto, do tipo 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oda gramática ou linguagem do tipo 3 também é do tipo 2, do tipo 1 ou do tipo 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OBS importante: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ara que se tenha uma inclusão própria (TODOS os elementos de um conjunto incluso em outro conjunto), com o objetivo de respeitar a hierarquia de Chomsky, deve-se observar a seguinte restrição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convenção da produção nula)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: caso a linguagem livre de contexto contenha a cadeia nula como uma sentença válida, deve-se ter uma produção da cadeia nula separada na raiz da gramática, isto é, esta produção deve ser SEMPRE derivada a partir do símbolo inicial (que é um não terminal):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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efinição na pg.562 [ref 1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Leitura (informal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: [(N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* - T*] x (N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*,  produções mapeiam [qualquer concatenação de terminais e não terminais, excluindo cadeias de terminais sozinhos (sem não-terminais junto)] em [qualquer concatenação de não terminais e terminais (pode inclusive ser não-terminal sozinho ou terminal sozinho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6064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207040" cy="4308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uitas linguagens de programação (derivadas de Algol: como Pascal, por ex.) são descritas por BN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Se alguém tiver/achar um exemplo, xerocar uma “parte” da descrição, só para os alunos terem uma idé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05FA-54B3-42E4-931B-0CF6C493E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211C0-BDC7-43C3-8F34-188CD2C76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D5FB-92C5-449F-91A0-BEF674A94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785F-2A49-4E0D-BEF7-48B47FA4A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2D435-E5C2-4E33-AF8C-D205496D23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7C6D9-24F7-4D0B-8713-BFF8538727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A00FF-7929-4821-A2D8-688727FC66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E004A-5580-42A4-9EB5-36035B1573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B1725-60DE-45C8-A1D6-45CDF4B09F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E7BDE-246D-4661-8BFA-D90EEE5102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3DB80-0979-45D5-BA64-15914002C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12B1-2232-401D-AE7A-D075E4BFA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AA399-5800-4701-93EC-DB5BFF4C96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7BFAC-308D-4549-BFC2-8B505EF28A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B57C9-2AAE-489B-B7F0-C7BFD53397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0A0C3-8F97-4D55-9E2C-C4E730F450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14235-1122-482B-9464-52DBEC8D7A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5565-DB6D-4D46-BC32-4C92741FD1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A461-A9A7-416B-A2E8-140EDA9CED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7409-E55D-4329-99E9-0768794BAA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EACE-7C56-4527-9E35-5FD7B3F5E8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D897-C019-4FDB-B8C7-DD389A8674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F54B-4DD4-4E16-9FE6-1ADC41BF96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7100-4E54-4A5B-9B41-461F7D2128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798D-447C-4D55-ADC2-8B35A25850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F82C-572C-46D4-94D6-4DD442E32E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8C0A-830D-48DB-83CD-CC0529955F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3D89-6538-4AA9-8F37-59CD55EA2E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C3D8-3A37-4424-9AA1-FBBF0F5244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8577-43A7-40CC-BBAB-D0909697F9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996EA-2C4A-4E92-BE7E-C98536E1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9B707-D8D2-43B1-BBC5-21887226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4B07-1E55-461E-B500-0927AD31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E4F3-869E-4395-A8B0-78C8B7A8A3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6C00-DDE8-4F1B-A8E0-029735A1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C1918-40D7-4BBD-9041-F3BF9919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7FD2-EBBB-41DA-8A1D-6A3FBA6A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03C0-ADCB-43DF-BBA5-F9187D1A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24DF-C6CE-4CC3-80AB-E071F78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B059-6077-4BA1-B1C8-2F43228C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BEA3-05D3-40D0-B7B6-89D84E29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EE19-A983-4A30-9819-5A1E7469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7367-C411-4979-B684-D3A0B43D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449D-2FFA-4B88-B302-A04E4B0D0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26B1-E508-4202-872F-82DF77115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BFD6-04FE-412F-80D6-58E0474C7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4127-AD4A-47A3-8BB0-5282AE2CA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0980-9566-4C8B-8B00-D4FCEF232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4680"/>
            <a:ext cx="553680" cy="6858000"/>
            <a:chOff x="0" y="-4680"/>
            <a:chExt cx="553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1240" y="-4680"/>
              <a:ext cx="527040" cy="6857640"/>
              <a:chOff x="21240" y="-4680"/>
              <a:chExt cx="52704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25200" y="-4680"/>
                <a:ext cx="51588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25560" y="1693080"/>
                <a:ext cx="51588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25560" y="1287360"/>
                <a:ext cx="5158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25560" y="149400"/>
                <a:ext cx="51588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5560" y="984960"/>
                <a:ext cx="51588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25560" y="680400"/>
                <a:ext cx="51588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25560" y="372240"/>
                <a:ext cx="5223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1240" y="3939480"/>
                <a:ext cx="5158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1240" y="3533760"/>
                <a:ext cx="5158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1600" y="2395440"/>
                <a:ext cx="51588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1240" y="3230280"/>
                <a:ext cx="51588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1240" y="2926800"/>
                <a:ext cx="51588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1600" y="2617920"/>
                <a:ext cx="5223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25200" y="4970520"/>
                <a:ext cx="5158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25200" y="4564440"/>
                <a:ext cx="5158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1240" y="5672520"/>
                <a:ext cx="5158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06200" y="6421680"/>
                <a:ext cx="345960" cy="5166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1240" y="6204600"/>
                <a:ext cx="51588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1240" y="5895000"/>
                <a:ext cx="52236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58360" y="3254040"/>
              <a:ext cx="6858000" cy="3405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952360" y="3345120"/>
              <a:ext cx="6856200" cy="156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2655720" y="6400800"/>
            <a:ext cx="474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953480" y="6391440"/>
            <a:ext cx="96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A7D8-2C19-45C6-9AEF-E9E6878D02E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3"/>
          </p:nvPr>
        </p:nvSpPr>
        <p:spPr>
          <a:xfrm>
            <a:off x="2028960" y="6248520"/>
            <a:ext cx="549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7954920" y="624852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15D7-1F91-4B07-9FFD-D8508887B6E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720" y="-4680"/>
            <a:ext cx="685440" cy="6858000"/>
            <a:chOff x="-720" y="-4680"/>
            <a:chExt cx="6854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26640" y="-4680"/>
              <a:ext cx="652320" cy="6857640"/>
              <a:chOff x="26640" y="-4680"/>
              <a:chExt cx="652320" cy="685764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32400" y="-4680"/>
                <a:ext cx="6386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400" y="1692720"/>
                <a:ext cx="6386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400" y="128700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2400" y="14904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2400" y="98460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2400" y="680040"/>
                <a:ext cx="6386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32400" y="371880"/>
                <a:ext cx="6465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7360" y="393948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7360" y="353376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27360" y="239508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27360" y="323028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27360" y="292680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7360" y="2617560"/>
                <a:ext cx="6465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2400" y="497052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2400" y="456444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7360" y="5672520"/>
                <a:ext cx="6386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rot="16200000">
                <a:off x="173160" y="6360120"/>
                <a:ext cx="345960" cy="639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7360" y="620460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7360" y="5895000"/>
                <a:ext cx="64656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H="1" rot="16200000">
              <a:off x="-3219120" y="3213360"/>
              <a:ext cx="6858000" cy="4215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rot="16200000">
              <a:off x="-2840040" y="3326760"/>
              <a:ext cx="6856200" cy="1933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5"/>
          </p:nvPr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6"/>
          </p:nvPr>
        </p:nvSpPr>
        <p:spPr>
          <a:xfrm>
            <a:off x="795636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8B66-D234-49DD-9D8B-3607E3551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89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90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75B3-1F3B-4A97-9721-7ED7A5EE6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os@comp.ita.br" TargetMode="External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142200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T200</a:t>
            </a:r>
            <a:br>
              <a:rPr sz="3600"/>
            </a:b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undamentos de Automata e Linguagens Formais</a:t>
            </a:r>
            <a:br>
              <a:rPr sz="2800"/>
            </a:br>
            <a:br>
              <a:rPr sz="28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. Carlos H. C. Ribeiro   </a:t>
            </a: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carlos@comp.ita.br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Ramal: 5895   Sala: 106</a:t>
            </a:r>
            <a:br>
              <a:rPr sz="54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68360" y="3860640"/>
            <a:ext cx="5183280" cy="178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ULA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amáticas e linguag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Hierarquia de Choms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FDs e gramáticas reg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587520"/>
            <a:ext cx="708660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NF: Exempl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ção do inteiro -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inteiro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inteiro com sina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&lt;inteiro sem sina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&lt;digito&gt; &lt;inteiro sem sina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&lt;digito&gt; &lt;digito&gt; &lt;inteiro sem sina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&lt;digito&gt; &lt;digito&gt; &lt;digi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9 &lt;digito&gt; &lt;digi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90 &lt;digi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9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C2AFE-16FE-4581-B40F-28A7BCF89A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24960" y="1612440"/>
            <a:ext cx="825660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orme as restrições impostas ao formato das produções de uma gramática, varia-se a classe de linguagens que tal gramática g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m 4 classes de gramáticas, capazes de gerar 4 classes correspondentes de linguagens, de acordo com a denominad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erarquia de Choms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estabelece uma relação de inclusão entre as gramát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73240" y="448920"/>
            <a:ext cx="77724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 Hierarquia de Chomsk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20680" y="3679920"/>
            <a:ext cx="1379520" cy="1854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057320" y="5627520"/>
            <a:ext cx="28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Times New Roman"/>
              </a:rPr>
              <a:t>Noam Chom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51120" y="3670200"/>
            <a:ext cx="3521160" cy="2400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65400" y="3997440"/>
            <a:ext cx="2892600" cy="1963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79680" y="4324320"/>
            <a:ext cx="2264040" cy="147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93960" y="4707000"/>
            <a:ext cx="1635120" cy="981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7120" y="501012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65560" y="438156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64120" y="39736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37120" y="36640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51440" y="383364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1440" y="42148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14800" y="4597560"/>
            <a:ext cx="1508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14800" y="5197320"/>
            <a:ext cx="182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26280" y="359244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,G: irrest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63000" y="399240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,G: sensível ao 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82960" y="442764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,G: livre de 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35680" y="50576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,G: 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E7CC-2A67-4402-8E92-1425194D77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780840" y="1676520"/>
            <a:ext cx="8032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linguagem L é sensível ao contexto (respectivamente livre de contexto, regular) se existe uma gramática sensível ao contexto G (respectivamente livre de contexto, regular) com L=L(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s: Uma convenção para a produção nul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 uma gramática permitir produção da cadeia nula, ela deverá ser da forma 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nde S é o símbolo inicial e não pertence ao lado direito de qualquer produção 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 a cadeia nula. Assim, pode-se tratar esta produção como um caso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 sempre possível transformar uma gramática G em uma gramática equivalente G’ que satisfaz a convenção acima (veremos isso mais tarde - slide 2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781200" y="448920"/>
            <a:ext cx="77724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inguagens e Gramátic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D03B-913F-4ED9-A3BF-6812766442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85800" y="1191960"/>
            <a:ext cx="8207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ção (inclui itens a,b,c e d)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ja G uma gramática 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a cadeia n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Se toda produção estiver na forma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o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 o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,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 é u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ática reg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 gramática, pode-se substituir um símbolo não terminal por: (i) um símbolo terminal, (ii) um símbolo terminal seguido por um não terminal ou (iii) pela cadeia n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, c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{a,b}, V={S, X}, P={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,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 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X, 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}  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ções possíveis: ab, abb, bbbabb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(G)={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,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}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 é uma gramática regular, portanto, a linguagem L(G) que ela gera é uma linguagem regul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750960" y="274320"/>
            <a:ext cx="77724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Regular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C8E4-338C-4AB2-859F-2DE1DA10C2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9280" y="267840"/>
            <a:ext cx="70866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Livres de Contex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58520" y="1164960"/>
            <a:ext cx="797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Se toda produção estiver na forma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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, G é u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ática livre de contex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 gramática, pode-se substituir A (um não terminal isolado) p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empre que se queira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ependentemente do contex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 que A esteja inserid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gramática 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, c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{a,b}, V={S}, P={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b,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}  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re de contex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ções possíveis: ab, aabb, aaabbb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(G)={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,2,…}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 é uma linguagem livre de contexto e não é uma linguagem regul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guagens livres de contexto permitem, além das operações permitidas para uma linguagem regular,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erações de aninhament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A255-2EC5-4A85-8DE1-01B6F8B57E9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731520" y="703440"/>
            <a:ext cx="8088120" cy="55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mática para inteiros dada (slide 9) é livre de contexto. Se mudarmos as produções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igitos&gt;::= 0&lt;digitos&gt; |1&lt;digitos&gt; |... | 9&lt;digitos&gt;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teiro&gt;::= + &lt;inteiro sem sinal&gt; | - &lt;inteiro sem sinal&gt; |  0&lt;digitos&gt; |1&lt;digitos&gt; |... | 9 &lt;digitos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teiro sem sinal&gt;::= 0&lt;digitos&gt; |1&lt;digitos&gt; |... | 9&lt;digitos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rá numa gramática G regular. Como a linguagem L=L(G) gerada não foi modificada, concluímos que L é uma linguagem 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B9F3-9E6C-4753-9F9F-ECBA5DF873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742680" y="1374840"/>
            <a:ext cx="80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Se toda produção estiver na forma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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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 -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G é u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ática sensível ao contex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 gramática, pode-se substituir A p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e A estiv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ntro do contex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gramática do tipo 1,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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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, exceto para a produção 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m S sendo o símbolo in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: A gramática 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, c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{a,b,c}, V={S,A,B,C,D,E}, P={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B,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C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,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, 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 C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, C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, D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, C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c} 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ível ao contex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ex.: CE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diz que C pode ser substituído por 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 for seguido por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ções possíveis: abc, aabbcc, aaabbbccc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(G)={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,2,…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ão existe uma gramática livre de contexto G com L=L(G); assim, L não é uma linguagem livre de contex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723960" y="463680"/>
            <a:ext cx="777240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Sensíveis ao Contex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92C6-114E-4145-9F00-343CB8FAB9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2640" y="587520"/>
            <a:ext cx="708660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Irrestrit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Se toda produção de G estiver na forma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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(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*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]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*, G é u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ática irrestri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a gramática, nenhuma limitação é impos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23920" y="3825720"/>
            <a:ext cx="76932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gramática 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, c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{a,b}, V={S,B,C}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{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, B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,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} 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restrita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(G)={ab, ba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rodução B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 só é permitida em gramáticas irrestri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B3F0-2721-4A98-8650-8F66D56CDD9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611280" y="375840"/>
            <a:ext cx="8007120" cy="54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utros exemp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A&gt;::= 0 |1 | 2 | 3 | 4 | 5 | 6 | 7 | 8 |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A&gt;::= &lt;A&gt; &lt;operador&gt; &lt;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perador&gt;::= + | - | * |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e acrescentarmos a produção: &lt;A&gt;::= ( &lt;A&gt; ), transformamos numa gramática que define uma linguage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livre de contex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X1&gt;::= { &lt;declaração&gt;  &lt;X&gt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eclaração&gt;::= integer &lt;A&gt; | boolean &lt;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A&gt;::= x | y |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Vários exemplos de GLCs (Sudkamp, págs. 67 a 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87880" y="1542960"/>
            <a:ext cx="382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é uma gramática que define uma linguagem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17840" y="41990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é uma gramática sensível ao contexto, desde que as variáveis utilizadas em &lt;X&gt; sejam: i) as mesmas que em &lt;declaração&gt;; ii) do mesmo tipo que em &lt;declaração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F80D-709C-4E83-B452-DB2E69ACFC6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052640" y="1439640"/>
            <a:ext cx="717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gramática regular é uma gramática livre de contex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gramática livre de contexto, sem produções do tip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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é uma gramática sensível ao contex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gramática sensível ao contexto é uma gramática irrestr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A3FC-39EA-4461-9A78-97006D6204E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383760"/>
            <a:ext cx="70866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: Definiçã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1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á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 = (V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, S) consiste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conjunto finito V de símbolos não-termin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conjunto fini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símbolos terminais, onde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subconjunto P de [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] x 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, chamado conjunto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duçõ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símbolo inicial 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produção (A,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é escrita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 onde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]   e   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m, A deve conter ao menos um símbolo não-terminal e B pode conter qualquer combinação de símbolos terminais e não-termi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a gramátic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ra (produz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cadeias de uma lingu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1CCD-25EE-4689-A903-D4EDEDB54EB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34680" y="331920"/>
            <a:ext cx="80010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Regulares e Automata Finit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91640" y="1103040"/>
            <a:ext cx="7923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 seção mostraremos que gramáticas regulares e automata finitos são essencialmente equivalentes, no sentido em que ambos são especificações de uma linguagem reg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amática 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rado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lingu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utômato 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heced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 linguagem (já vim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ja o autômato finito abaixo, o qual aceita cadeias sobre {a,b} que contêm um número ímpar de 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determinar a gramática  regular equival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79680" y="405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35240" y="436392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21040" y="4440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8" idx="0"/>
            <a:endCxn id="418" idx="7"/>
          </p:cNvCxnSpPr>
          <p:nvPr/>
        </p:nvCxnSpPr>
        <p:spPr>
          <a:xfrm flipH="1" rot="16200000">
            <a:off x="3612240" y="4267800"/>
            <a:ext cx="78480" cy="270360"/>
          </a:xfrm>
          <a:prstGeom prst="curvedConnector5">
            <a:avLst>
              <a:gd name="adj1" fmla="val -646543"/>
              <a:gd name="adj2" fmla="val 50000"/>
              <a:gd name="adj3" fmla="val -6465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3724560" y="38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79680" y="405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87880" y="43783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68960" y="436392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26640" y="4403880"/>
            <a:ext cx="3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16680" y="4211640"/>
            <a:ext cx="10666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821040" y="4821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/>
          <p:nvPr/>
        </p:nvCxnSpPr>
        <p:spPr>
          <a:xfrm flipH="1" rot="16200000">
            <a:off x="5760360" y="4113720"/>
            <a:ext cx="78480" cy="270720"/>
          </a:xfrm>
          <a:prstGeom prst="curvedConnector5">
            <a:avLst>
              <a:gd name="adj1" fmla="val -646543"/>
              <a:gd name="adj2" fmla="val 49933"/>
              <a:gd name="adj3" fmla="val -6465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423040" y="367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79680" y="4668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975040" y="4397400"/>
            <a:ext cx="1461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975040" y="4630680"/>
            <a:ext cx="1461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19B0-B380-4F13-B275-81A82E1224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36120" y="406080"/>
            <a:ext cx="8001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máticas Regulares a partir de AF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9832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orem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Chomsky e Miller, 195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m AF de estado inicial S. Sej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conjunto dos símbolos de entrada e V o conjunto de estados de M. Defina produções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 se existir um arco rotula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A para A’ e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A for um estado de aceitação. Então a gramática regular G=(V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,S) é tal que L(G)=L(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o 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      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s símbolos de entrada {a,b} do AF são os símbolos terminais de G. Os estados 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ão os símbolos não-terminais. O estado inicial 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é o símbolo inicial. Os arcos do AF correspondem às produções de G. Se existir um arco rotulado p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A para A’, escreve-se a produção: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os então: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ém disso, se A for estado de aceitação, inclui-se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exemplo: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m, a gramática G=(V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,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com V={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{a,b} e P={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Lucida Handwriting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gera a linguagem L(G), que corresponde ao conjunto de cadeias aceitas pelo autômato fin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98600" y="3556080"/>
            <a:ext cx="264960" cy="137880"/>
          </a:xfrm>
          <a:custGeom>
            <a:avLst/>
            <a:gdLst>
              <a:gd name="textAreaLeft" fmla="*/ 41400 w 264960"/>
              <a:gd name="textAreaRight" fmla="*/ 231840 w 264960"/>
              <a:gd name="textAreaTop" fmla="*/ 34560 h 137880"/>
              <a:gd name="textAreaBottom" fmla="*/ 103680 h 137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1815-49E1-4D5F-B554-20A014959E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8001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Fs a Partir de Gramáticas Regular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26684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orem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Chomsky e Miller, 1958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ja G = (V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,S) uma gramática regular. Seja  I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 = V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F}, onde 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(X,x) = {X’ | 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’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F |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}, A = {F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X | 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}. O autômato finito não-determinístic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I, X, f, A, S) aceita precisamente as cadeias de L(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ja a gramática regular G=(V,T,P,S), com V={S, C}, T={a,b}, P={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,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,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,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}. Determinar o AF correspon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     AF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s símbolos não terminais serão os estados. Para cada produção da forma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, desenhar uma ligação de A a A’, com rótul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oduções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,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,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). A produção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equivale a: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, 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ndo F um símbolo não-terminal adicional. A produção 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 que F é um estado de aceit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09840" y="4176720"/>
            <a:ext cx="293400" cy="152280"/>
          </a:xfrm>
          <a:custGeom>
            <a:avLst/>
            <a:gdLst>
              <a:gd name="textAreaLeft" fmla="*/ 45720 w 293400"/>
              <a:gd name="textAreaRight" fmla="*/ 257040 w 293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72D4-9746-41E2-8E9F-5C6DF611C0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639360"/>
            <a:ext cx="7619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quivalência AFs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Gramática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mos então que, se A é um autômato finito, existe uma gramática regular G, com L(G)=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Vimos também que, se G é uma gramática regular, existe um autômato finito não-determinístic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 L(G)=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já vimos (aula 2) que existe um AFD equivalente a qualquer AFN, concluímos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 G é gramática regular, existe um autômato finito determinístico M, com L(G)=L(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1EA1-8A0E-4030-A801-3148ED94E3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2640" y="587520"/>
            <a:ext cx="708660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xemplos de Gramátic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520" y="1554120"/>
            <a:ext cx="805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ja a gramática G = (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, S), c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{A,B}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0,1,#}, P={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A1,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},S=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{S}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{a,b}, P={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, 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}, S=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{A,B}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{0,1}, P={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,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A,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}, S=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gramática para gerar palíndromos sobre {a,b}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{S}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{a,b}, P={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,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,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a,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Sb}, S=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FEB4-33E6-4064-B886-C9C864DFDC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25000"/>
            <a:ext cx="70866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Derivaçõ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37920" y="109224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ja a gramática G = (V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P, S). S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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é uma produção 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*, dizemos qu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tamente deriváv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escrevemos: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* par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e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+1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é diretamente derivável d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=1,..,n-1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zemos qu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é derivável d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escrevemos: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ação d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or convenção, qualquer elemento de (V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* é derivável de si mesmo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7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linguagem L(G) gerada por 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siste de todas as cadeias sobr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rivadas de 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54480" y="33148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0560" y="287964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5589720"/>
            <a:ext cx="75009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gramáticas G e G’ são equivalentes se L(G) = L(G’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8E41-37B6-4F1E-BD1E-5ABE2F8213C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2640" y="679320"/>
            <a:ext cx="7086600" cy="47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rivações: Exemplos, Formas Sentenciais e Sentenç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84240" y="1523880"/>
            <a:ext cx="732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ja a gramática 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, com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{S, A}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{a,b}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{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, 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,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,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 cadeia abAbb é diretamente derivável de aAbb, escrita como aAb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Abb, usando a produção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A cadeia bbab é derivável de S, escrita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ab. A derivação é: 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a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ja a gramática G = (V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, S). Diz-se q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* é um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ma senten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G se existir derivação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a cade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é um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ntenç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G se existir uma derivação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 sentencial: qualquer cadeia (incluindo símbolos não-terminais) deriváveis a partir do símbolo inicial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ça: forma sentenci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enas com símbolos termin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43640" y="266544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45160" y="383076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58960" y="43704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07EE-4A95-490B-81B5-2D3354FBD6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2880" y="254160"/>
            <a:ext cx="708660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Árvores de Derivaçã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65280" y="1103040"/>
            <a:ext cx="8237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 de representar derivações em uma gra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ós: símbolos terminais ou não-termi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existir um vértice A com sucessores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ntão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 uma produção da gramática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recíproca não é necessariamente verdade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nó-raiz corresponde a um símbolo inicial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0240" y="3268800"/>
            <a:ext cx="8012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emplo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 = ({S,A}, {a,b}, P, S}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AS | a,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bA | SS | 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714920" y="3308400"/>
            <a:ext cx="4048200" cy="2881080"/>
            <a:chOff x="4714920" y="3308400"/>
            <a:chExt cx="4048200" cy="2881080"/>
          </a:xfrm>
        </p:grpSpPr>
        <p:sp>
          <p:nvSpPr>
            <p:cNvPr id="280" name=""/>
            <p:cNvSpPr/>
            <p:nvPr/>
          </p:nvSpPr>
          <p:spPr>
            <a:xfrm>
              <a:off x="5902560" y="3460680"/>
              <a:ext cx="423720" cy="39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19840" y="4205160"/>
              <a:ext cx="424080" cy="39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36040" y="4968720"/>
              <a:ext cx="423720" cy="39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05600" y="38512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23240" y="4595760"/>
              <a:ext cx="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86640" y="4205160"/>
              <a:ext cx="423720" cy="39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86880" y="4189320"/>
              <a:ext cx="423720" cy="39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0" idx="2"/>
              <a:endCxn id="285" idx="7"/>
            </p:cNvCxnSpPr>
            <p:nvPr/>
          </p:nvCxnSpPr>
          <p:spPr>
            <a:xfrm flipH="1">
              <a:off x="5247720" y="3655440"/>
              <a:ext cx="654840" cy="60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80" idx="6"/>
              <a:endCxn id="286" idx="1"/>
            </p:cNvCxnSpPr>
            <p:nvPr/>
          </p:nvCxnSpPr>
          <p:spPr>
            <a:xfrm>
              <a:off x="6325920" y="3655440"/>
              <a:ext cx="723240" cy="59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4919760" y="4968720"/>
              <a:ext cx="424080" cy="39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04160" y="4970520"/>
              <a:ext cx="424080" cy="39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85240" y="4968720"/>
              <a:ext cx="424080" cy="39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>
              <a:stCxn id="281" idx="2"/>
              <a:endCxn id="289" idx="7"/>
            </p:cNvCxnSpPr>
            <p:nvPr/>
          </p:nvCxnSpPr>
          <p:spPr>
            <a:xfrm flipH="1">
              <a:off x="5281920" y="4400280"/>
              <a:ext cx="638280" cy="62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3" name=""/>
            <p:cNvCxnSpPr>
              <a:stCxn id="286" idx="6"/>
              <a:endCxn id="291" idx="1"/>
            </p:cNvCxnSpPr>
            <p:nvPr/>
          </p:nvCxnSpPr>
          <p:spPr>
            <a:xfrm>
              <a:off x="7410600" y="4384440"/>
              <a:ext cx="737280" cy="64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4" name=""/>
            <p:cNvCxnSpPr>
              <a:stCxn id="281" idx="6"/>
              <a:endCxn id="290" idx="1"/>
            </p:cNvCxnSpPr>
            <p:nvPr/>
          </p:nvCxnSpPr>
          <p:spPr>
            <a:xfrm>
              <a:off x="6343920" y="4400280"/>
              <a:ext cx="722520" cy="62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5" name=""/>
            <p:cNvSpPr/>
            <p:nvPr/>
          </p:nvSpPr>
          <p:spPr>
            <a:xfrm>
              <a:off x="5918400" y="5781600"/>
              <a:ext cx="423720" cy="39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4320" y="5798880"/>
              <a:ext cx="424080" cy="39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7" name=""/>
            <p:cNvCxnSpPr>
              <a:stCxn id="290" idx="3"/>
              <a:endCxn id="295" idx="7"/>
            </p:cNvCxnSpPr>
            <p:nvPr/>
          </p:nvCxnSpPr>
          <p:spPr>
            <a:xfrm flipH="1">
              <a:off x="6279480" y="5303880"/>
              <a:ext cx="786600" cy="53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8" name=""/>
            <p:cNvCxnSpPr>
              <a:stCxn id="290" idx="5"/>
              <a:endCxn id="296" idx="1"/>
            </p:cNvCxnSpPr>
            <p:nvPr/>
          </p:nvCxnSpPr>
          <p:spPr>
            <a:xfrm>
              <a:off x="7366320" y="5303880"/>
              <a:ext cx="80064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9" name=""/>
            <p:cNvSpPr/>
            <p:nvPr/>
          </p:nvSpPr>
          <p:spPr>
            <a:xfrm>
              <a:off x="4919760" y="5765760"/>
              <a:ext cx="424080" cy="39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89" idx="4"/>
              <a:endCxn id="299" idx="0"/>
            </p:cNvCxnSpPr>
            <p:nvPr/>
          </p:nvCxnSpPr>
          <p:spPr>
            <a:xfrm>
              <a:off x="5132160" y="5358960"/>
              <a:ext cx="1080" cy="40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1" name=""/>
            <p:cNvSpPr/>
            <p:nvPr/>
          </p:nvSpPr>
          <p:spPr>
            <a:xfrm>
              <a:off x="5732640" y="33084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16720" y="40701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2640" y="4054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58400" y="40194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48400" y="48657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32640" y="48672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40760" y="48322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42360" y="479880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14920" y="566244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50280" y="5661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75840" y="56800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86800" y="35290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70520" y="42559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86800" y="42577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88400" y="42577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05440" y="50180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19920" y="50194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6960" y="500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53640" y="50194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88160" y="58309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51880" y="583236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37800" y="5832360"/>
              <a:ext cx="38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911160" y="4425840"/>
            <a:ext cx="3279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 produto (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yield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de uma árvore de derivação é a string formada pela leitura sequencial das folhas da árv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50760" y="5775480"/>
            <a:ext cx="32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ste exemplo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: produt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= aabb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6119-A0D4-4702-8699-9F4A2AD61D2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2640" y="647280"/>
            <a:ext cx="7527960" cy="53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lação entre Derivações e Árvores de Deriva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82800" y="1523880"/>
            <a:ext cx="779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orem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ja G = (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,S) uma GLC. Então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ss existir uma árvore de derivação em G com produ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 se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Dada uma derivação, existe uma árvore correspo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Dada uma árvore de derivação, seu produto corresponde a alguma derivação em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pcroft / Ullman, pp. 85-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750080" y="1506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C08C-9483-4B31-91C8-B973EEAFC9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647280"/>
            <a:ext cx="7527960" cy="53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rivações à Direita e à Esquerd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84240" y="1523880"/>
            <a:ext cx="732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rivação à Direit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da passo de derivação aplicado à variável mais à dire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rivação à Esquerd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da passo de derivação aplicado à variável mais à esquer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41480" y="3327480"/>
            <a:ext cx="661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empl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= ({S,A}, {a,b}, P, 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AS |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bA | SS | 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À direita: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A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bA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bba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abb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À esquerda: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b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ab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abb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abb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500720" y="3151080"/>
            <a:ext cx="3557160" cy="2064600"/>
            <a:chOff x="4500720" y="3151080"/>
            <a:chExt cx="3557160" cy="2064600"/>
          </a:xfrm>
        </p:grpSpPr>
        <p:sp>
          <p:nvSpPr>
            <p:cNvPr id="332" name=""/>
            <p:cNvSpPr/>
            <p:nvPr/>
          </p:nvSpPr>
          <p:spPr>
            <a:xfrm>
              <a:off x="5544360" y="3258720"/>
              <a:ext cx="37224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59480" y="3785400"/>
              <a:ext cx="37260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73520" y="4325760"/>
              <a:ext cx="37224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22560" y="353520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38040" y="406188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1560" y="3785400"/>
              <a:ext cx="37224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97280" y="3774240"/>
              <a:ext cx="37224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" name=""/>
            <p:cNvCxnSpPr>
              <a:stCxn id="332" idx="2"/>
              <a:endCxn id="337" idx="7"/>
            </p:cNvCxnSpPr>
            <p:nvPr/>
          </p:nvCxnSpPr>
          <p:spPr>
            <a:xfrm flipH="1">
              <a:off x="4969080" y="3396600"/>
              <a:ext cx="575280" cy="42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0" name=""/>
            <p:cNvCxnSpPr>
              <a:stCxn id="332" idx="6"/>
              <a:endCxn id="338" idx="1"/>
            </p:cNvCxnSpPr>
            <p:nvPr/>
          </p:nvCxnSpPr>
          <p:spPr>
            <a:xfrm>
              <a:off x="5916240" y="3396240"/>
              <a:ext cx="635400" cy="41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41" name=""/>
            <p:cNvSpPr/>
            <p:nvPr/>
          </p:nvSpPr>
          <p:spPr>
            <a:xfrm>
              <a:off x="4680720" y="4325760"/>
              <a:ext cx="37260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12400" y="4327200"/>
              <a:ext cx="37260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62440" y="4325760"/>
              <a:ext cx="37260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4" name=""/>
            <p:cNvCxnSpPr>
              <a:stCxn id="333" idx="2"/>
              <a:endCxn id="341" idx="7"/>
            </p:cNvCxnSpPr>
            <p:nvPr/>
          </p:nvCxnSpPr>
          <p:spPr>
            <a:xfrm flipH="1">
              <a:off x="4998240" y="3923280"/>
              <a:ext cx="561240" cy="44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8" idx="6"/>
              <a:endCxn id="343" idx="1"/>
            </p:cNvCxnSpPr>
            <p:nvPr/>
          </p:nvCxnSpPr>
          <p:spPr>
            <a:xfrm>
              <a:off x="6869520" y="3912120"/>
              <a:ext cx="648000" cy="45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>
              <a:stCxn id="333" idx="6"/>
              <a:endCxn id="342" idx="1"/>
            </p:cNvCxnSpPr>
            <p:nvPr/>
          </p:nvCxnSpPr>
          <p:spPr>
            <a:xfrm>
              <a:off x="5932080" y="3923640"/>
              <a:ext cx="635040" cy="44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47" name=""/>
            <p:cNvSpPr/>
            <p:nvPr/>
          </p:nvSpPr>
          <p:spPr>
            <a:xfrm>
              <a:off x="5558040" y="4901040"/>
              <a:ext cx="37224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79000" y="4913280"/>
              <a:ext cx="37260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9" name=""/>
            <p:cNvCxnSpPr>
              <a:stCxn id="342" idx="3"/>
              <a:endCxn id="347" idx="7"/>
            </p:cNvCxnSpPr>
            <p:nvPr/>
          </p:nvCxnSpPr>
          <p:spPr>
            <a:xfrm flipH="1">
              <a:off x="5875920" y="4562640"/>
              <a:ext cx="691200" cy="37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0" name=""/>
            <p:cNvCxnSpPr>
              <a:stCxn id="342" idx="5"/>
              <a:endCxn id="348" idx="1"/>
            </p:cNvCxnSpPr>
            <p:nvPr/>
          </p:nvCxnSpPr>
          <p:spPr>
            <a:xfrm>
              <a:off x="6830640" y="4562640"/>
              <a:ext cx="703440" cy="39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1" name=""/>
            <p:cNvSpPr/>
            <p:nvPr/>
          </p:nvSpPr>
          <p:spPr>
            <a:xfrm>
              <a:off x="4680720" y="4889880"/>
              <a:ext cx="37260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2" name=""/>
            <p:cNvCxnSpPr>
              <a:stCxn id="341" idx="4"/>
              <a:endCxn id="351" idx="0"/>
            </p:cNvCxnSpPr>
            <p:nvPr/>
          </p:nvCxnSpPr>
          <p:spPr>
            <a:xfrm>
              <a:off x="4867200" y="4602240"/>
              <a:ext cx="108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3" name=""/>
            <p:cNvSpPr/>
            <p:nvPr/>
          </p:nvSpPr>
          <p:spPr>
            <a:xfrm>
              <a:off x="5396400" y="3151080"/>
              <a:ext cx="25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02160" y="3691080"/>
              <a:ext cx="25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96400" y="3677760"/>
              <a:ext cx="25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23800" y="3655440"/>
              <a:ext cx="25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28800" y="425304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96400" y="4254120"/>
              <a:ext cx="25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7960" y="423252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77800" y="420444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0720" y="481464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09000" y="4814640"/>
              <a:ext cx="25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04440" y="4825800"/>
              <a:ext cx="25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18160" y="3306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23920" y="3819240"/>
              <a:ext cx="27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18160" y="3823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86200" y="3823560"/>
              <a:ext cx="26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7400" y="4360680"/>
              <a:ext cx="26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50200" y="4363920"/>
              <a:ext cx="26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85120" y="434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23640" y="4363920"/>
              <a:ext cx="26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41920" y="4937040"/>
              <a:ext cx="26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86120" y="4938120"/>
              <a:ext cx="3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08520" y="493920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229A-2D2D-42CB-9646-4CDC3784606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28240" y="223560"/>
            <a:ext cx="708660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orma Backus-Nau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66800" y="1066680"/>
            <a:ext cx="802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NF (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us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m”): modo alternativo de descrever gramátic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mbolos não terminais: inclusos em &lt;..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ção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escrita: A::=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ções da forma: A::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::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A::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m ser combinadas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: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…|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lê-se “ou” para “|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ática para inteiros - um inteiro é definido como uma cadeia contendo um sinal opcional (+ ou -), seguido por uma cadeia de dígitos (0 a 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ímbolo inici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inteir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gito&gt;::= 0 |1| 2 | 3 | 4 | 5 | 6 | 7 | 8 |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teiro&gt;::= &lt;inteiro com sinal&gt; | &lt;inteiro sem sin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teiro com sinal&gt;::=   + &lt; inteiro sem sinal&gt; | -  &lt;inteiro sem sin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teiro sem sinal&gt;::=   &lt;digito&gt; |  &lt;digito&gt; &lt;inteiro sem sin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0062-29A1-4549-AC77-12DD2DFA0BC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23:29:22Z</dcterms:created>
  <dc:creator>Carlos Ribeiro</dc:creator>
  <dc:description/>
  <cp:keywords/>
  <dc:language>en-US</dc:language>
  <cp:lastModifiedBy>Carlos Henrique</cp:lastModifiedBy>
  <cp:lastPrinted>2001-04-01T13:35:18Z</cp:lastPrinted>
  <dcterms:modified xsi:type="dcterms:W3CDTF">2007-03-20T11:13:31Z</dcterms:modified>
  <cp:revision>779</cp:revision>
  <dc:subject/>
  <dc:title>Gramáticas e linguagens</dc:title>
</cp:coreProperties>
</file>