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BA45-4AEF-4B06-9314-31BD049B8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B4A5-9AA6-45BB-B3BB-D0B85BC3C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7D5D-404A-49D2-9406-788C64401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849B-42F7-4E62-BF7A-3404DE9A8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426B-19F3-425F-A408-67FD850B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6CE69-C519-46CF-ADD7-DD57EEB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4B80-AA5F-4C4C-B91E-2FF9EC71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5B6C5-6F06-4F32-86C2-D45B4803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1426-9746-4FE4-9328-7D6BE0B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025F1-FE4B-4CF4-8D6B-5B85F7AD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A7B6-F137-43E0-A8A4-B73C9A6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C3C1-7D53-4899-A099-B1B3B8EE5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40E5-4550-4D2B-BE18-35D8D71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8347-869C-47CA-9E74-E8D90BCC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CA34-BCA4-4992-9FE8-EFBA6C1D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5B6F-DE7E-401C-A5FC-F64D1420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45EC6-3346-422F-AF1E-220235EA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1360-BBAF-4D80-A78A-E9BC49CC6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21BC-AF88-4985-A746-932443307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9CF0-373B-4EF3-A45D-AA9970C3E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5431-BA0C-4933-AFF5-9AE592EAA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558D-66F7-4386-B3B8-718D52197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63BE-4DFF-4400-AC49-C1EEC7630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B2E5-5042-4343-9280-EB8296C4F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609120" cy="6858000"/>
            <a:chOff x="-720" y="-4680"/>
            <a:chExt cx="609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3400" y="-4680"/>
              <a:ext cx="579960" cy="6857640"/>
              <a:chOff x="23400" y="-4680"/>
              <a:chExt cx="5799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7720" y="-4680"/>
                <a:ext cx="567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8080" y="1693080"/>
                <a:ext cx="567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8080" y="12873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8080" y="14940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8080" y="98496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8080" y="680400"/>
                <a:ext cx="567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080" y="372240"/>
                <a:ext cx="5749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3400" y="393948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3400" y="35337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3760" y="239544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3400" y="323028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3400" y="29268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3760" y="2617920"/>
                <a:ext cx="5749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7720" y="497052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7720" y="456444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400" y="5672520"/>
                <a:ext cx="567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34280" y="6395760"/>
                <a:ext cx="345960" cy="568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3400" y="62046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3400" y="5895000"/>
                <a:ext cx="5749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42520" y="3236760"/>
              <a:ext cx="6858000" cy="374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05560" y="3337560"/>
              <a:ext cx="6856200" cy="1717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556000" y="6427800"/>
            <a:ext cx="49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6360" y="642780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0F3-FCCA-4DFD-A498-8AE9E682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5512-1991-4226-8F4B-D7E59D29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860640"/>
            <a:ext cx="5183280" cy="20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tomata de pilha e L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O lema do bombeamento para L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Propriedades de fechamento para L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Construção de GLCs a partir de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Construção de APs a partir de G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Configurações em APD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figuração instantâne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um APD é um tripla      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, em qu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estad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cadeia não processada 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conteúdo da pilha (símbolo mais à esquerda no top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função       é definida por                                   e indica que a configuração                pode ser obtida a partir da configuração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 uma transição do APD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notação                                   indica que a configuração                pode ser obtida a partir da configuração                 por zero ou mais transições do APD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800600" y="2057400"/>
                <a:ext cx="2360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743200" y="2590920"/>
                <a:ext cx="1028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95280" y="3048120"/>
                <a:ext cx="1054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362320" y="3505320"/>
                <a:ext cx="23605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772400" y="3429000"/>
                <a:ext cx="1028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1320" y="3962520"/>
                <a:ext cx="1054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429000" y="343548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658600" y="2144880"/>
            <a:ext cx="605520" cy="668160"/>
            <a:chOff x="2658600" y="2144880"/>
            <a:chExt cx="605520" cy="668160"/>
          </a:xfrm>
        </p:grpSpPr>
        <p:sp>
          <p:nvSpPr>
            <p:cNvPr id="397" name=""/>
            <p:cNvSpPr/>
            <p:nvPr/>
          </p:nvSpPr>
          <p:spPr>
            <a:xfrm rot="5400000">
              <a:off x="2746800" y="20563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12760" y="2292480"/>
              <a:ext cx="3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630400" y="2068560"/>
            <a:ext cx="605520" cy="668160"/>
            <a:chOff x="5630400" y="2068560"/>
            <a:chExt cx="605520" cy="668160"/>
          </a:xfrm>
        </p:grpSpPr>
        <p:sp>
          <p:nvSpPr>
            <p:cNvPr id="400" name=""/>
            <p:cNvSpPr/>
            <p:nvPr/>
          </p:nvSpPr>
          <p:spPr>
            <a:xfrm rot="5400000">
              <a:off x="5718600" y="1980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84560" y="2216160"/>
              <a:ext cx="3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192120" y="3516480"/>
            <a:ext cx="605520" cy="668160"/>
            <a:chOff x="3192120" y="3516480"/>
            <a:chExt cx="605520" cy="668160"/>
          </a:xfrm>
        </p:grpSpPr>
        <p:sp>
          <p:nvSpPr>
            <p:cNvPr id="403" name=""/>
            <p:cNvSpPr/>
            <p:nvPr/>
          </p:nvSpPr>
          <p:spPr>
            <a:xfrm rot="5400000">
              <a:off x="3280320" y="34279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46280" y="3664080"/>
              <a:ext cx="3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F705-92BC-4331-B942-0F7447491F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Configurações em APDs: Exempl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1020960"/>
            <a:ext cx="34322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M: Q=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={a,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={A,$}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F={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532080"/>
            <a:ext cx="426708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$]}    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b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b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2670840"/>
            <a:ext cx="807732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Computação para 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aabb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terminou em estado final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cade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</a:rPr>
              <a:t>aceit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pelo 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383280"/>
            <a:ext cx="419112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=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={a,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={A,$}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F=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3223080"/>
            <a:ext cx="457200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$]}     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   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A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b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A]}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b,A)=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abb,A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680280" y="46000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bb,A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4360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b,A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4746960" y="46000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7020360" y="4622400"/>
            <a:ext cx="2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277960"/>
            <a:ext cx="822960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Computação para 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abbb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não terminou 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cadeia não 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</a:rPr>
              <a:t>aceit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pelo 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057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aabb,</a:t>
            </a:r>
            <a:r>
              <a:rPr b="0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aabb, $]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aabb, A$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abb, A$] 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bb, A$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b, A$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 A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652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2584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9744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9272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3572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02400" y="22096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abb,</a:t>
            </a:r>
            <a:r>
              <a:rPr b="0" lang="pt-B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54240" y="47242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abb,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20920" y="4724280"/>
            <a:ext cx="54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465984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,bb,AA$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5973480" y="466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998D-7742-4185-B507-B2FE5C2C9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PDs e Linguagens Livres de Contex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orema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homsky, 196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L é uma linguagem livre de contexto sss L é aceita por algum APD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aceita por pilha vazia (ou por estado fi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ogo ao teorema de Kleene para AFs e linguagens regula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va: Sipser, págs. 107/1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B268-0960-4534-AD2F-AAB07129BB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003366"/>
                </a:solidFill>
                <a:latin typeface="Times New Roman"/>
              </a:rPr>
              <a:t>Pumping Lemma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para Linguagens Livres de Contex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L uma linguagem livre de contexto. Então existe uma constante n (dependente apenas da linguagem L) tal que, se z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 e length(z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, podemos escrever z=uvwxy de mo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vx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vwx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 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 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, para todo 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sponde ao bombeament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u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bcadeias separadas por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no caso de linguagens regulares, posso usar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mostrar que uma linguage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 é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ivre de contexto. A idéia é prestar atenção especial às subcadeias bombeadas v e x, e, assumindo que a linguagem seja LC, tentar chegar a alguma contrad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F7EB-823D-4E60-9B97-20B80B3012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mplo 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 que L={a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| i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1}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ponha que L seja LC. Então, vale 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umping lemma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 existe um n correspondente. Seja z = a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L. Como length(z)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, então posso escrev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z = uvwxy, com length(v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, length(vw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, e uv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) vx não pode conter a’s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’s, pois teria que colocar n b’s entre eles (impossível, pois length (vw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) v e x não podem ter apenas a’s, pois se assim fosse tería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y = uwy com n b’s e n c’s, mas menos do que n a’s, já que alguns destes estariam em vx (pois length(v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). Assim, não poderia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i) vx não pode conter apenas a’s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b’s, pois se assim fosse tería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y = uwy com n c’s, mas menos do que n a’s ou b’s, já que alguns destes estariam em vx (pois length(v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). Assim, não poderia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), v e x não podem ter apenas b’s ou c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i), vx não pode conter apenas a’s e c’s ou b’s e c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im, z=uvwx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(por hipótese), mas v e x não podem ser formados por nenhuma combinação de símbolos do alfabeto da linguagem L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radição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L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5EDE-1F43-46B0-A888-C4BE6359A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mplo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e que L={a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| i, k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1}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ponha que L seja L.C. Então, vale 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umping lemma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 existe um n correspondente. Seja z = a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L. Como length(z)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, então posso escrev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z = uvwxy, com length(v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, length(vwx)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, e uv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) vx não pode conter mais do que dois símbolos diferentes e consecutivos, pois senão teríamos length(vwx)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) Se vx tivesse apenas a’s, então uwy teria menos a’s do que c’s e não poderíamos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’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’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i) Se vx tivesse apenas a’s e b’s, então ainda assim uwy teria menos a’s do que c’s e não poderíamos escrever uw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como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’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k’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), v e x não podem ter só b’s, c’s ou d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 raciocínio análogo a iii), vx não pode conter apenas b’s e c’s ou c’s e d’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im, z=uvwxy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 (por hipótese), mas v e x não podem ser formados por nenhuma combinação de símbolos do alfabeto da linguagem L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radição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L não é livre de contex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4C48-35E9-4724-B5EB-E4026BD66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mplo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ve que L={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ength(w) é primo} não é livre de con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nha que L seja L.C. Então, vale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existe um n correspondente: Seja z = 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, com k um número primo maior do que n. Como length(z)=k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, então posso escre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 = uvwxy, com length(v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 length(vw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, e uv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wx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m = length(u) + length(w) + length(y). Então, o comprimento de qualquer cadeia z = u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uwy)+ length(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length(uwy) + i length(vx) = m + i (k-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articular, length(u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) = m + (k+1)(k-m) = k(k-m+1), que é divisível por k!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adiçã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C2B4-427C-418D-A3F1-4ECE0BA30D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LLCs : Propriedades de Fechamen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inguagens Livres de Contexto são fechadas sob as operaçõ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ão / Concatenação / Fechamento de Kleene / Homomorfismo / Homomorfismo in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L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linguagem regular e L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linguagem livre de contexto. Então L = L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livre de con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inguagens Livres de Contexto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fechadas sob as operaçõ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secção / Co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5AF4-BB46-4B33-B853-CA2D0E31B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tomata de Pilha e Máquinas de Est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 autômato de pilha é u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 de estados com uma pilha LI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registrador de estado interno (controle finito) + uma fita segmentada + cabeça de leitura + pilha LI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971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33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048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e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209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4382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e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7339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ta: armazena uma cadeia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1 símbolo/segment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ha: armazena uma cadeia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1 símbolo/segm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beça: lê segmento da f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gistrador: altera estado e conteúdo do topo da pilha de acordo com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move fita um segmento para a esquer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 computaç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rm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ndo a cadeia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 fita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“acab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2004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89548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2590920"/>
            <a:ext cx="7621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1722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0"/>
            <a:endCxn id="146" idx="0"/>
          </p:cNvCxnSpPr>
          <p:nvPr/>
        </p:nvCxnSpPr>
        <p:spPr>
          <a:xfrm flipH="1" flipV="1" rot="5400000">
            <a:off x="5828760" y="2247480"/>
            <a:ext cx="381600" cy="106740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0"/>
            <a:endCxn id="150" idx="0"/>
          </p:cNvCxnSpPr>
          <p:nvPr/>
        </p:nvCxnSpPr>
        <p:spPr>
          <a:xfrm flipH="1" rot="16200000">
            <a:off x="6934320" y="2209320"/>
            <a:ext cx="305280" cy="1067760"/>
          </a:xfrm>
          <a:prstGeom prst="curvedConnector5">
            <a:avLst>
              <a:gd name="adj1" fmla="val -173435"/>
              <a:gd name="adj2" fmla="val 49983"/>
              <a:gd name="adj3" fmla="val -1734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69343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6129-4288-4633-A690-B9A3F47F6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m Exemp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 para reconhecer {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| n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o ler a na fita, copio-o para a pilha. Ao ler b na fita, retiro o a do topo da pi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a cadeia termina exatamente quando a pilha esvazia, aceito a ent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  a   b    b                        a   a   b   b                          a   a    b 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  a    b   b                                    a   a   b 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2133720"/>
            <a:ext cx="1981080" cy="1752480"/>
            <a:chOff x="685800" y="2133720"/>
            <a:chExt cx="1981080" cy="1752480"/>
          </a:xfrm>
        </p:grpSpPr>
        <p:grpSp>
          <p:nvGrpSpPr>
            <p:cNvPr id="157" name=""/>
            <p:cNvGrpSpPr/>
            <p:nvPr/>
          </p:nvGrpSpPr>
          <p:grpSpPr>
            <a:xfrm>
              <a:off x="838080" y="2133720"/>
              <a:ext cx="1828800" cy="304560"/>
              <a:chOff x="838080" y="2133720"/>
              <a:chExt cx="1828800" cy="3045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80" y="213372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4264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4756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5704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52480" y="213372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196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85800" y="30481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31240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99072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905120" y="2742840"/>
              <a:ext cx="761760" cy="1143360"/>
              <a:chOff x="1905120" y="2742840"/>
              <a:chExt cx="761760" cy="1143360"/>
            </a:xfrm>
          </p:grpSpPr>
          <p:sp>
            <p:nvSpPr>
              <p:cNvPr id="168" name=""/>
              <p:cNvSpPr/>
              <p:nvPr/>
            </p:nvSpPr>
            <p:spPr>
              <a:xfrm>
                <a:off x="1905120" y="358128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05120" y="327636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05120" y="2971800"/>
                <a:ext cx="761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1905120" y="2743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666880" y="2742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3200400" y="2133720"/>
            <a:ext cx="1828800" cy="304560"/>
            <a:chOff x="3200400" y="2133720"/>
            <a:chExt cx="1828800" cy="304560"/>
          </a:xfrm>
        </p:grpSpPr>
        <p:sp>
          <p:nvSpPr>
            <p:cNvPr id="174" name=""/>
            <p:cNvSpPr/>
            <p:nvPr/>
          </p:nvSpPr>
          <p:spPr>
            <a:xfrm>
              <a:off x="3200400" y="2133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4960" y="2133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2133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19360" y="2133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14800" y="2133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21337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352680" y="3048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6576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0" y="2742840"/>
            <a:ext cx="762120" cy="1143360"/>
            <a:chOff x="4572000" y="2742840"/>
            <a:chExt cx="762120" cy="1143360"/>
          </a:xfrm>
        </p:grpSpPr>
        <p:sp>
          <p:nvSpPr>
            <p:cNvPr id="184" name=""/>
            <p:cNvSpPr/>
            <p:nvPr/>
          </p:nvSpPr>
          <p:spPr>
            <a:xfrm>
              <a:off x="4572000" y="358128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32763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2971800"/>
              <a:ext cx="7621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72000" y="2743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33412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7242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715000" y="2133720"/>
            <a:ext cx="2438280" cy="1907280"/>
            <a:chOff x="5715000" y="2133720"/>
            <a:chExt cx="2438280" cy="1907280"/>
          </a:xfrm>
        </p:grpSpPr>
        <p:grpSp>
          <p:nvGrpSpPr>
            <p:cNvPr id="191" name=""/>
            <p:cNvGrpSpPr/>
            <p:nvPr/>
          </p:nvGrpSpPr>
          <p:grpSpPr>
            <a:xfrm>
              <a:off x="5715000" y="2133720"/>
              <a:ext cx="1828800" cy="304560"/>
              <a:chOff x="5715000" y="2133720"/>
              <a:chExt cx="1828800" cy="30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5715000" y="213372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956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448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3396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29400" y="2133720"/>
                <a:ext cx="3045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38880" y="2133720"/>
                <a:ext cx="3049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172200" y="304776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8520" y="31240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771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391520" y="2742840"/>
              <a:ext cx="761760" cy="1142640"/>
              <a:chOff x="7391520" y="2742840"/>
              <a:chExt cx="761760" cy="1142640"/>
            </a:xfrm>
          </p:grpSpPr>
          <p:sp>
            <p:nvSpPr>
              <p:cNvPr id="202" name=""/>
              <p:cNvSpPr/>
              <p:nvPr/>
            </p:nvSpPr>
            <p:spPr>
              <a:xfrm>
                <a:off x="7391520" y="3580920"/>
                <a:ext cx="761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91520" y="3276000"/>
                <a:ext cx="761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91520" y="2971440"/>
                <a:ext cx="761760" cy="304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7391520" y="274284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153280" y="27432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543800" y="3581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43800" y="3276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05920" y="2743200"/>
            <a:ext cx="685800" cy="2362320"/>
          </a:xfrm>
          <a:custGeom>
            <a:avLst/>
            <a:gdLst>
              <a:gd name="textAreaLeft" fmla="*/ 91800 w 685800"/>
              <a:gd name="textAreaRight" fmla="*/ 594000 w 685800"/>
              <a:gd name="textAreaTop" fmla="*/ 413280 h 2362320"/>
              <a:gd name="textAreaBottom" fmla="*/ 17128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2971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2971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791320" y="4191120"/>
            <a:ext cx="1828800" cy="304560"/>
            <a:chOff x="5791320" y="4191120"/>
            <a:chExt cx="1828800" cy="304560"/>
          </a:xfrm>
        </p:grpSpPr>
        <p:sp>
          <p:nvSpPr>
            <p:cNvPr id="213" name=""/>
            <p:cNvSpPr/>
            <p:nvPr/>
          </p:nvSpPr>
          <p:spPr>
            <a:xfrm>
              <a:off x="5791320" y="41911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588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080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1028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41911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520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553080" y="51055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5181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8580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467480" y="4800240"/>
            <a:ext cx="762120" cy="1143360"/>
            <a:chOff x="7467480" y="4800240"/>
            <a:chExt cx="762120" cy="1143360"/>
          </a:xfrm>
        </p:grpSpPr>
        <p:sp>
          <p:nvSpPr>
            <p:cNvPr id="223" name=""/>
            <p:cNvSpPr/>
            <p:nvPr/>
          </p:nvSpPr>
          <p:spPr>
            <a:xfrm>
              <a:off x="7467480" y="563868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67480" y="53337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7480" y="5029200"/>
              <a:ext cx="7621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467480" y="4800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229600" y="4800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620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800600"/>
            <a:ext cx="380880" cy="457200"/>
          </a:xfrm>
          <a:prstGeom prst="lef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743200" y="4191120"/>
            <a:ext cx="1828800" cy="304560"/>
            <a:chOff x="2743200" y="4191120"/>
            <a:chExt cx="1828800" cy="304560"/>
          </a:xfrm>
        </p:grpSpPr>
        <p:sp>
          <p:nvSpPr>
            <p:cNvPr id="231" name=""/>
            <p:cNvSpPr/>
            <p:nvPr/>
          </p:nvSpPr>
          <p:spPr>
            <a:xfrm>
              <a:off x="2743200" y="41911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776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5268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216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600" y="41911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19112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09880" y="51055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181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14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495680" y="4800240"/>
            <a:ext cx="762120" cy="1143360"/>
            <a:chOff x="4495680" y="4800240"/>
            <a:chExt cx="762120" cy="1143360"/>
          </a:xfrm>
        </p:grpSpPr>
        <p:sp>
          <p:nvSpPr>
            <p:cNvPr id="241" name=""/>
            <p:cNvSpPr/>
            <p:nvPr/>
          </p:nvSpPr>
          <p:spPr>
            <a:xfrm>
              <a:off x="4495680" y="563868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53337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5680" y="5029200"/>
              <a:ext cx="7621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495680" y="4800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257800" y="4800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438280" y="4952880"/>
            <a:ext cx="381240" cy="457200"/>
          </a:xfrm>
          <a:prstGeom prst="lef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10552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51055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C044-F538-4005-9A1E-5F9A41AEC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utômato de Pilha: Definição Forma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ilha adiciona memória ao autômato finito determinístico us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mbém chamado 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autômato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push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lmente:  M=(Q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F), 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 = conjunto de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alfabeto da f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alfabeto da pilha (inclui um símbolo especial $, indicador de pilha vaz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 = estado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função de transição Q X (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) X (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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) em subconjuntos de Q X (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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=conjunto de estados fin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utaçã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um AP é uma sequência de transições a partir da situação in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eia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eita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o AP se a computação termina em um estado q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eia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jeitada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o AP se a computação termina em um estado q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tuação inicial: estado inicial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ilha vaz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imeiro passo: transição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locar $ na pilha, indicando pilha vaz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4956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F88D-3DC3-4217-81CE-1DD141A23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Função de Transição </a:t>
            </a:r>
            <a:r>
              <a:rPr b="0" lang="en-US" sz="4000" spc="-1" strike="noStrike">
                <a:solidFill>
                  <a:srgbClr val="003366"/>
                </a:solidFill>
                <a:latin typeface="Symbol"/>
                <a:ea typeface="Symbol"/>
              </a:rPr>
              <a:t>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 X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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) X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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bconjuntos de Q X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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do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ímbolo a lido na fita, símbolo A no topo da pilha lido e retirado. Estado resultant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ímbolo B colocado no topo da pil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: Poderia ter, por exemplo: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, A) = {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],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]}  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AP admite transições não-determinística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1447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15880" y="17589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1523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332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ímbolo lido na 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523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2917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ímbolo lido no topo da pilha e reti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00800" y="15238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1388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possíveis configurações (estado, símbolo colocado no topo da pilha) resul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3206880"/>
            <a:ext cx="2438280" cy="702720"/>
            <a:chOff x="4495680" y="3206880"/>
            <a:chExt cx="2438280" cy="702720"/>
          </a:xfrm>
        </p:grpSpPr>
        <p:sp>
          <p:nvSpPr>
            <p:cNvPr id="263" name=""/>
            <p:cNvSpPr/>
            <p:nvPr/>
          </p:nvSpPr>
          <p:spPr>
            <a:xfrm>
              <a:off x="4495680" y="335304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00440" y="335304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86040" y="3330000"/>
              <a:ext cx="34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1160" y="3330000"/>
              <a:ext cx="34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3" idx="6"/>
              <a:endCxn id="264" idx="2"/>
            </p:cNvCxnSpPr>
            <p:nvPr/>
          </p:nvCxnSpPr>
          <p:spPr>
            <a:xfrm>
              <a:off x="5028840" y="3619440"/>
              <a:ext cx="1372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5376600" y="32068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a,A/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676520" y="3407040"/>
            <a:ext cx="25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a, A) = {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B]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E4B3-B307-4DDE-9F97-9D79DACCF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resentação por Diagrama de Estados: Exempl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89640" y="1530360"/>
            <a:ext cx="1117080" cy="1235880"/>
            <a:chOff x="989640" y="1530360"/>
            <a:chExt cx="1117080" cy="1235880"/>
          </a:xfrm>
        </p:grpSpPr>
        <p:sp>
          <p:nvSpPr>
            <p:cNvPr id="272" name=""/>
            <p:cNvSpPr/>
            <p:nvPr/>
          </p:nvSpPr>
          <p:spPr>
            <a:xfrm>
              <a:off x="1295640" y="153036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A/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989640" y="1827360"/>
              <a:ext cx="991800" cy="938880"/>
              <a:chOff x="989640" y="1827360"/>
              <a:chExt cx="991800" cy="93888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9320" y="2057400"/>
                <a:ext cx="76212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62320" y="2186640"/>
                <a:ext cx="34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6" name=""/>
              <p:cNvCxnSpPr>
                <a:stCxn id="274" idx="0"/>
                <a:endCxn id="274" idx="2"/>
              </p:cNvCxnSpPr>
              <p:nvPr/>
            </p:nvCxnSpPr>
            <p:spPr>
              <a:xfrm rot="5400000">
                <a:off x="1237680" y="2037240"/>
                <a:ext cx="343800" cy="381960"/>
              </a:xfrm>
              <a:prstGeom prst="curvedConnector5">
                <a:avLst>
                  <a:gd name="adj1" fmla="val -66666"/>
                  <a:gd name="adj2" fmla="val 80000"/>
                  <a:gd name="adj3" fmla="val -66666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77" name=""/>
          <p:cNvGrpSpPr/>
          <p:nvPr/>
        </p:nvGrpSpPr>
        <p:grpSpPr>
          <a:xfrm>
            <a:off x="990360" y="3054600"/>
            <a:ext cx="1191960" cy="1159560"/>
            <a:chOff x="990360" y="3054600"/>
            <a:chExt cx="1191960" cy="1159560"/>
          </a:xfrm>
        </p:grpSpPr>
        <p:grpSp>
          <p:nvGrpSpPr>
            <p:cNvPr id="278" name=""/>
            <p:cNvGrpSpPr/>
            <p:nvPr/>
          </p:nvGrpSpPr>
          <p:grpSpPr>
            <a:xfrm>
              <a:off x="990360" y="3275280"/>
              <a:ext cx="990720" cy="938880"/>
              <a:chOff x="990360" y="3275280"/>
              <a:chExt cx="990720" cy="938880"/>
            </a:xfrm>
          </p:grpSpPr>
          <p:sp>
            <p:nvSpPr>
              <p:cNvPr id="279" name=""/>
              <p:cNvSpPr/>
              <p:nvPr/>
            </p:nvSpPr>
            <p:spPr>
              <a:xfrm>
                <a:off x="1219320" y="3505320"/>
                <a:ext cx="76176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61960" y="3634560"/>
                <a:ext cx="34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1" name=""/>
              <p:cNvCxnSpPr>
                <a:stCxn id="279" idx="0"/>
                <a:endCxn id="279" idx="2"/>
              </p:cNvCxnSpPr>
              <p:nvPr/>
            </p:nvCxnSpPr>
            <p:spPr>
              <a:xfrm rot="5400000">
                <a:off x="1237680" y="3485520"/>
                <a:ext cx="343800" cy="381600"/>
              </a:xfrm>
              <a:prstGeom prst="curvedConnector5">
                <a:avLst>
                  <a:gd name="adj1" fmla="val -66666"/>
                  <a:gd name="adj2" fmla="val 79981"/>
                  <a:gd name="adj3" fmla="val -66666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2" name=""/>
            <p:cNvSpPr/>
            <p:nvPr/>
          </p:nvSpPr>
          <p:spPr>
            <a:xfrm>
              <a:off x="1371600" y="3054600"/>
              <a:ext cx="81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/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362320" y="13021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enhum símbolo lido na fita,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é lido e retirado da pilha, nada é colocado no topo da pil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1154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ímbolo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lido na fita, nada lido da pilha,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é colocado no topo da pil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4114800"/>
            <a:ext cx="5105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ímbolo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lido na fita, símbolo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lido e retirado do topo da pilha, símbolo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colocado na pil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313160" y="2133720"/>
                <a:ext cx="22701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336920" y="3352680"/>
                <a:ext cx="2248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336920" y="5105520"/>
                <a:ext cx="2316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219320" y="4876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2320" y="5006160"/>
            <a:ext cx="34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4876920"/>
            <a:ext cx="762120" cy="6858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9" idx="6"/>
            <a:endCxn id="291" idx="2"/>
          </p:cNvCxnSpPr>
          <p:nvPr/>
        </p:nvCxnSpPr>
        <p:spPr>
          <a:xfrm>
            <a:off x="1980720" y="5219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1905120" y="4807080"/>
            <a:ext cx="8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 A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4929840"/>
            <a:ext cx="38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8D28-763B-434D-81F2-3C3AFBB4A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xemplo 1: AP para L={a</a:t>
            </a:r>
            <a:r>
              <a:rPr b="0" lang="pt-BR" sz="3200" spc="-1" strike="noStrike" baseline="30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b</a:t>
            </a:r>
            <a:r>
              <a:rPr b="0" lang="pt-BR" sz="3200" spc="-1" strike="noStrike" baseline="30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| n </a:t>
            </a:r>
            <a:r>
              <a:rPr b="0" lang="pt-BR" sz="32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a,b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0,$}, F=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371600" y="1447920"/>
          <a:ext cx="6629400" cy="2239920"/>
        </p:xfrm>
        <a:graphic>
          <a:graphicData uri="http://schemas.openxmlformats.org/drawingml/2006/table">
            <a:tbl>
              <a:tblPr/>
              <a:tblGrid>
                <a:gridCol w="990720"/>
                <a:gridCol w="380880"/>
                <a:gridCol w="380880"/>
                <a:gridCol w="914400"/>
                <a:gridCol w="914400"/>
                <a:gridCol w="381240"/>
                <a:gridCol w="380880"/>
                <a:gridCol w="533520"/>
                <a:gridCol w="914400"/>
                <a:gridCol w="83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(q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$)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(q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)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(q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(q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(q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pt-B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4114800"/>
            <a:ext cx="533160" cy="5335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5410080"/>
            <a:ext cx="533160" cy="5335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5410080"/>
            <a:ext cx="533520" cy="53352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4267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971440" y="4343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8" idx="6"/>
            <a:endCxn id="299" idx="2"/>
          </p:cNvCxnSpPr>
          <p:nvPr/>
        </p:nvCxnSpPr>
        <p:spPr>
          <a:xfrm>
            <a:off x="3679560" y="4381200"/>
            <a:ext cx="119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9" idx="4"/>
            <a:endCxn id="300" idx="0"/>
          </p:cNvCxnSpPr>
          <p:nvPr/>
        </p:nvCxnSpPr>
        <p:spPr>
          <a:xfrm>
            <a:off x="5143320" y="4648320"/>
            <a:ext cx="10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0" idx="2"/>
            <a:endCxn id="301" idx="6"/>
          </p:cNvCxnSpPr>
          <p:nvPr/>
        </p:nvCxnSpPr>
        <p:spPr>
          <a:xfrm flipH="1">
            <a:off x="3679560" y="5676480"/>
            <a:ext cx="119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9" idx="7"/>
            <a:endCxn id="299" idx="5"/>
          </p:cNvCxnSpPr>
          <p:nvPr/>
        </p:nvCxnSpPr>
        <p:spPr>
          <a:xfrm flipH="1" rot="16200000">
            <a:off x="5144040" y="4380480"/>
            <a:ext cx="378720" cy="2520"/>
          </a:xfrm>
          <a:prstGeom prst="curvedConnector5">
            <a:avLst>
              <a:gd name="adj1" fmla="val -24357"/>
              <a:gd name="adj2" fmla="val 15183333"/>
              <a:gd name="adj3" fmla="val -243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 flipH="1" rot="16200000">
            <a:off x="5145840" y="5674320"/>
            <a:ext cx="378720" cy="2160"/>
          </a:xfrm>
          <a:prstGeom prst="curvedConnector5">
            <a:avLst>
              <a:gd name="adj1" fmla="val -24357"/>
              <a:gd name="adj2" fmla="val 15180000"/>
              <a:gd name="adj3" fmla="val -243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124080" y="4191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4191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5486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5486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7242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$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, 0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, 0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$/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837C-EDDE-41DC-9CE6-ADB946389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Exemplo 2: AP para L={a</a:t>
            </a:r>
            <a:r>
              <a:rPr b="0" lang="pt-BR" sz="2800" spc="-1" strike="noStrike" baseline="30000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b</a:t>
            </a:r>
            <a:r>
              <a:rPr b="0" lang="pt-BR" sz="2800" spc="-1" strike="noStrike" baseline="3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c</a:t>
            </a:r>
            <a:r>
              <a:rPr b="0" lang="pt-BR" sz="2800" spc="-1" strike="noStrike" baseline="30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| i,j,k </a:t>
            </a:r>
            <a:r>
              <a:rPr b="0" lang="pt-BR" sz="2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0 e i=j ou i=k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a,b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{a,$}, F=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7242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17524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752480"/>
            <a:ext cx="533160" cy="5335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3048120"/>
            <a:ext cx="533520" cy="5331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1752480"/>
            <a:ext cx="533520" cy="53352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905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59984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1"/>
            <a:endCxn id="323" idx="3"/>
          </p:cNvCxnSpPr>
          <p:nvPr/>
        </p:nvCxnSpPr>
        <p:spPr>
          <a:xfrm flipH="1" rot="16200000">
            <a:off x="3394800" y="2018160"/>
            <a:ext cx="378720" cy="2160"/>
          </a:xfrm>
          <a:prstGeom prst="curvedConnector5">
            <a:avLst>
              <a:gd name="adj1" fmla="val -24357"/>
              <a:gd name="adj2" fmla="val -14400000"/>
              <a:gd name="adj3" fmla="val -243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1752480" y="18288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1828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1828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1752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$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3048120"/>
            <a:ext cx="533520" cy="5331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3048120"/>
            <a:ext cx="533520" cy="53316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3048120"/>
            <a:ext cx="533520" cy="5331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24" idx="7"/>
            <a:endCxn id="323" idx="4"/>
          </p:cNvCxnSpPr>
          <p:nvPr/>
        </p:nvCxnSpPr>
        <p:spPr>
          <a:xfrm flipV="1">
            <a:off x="3122640" y="2285280"/>
            <a:ext cx="6501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24" idx="3"/>
            <a:endCxn id="324" idx="5"/>
          </p:cNvCxnSpPr>
          <p:nvPr/>
        </p:nvCxnSpPr>
        <p:spPr>
          <a:xfrm flipH="1" rot="16200000">
            <a:off x="2932560" y="3314880"/>
            <a:ext cx="2520" cy="378720"/>
          </a:xfrm>
          <a:prstGeom prst="curvedConnector5">
            <a:avLst>
              <a:gd name="adj1" fmla="val 19300000"/>
              <a:gd name="adj2" fmla="val 49952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24" idx="6"/>
            <a:endCxn id="333" idx="2"/>
          </p:cNvCxnSpPr>
          <p:nvPr/>
        </p:nvCxnSpPr>
        <p:spPr>
          <a:xfrm>
            <a:off x="3200040" y="331452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6"/>
            <a:endCxn id="335" idx="2"/>
          </p:cNvCxnSpPr>
          <p:nvPr/>
        </p:nvCxnSpPr>
        <p:spPr>
          <a:xfrm>
            <a:off x="5257440" y="33145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5" idx="6"/>
            <a:endCxn id="334" idx="2"/>
          </p:cNvCxnSpPr>
          <p:nvPr/>
        </p:nvCxnSpPr>
        <p:spPr>
          <a:xfrm>
            <a:off x="6476760" y="3314520"/>
            <a:ext cx="58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3" idx="3"/>
            <a:endCxn id="333" idx="5"/>
          </p:cNvCxnSpPr>
          <p:nvPr/>
        </p:nvCxnSpPr>
        <p:spPr>
          <a:xfrm flipH="1" rot="16200000">
            <a:off x="4989960" y="3314880"/>
            <a:ext cx="2520" cy="378720"/>
          </a:xfrm>
          <a:prstGeom prst="curvedConnector5">
            <a:avLst>
              <a:gd name="adj1" fmla="val 19300000"/>
              <a:gd name="adj2" fmla="val 49952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5" idx="3"/>
            <a:endCxn id="335" idx="5"/>
          </p:cNvCxnSpPr>
          <p:nvPr/>
        </p:nvCxnSpPr>
        <p:spPr>
          <a:xfrm flipH="1" rot="16200000">
            <a:off x="6209280" y="3314880"/>
            <a:ext cx="2520" cy="378720"/>
          </a:xfrm>
          <a:prstGeom prst="curvedConnector5">
            <a:avLst>
              <a:gd name="adj1" fmla="val 19300000"/>
              <a:gd name="adj2" fmla="val 49952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5" idx="5"/>
            <a:endCxn id="325" idx="7"/>
          </p:cNvCxnSpPr>
          <p:nvPr/>
        </p:nvCxnSpPr>
        <p:spPr>
          <a:xfrm flipH="1" flipV="1" rot="5400000">
            <a:off x="5502960" y="2018160"/>
            <a:ext cx="423000" cy="2160"/>
          </a:xfrm>
          <a:prstGeom prst="curvedConnector5">
            <a:avLst>
              <a:gd name="adj1" fmla="val -23253"/>
              <a:gd name="adj2" fmla="val 15780000"/>
              <a:gd name="adj3" fmla="val -232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23" idx="6"/>
            <a:endCxn id="325" idx="2"/>
          </p:cNvCxnSpPr>
          <p:nvPr/>
        </p:nvCxnSpPr>
        <p:spPr>
          <a:xfrm>
            <a:off x="4038120" y="2018880"/>
            <a:ext cx="119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143000" y="4572000"/>
            <a:ext cx="7010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baseline="30000">
                <a:solidFill>
                  <a:srgbClr val="000000"/>
                </a:solidFill>
                <a:latin typeface="Times New Roman"/>
              </a:rPr>
              <a:t>Observe que este é não-determinístic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baseline="30000">
                <a:solidFill>
                  <a:srgbClr val="000000"/>
                </a:solidFill>
                <a:latin typeface="Times New Roman"/>
              </a:rPr>
              <a:t>Pode ser provado que o não determinismo deste AP é </a:t>
            </a:r>
            <a:r>
              <a:rPr b="0" i="1" lang="pt-BR" sz="3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essencial</a:t>
            </a:r>
            <a:r>
              <a:rPr b="0" i="1" lang="pt-BR" sz="3200" spc="-1" strike="noStrike" baseline="30000">
                <a:solidFill>
                  <a:srgbClr val="000000"/>
                </a:solidFill>
                <a:latin typeface="Times New Roman"/>
              </a:rPr>
              <a:t> para o reconhecimento de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3200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1687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3168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3168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2" idx="5"/>
            <a:endCxn id="324" idx="1"/>
          </p:cNvCxnSpPr>
          <p:nvPr/>
        </p:nvCxnSpPr>
        <p:spPr>
          <a:xfrm>
            <a:off x="2208240" y="2207880"/>
            <a:ext cx="53676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1447920" y="2558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$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2635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930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, a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397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930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3397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397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$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3930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, a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949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74C4-B14E-4AD4-B9B8-079B62206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xemplo 3: AP para L={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ww</a:t>
            </a:r>
            <a:r>
              <a:rPr b="0" lang="pt-BR" sz="3200" spc="-1" strike="noStrike" baseline="30000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| 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{0,1}</a:t>
            </a:r>
            <a:r>
              <a:rPr b="0" lang="pt-BR" sz="3200" spc="-1" strike="noStrike" baseline="30000">
                <a:solidFill>
                  <a:srgbClr val="003366"/>
                </a:solidFill>
                <a:latin typeface="Times New Roman"/>
              </a:rPr>
              <a:t>*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={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0,1}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0,1,$}, F={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a símbolos lidos para pil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da passo, tenta “adivinhar” se o meio da cadeia foi atingido, e retira um símbolo da pilha verificando se é o mesmo lido na f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cadeias aceitas, a pilha vai se esvaziar no momento que termina a leitura da cadeia ter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47242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24080" y="1813680"/>
            <a:ext cx="3810240" cy="2075040"/>
            <a:chOff x="3124080" y="1813680"/>
            <a:chExt cx="3810240" cy="2075040"/>
          </a:xfrm>
        </p:grpSpPr>
        <p:sp>
          <p:nvSpPr>
            <p:cNvPr id="365" name=""/>
            <p:cNvSpPr/>
            <p:nvPr/>
          </p:nvSpPr>
          <p:spPr>
            <a:xfrm>
              <a:off x="3276720" y="1828800"/>
              <a:ext cx="533160" cy="53316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200" y="1828800"/>
              <a:ext cx="533520" cy="5331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9200" y="3124080"/>
              <a:ext cx="533520" cy="533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3124080"/>
              <a:ext cx="533160" cy="53352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24080" y="19810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124080" y="205740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" name=""/>
            <p:cNvCxnSpPr>
              <a:stCxn id="365" idx="6"/>
              <a:endCxn id="366" idx="2"/>
            </p:cNvCxnSpPr>
            <p:nvPr/>
          </p:nvCxnSpPr>
          <p:spPr>
            <a:xfrm>
              <a:off x="3831840" y="2095200"/>
              <a:ext cx="1197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66" idx="4"/>
              <a:endCxn id="367" idx="0"/>
            </p:cNvCxnSpPr>
            <p:nvPr/>
          </p:nvCxnSpPr>
          <p:spPr>
            <a:xfrm>
              <a:off x="5295600" y="236160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7" idx="2"/>
              <a:endCxn id="368" idx="6"/>
            </p:cNvCxnSpPr>
            <p:nvPr/>
          </p:nvCxnSpPr>
          <p:spPr>
            <a:xfrm flipH="1">
              <a:off x="3831840" y="3390480"/>
              <a:ext cx="1197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66" idx="7"/>
              <a:endCxn id="366" idx="5"/>
            </p:cNvCxnSpPr>
            <p:nvPr/>
          </p:nvCxnSpPr>
          <p:spPr>
            <a:xfrm flipH="1" rot="16200000">
              <a:off x="5296680" y="2093400"/>
              <a:ext cx="378360" cy="2160"/>
            </a:xfrm>
            <a:prstGeom prst="curvedConnector5">
              <a:avLst>
                <a:gd name="adj1" fmla="val -24285"/>
                <a:gd name="adj2" fmla="val 15180000"/>
                <a:gd name="adj3" fmla="val -242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/>
            <p:nvPr/>
          </p:nvCxnSpPr>
          <p:spPr>
            <a:xfrm flipH="1" rot="16200000">
              <a:off x="5298120" y="3387240"/>
              <a:ext cx="378360" cy="2160"/>
            </a:xfrm>
            <a:prstGeom prst="curvedConnector5">
              <a:avLst>
                <a:gd name="adj1" fmla="val -24285"/>
                <a:gd name="adj2" fmla="val 15180000"/>
                <a:gd name="adj3" fmla="val -242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3276720" y="19047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19047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9200" y="32004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6720" y="32004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33920" y="1828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/$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81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,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/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52880" y="259056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38680" y="32004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, 0/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9880" y="3124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, $/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2209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/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38680" y="34290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, 1/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EEC7-F89F-4B1C-A2D6-2E0673246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C. Henrique</cp:lastModifiedBy>
  <cp:lastPrinted>2001-05-16T14:30:50Z</cp:lastPrinted>
  <dcterms:modified xsi:type="dcterms:W3CDTF">2006-05-09T18:08:55Z</dcterms:modified>
  <cp:revision>391</cp:revision>
  <dc:subject/>
  <dc:title>Automata de pilha e pumping lemma para GLCs</dc:title>
</cp:coreProperties>
</file>