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F427D-7C3F-4088-BB42-A0CBBDB7A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0C0B-CD8A-4A06-B68A-A05D54128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3E5B-A44C-4714-9C88-6C7328CAA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49FC-5D17-42AE-B001-C97D0BDEA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23675-DF86-4D7C-8C9D-8F7524F6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E1277-A970-491E-A18E-5D8F4A3D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69636-E851-4D1B-B2E0-A9770BA0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CCF40-21FA-49B8-8E29-25CA3299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36951-69FE-4B53-BEF6-E32AC975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68F66-2E96-4AA5-8D87-DD099727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EBC43-5659-47E0-819C-94469AED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96F9D-947C-4C3E-9A68-6BE37B5E5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80CB3-951B-4364-A1C3-62AE3656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27578-458F-47BE-98F8-698AA1A1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57A82-8562-474A-A8CF-EBDAB7B5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84FFA-DEC3-4C5A-8CAC-25DAD750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0CED0-13DA-4867-B6DC-9DDCC3EF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4744C-53C2-453C-B236-CCF67FEFE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1FD9-0FAC-4DDA-A215-8627AD8BD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C233-1F01-4C76-953F-B5D9CCB98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47D1B-7554-47E9-B75E-08CB763F0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64FF5-A511-4173-BA65-525CE614A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92A2-3899-4067-9C5A-46C57A5A0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E6B6-D363-4136-88D4-F45F9F9BC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685440" cy="6858000"/>
            <a:chOff x="-720" y="-4680"/>
            <a:chExt cx="68544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26640" y="-4680"/>
              <a:ext cx="652320" cy="6857640"/>
              <a:chOff x="26640" y="-4680"/>
              <a:chExt cx="65232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32400" y="-4680"/>
                <a:ext cx="63864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32400" y="1692720"/>
                <a:ext cx="6386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32400" y="128700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32400" y="149040"/>
                <a:ext cx="6386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32400" y="984600"/>
                <a:ext cx="6386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32400" y="680040"/>
                <a:ext cx="63864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32400" y="371880"/>
                <a:ext cx="64656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27360" y="3939480"/>
                <a:ext cx="638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27360" y="353376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27360" y="2395080"/>
                <a:ext cx="6386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7360" y="3230280"/>
                <a:ext cx="6386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27360" y="2926800"/>
                <a:ext cx="6386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7360" y="2617560"/>
                <a:ext cx="64656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32400" y="4970520"/>
                <a:ext cx="638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32400" y="456444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7360" y="5672520"/>
                <a:ext cx="63864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173160" y="6360120"/>
                <a:ext cx="345960" cy="639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27360" y="6204600"/>
                <a:ext cx="6386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27360" y="5895000"/>
                <a:ext cx="64656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219120" y="3213360"/>
              <a:ext cx="6858000" cy="4215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840040" y="3326760"/>
              <a:ext cx="6856200" cy="1933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2771640" y="6356520"/>
            <a:ext cx="460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956360" y="6356520"/>
            <a:ext cx="95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1EEC-7955-4D53-B79D-718CD45CE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4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5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D556-C103-4818-8C26-AF8B04B15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rlos@comp.ita.br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142200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CT200</a:t>
            </a:r>
            <a:br>
              <a:rPr sz="3600"/>
            </a:b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undamentos de Automata e Linguagens Formais</a:t>
            </a:r>
            <a:br>
              <a:rPr sz="2800"/>
            </a:br>
            <a:br>
              <a:rPr sz="28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. Carlos H. C. Ribeiro   </a:t>
            </a:r>
            <a:r>
              <a:rPr b="0" lang="pt-BR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carlos@comp.ita.br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Ramal: 5895   Sala: 106</a:t>
            </a:r>
            <a:br>
              <a:rPr sz="54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3860640"/>
            <a:ext cx="518328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AUL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Algoritmos de decisão p/ A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Minimização de automata fin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Teorema Myhill-Ne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emp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o AFD mínimo equivalente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26668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057400" y="1905120"/>
            <a:ext cx="5791320" cy="3634200"/>
            <a:chOff x="2057400" y="1905120"/>
            <a:chExt cx="5791320" cy="3634200"/>
          </a:xfrm>
        </p:grpSpPr>
        <p:grpSp>
          <p:nvGrpSpPr>
            <p:cNvPr id="271" name=""/>
            <p:cNvGrpSpPr/>
            <p:nvPr/>
          </p:nvGrpSpPr>
          <p:grpSpPr>
            <a:xfrm>
              <a:off x="2286000" y="2149560"/>
              <a:ext cx="5058720" cy="3318840"/>
              <a:chOff x="2286000" y="2149560"/>
              <a:chExt cx="5058720" cy="3318840"/>
            </a:xfrm>
          </p:grpSpPr>
          <p:sp>
            <p:nvSpPr>
              <p:cNvPr id="272" name=""/>
              <p:cNvSpPr/>
              <p:nvPr/>
            </p:nvSpPr>
            <p:spPr>
              <a:xfrm>
                <a:off x="2286000" y="242100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581280" y="24210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76920" y="242100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248520" y="242100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286000" y="3639960"/>
                <a:ext cx="609480" cy="60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81280" y="3639960"/>
                <a:ext cx="609840" cy="60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62720" y="356364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52680" y="4859280"/>
                <a:ext cx="609840" cy="60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95480" y="2725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191120" y="2725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895480" y="3944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4191120" y="3868200"/>
                <a:ext cx="1371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962520" y="4020840"/>
                <a:ext cx="167616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10080" y="2954160"/>
                <a:ext cx="30492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6019920" y="2877840"/>
                <a:ext cx="30456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7" name=""/>
              <p:cNvCxnSpPr>
                <a:stCxn id="273" idx="7"/>
                <a:endCxn id="275" idx="1"/>
              </p:cNvCxnSpPr>
              <p:nvPr/>
            </p:nvCxnSpPr>
            <p:spPr>
              <a:xfrm flipH="1" rot="16200000">
                <a:off x="5218560" y="1392480"/>
                <a:ext cx="2160" cy="2235600"/>
              </a:xfrm>
              <a:prstGeom prst="curvedConnector5">
                <a:avLst>
                  <a:gd name="adj1" fmla="val -20000000"/>
                  <a:gd name="adj2" fmla="val 49991"/>
                  <a:gd name="adj3" fmla="val -200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8" name=""/>
              <p:cNvCxnSpPr>
                <a:stCxn id="279" idx="1"/>
                <a:endCxn id="279" idx="3"/>
              </p:cNvCxnSpPr>
              <p:nvPr/>
            </p:nvCxnSpPr>
            <p:spPr>
              <a:xfrm flipH="1" rot="16200000">
                <a:off x="3226680" y="5162760"/>
                <a:ext cx="432000" cy="2520"/>
              </a:xfrm>
              <a:prstGeom prst="curvedConnector5">
                <a:avLst>
                  <a:gd name="adj1" fmla="val -16847"/>
                  <a:gd name="adj2" fmla="val -14200000"/>
                  <a:gd name="adj3" fmla="val -16847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9" name=""/>
              <p:cNvCxnSpPr>
                <a:stCxn id="278" idx="5"/>
                <a:endCxn id="278" idx="7"/>
              </p:cNvCxnSpPr>
              <p:nvPr/>
            </p:nvCxnSpPr>
            <p:spPr>
              <a:xfrm flipH="1" flipV="1" rot="5400000">
                <a:off x="5868000" y="3867120"/>
                <a:ext cx="432360" cy="2160"/>
              </a:xfrm>
              <a:prstGeom prst="curvedConnector5">
                <a:avLst>
                  <a:gd name="adj1" fmla="val -30500"/>
                  <a:gd name="adj2" fmla="val 15540000"/>
                  <a:gd name="adj3" fmla="val -305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0" name=""/>
              <p:cNvCxnSpPr>
                <a:stCxn id="275" idx="5"/>
                <a:endCxn id="275" idx="7"/>
              </p:cNvCxnSpPr>
              <p:nvPr/>
            </p:nvCxnSpPr>
            <p:spPr>
              <a:xfrm flipH="1" flipV="1" rot="5400000">
                <a:off x="6553800" y="2724120"/>
                <a:ext cx="432360" cy="2160"/>
              </a:xfrm>
              <a:prstGeom prst="curvedConnector5">
                <a:avLst>
                  <a:gd name="adj1" fmla="val -20583"/>
                  <a:gd name="adj2" fmla="val 15980000"/>
                  <a:gd name="adj3" fmla="val -20583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91" name=""/>
            <p:cNvSpPr/>
            <p:nvPr/>
          </p:nvSpPr>
          <p:spPr>
            <a:xfrm>
              <a:off x="2286000" y="25909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25909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00600" y="25909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72200" y="25909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9680" y="38098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80988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86400" y="37339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76720" y="502920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576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528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244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62320" y="37339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7600" y="37339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29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1800" y="2438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43400" y="2438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581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95680" y="3581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14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48320" y="45720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86600" y="2514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0080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769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43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5288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90920" y="30481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19520" y="4191120"/>
              <a:ext cx="76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74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90920" y="4419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E6D96-879F-4888-9FFE-474136518A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080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lembrando: Relações de Equivalênc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447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1640" y="836640"/>
            <a:ext cx="7848360" cy="65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 relação binária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obre um conjunto X é de equivalência 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ara todo a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X (propriedade reflexiv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 e b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 implica a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 para todo a,b,c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X (propriedade transitiv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 implica b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ara todo a,b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 (propriedade de simetr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lasse de equivalênci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c.e.) sobr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um element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X é o conju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X |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Ou seja: a classe de equivalência do elemento a é o subconjunto formado por aqueles elementos de X que se relacionam com a pela relação de equivalência em quest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priedade 1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eja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a relação de equivalência sobre X, e sejam a e b elementos de X. Então, [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 [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Ou seja: classes de equivalência sobre X formam uma família disjunta de subconjuntos de 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priedade 2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eja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a relação de equivalência sobre X. As c.e.s d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rmam uma partição sobre 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Ou seja: a união de classes de equivalência sobre X formam o conjunto X, e as classes de equivalência são disjuntas entre s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3645000"/>
            <a:ext cx="792144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96B4-67DC-4B37-A976-62F38AE048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73240" y="43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quivalência de cadei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83170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f.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eja L uma linguagem sobre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Duas cadeia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não-di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íveis (ou equivalentes) em L (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, para tod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w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w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stão em L; 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w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w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ão estão em 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u seja: se existir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ao menos uma cadeia </a:t>
            </a: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tal qu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uw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esteja em L 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w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não esteja em L (ou vice-versa), então u e v são dist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íve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orema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ara qualquer linguagem L, a relação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relação de equivalê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Prov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reflexiva, poi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para tod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 ,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ão (ou não) ambos em 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simétrica, pois 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ntã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: para tod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u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ão ambos em L, entã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ão ambos em 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ão estão em L, entã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ão estão em 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transitiva, pois 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entã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: para tod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ão em L (para todo w)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y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ão em L (para todo w), entã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y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ão em L (para todo 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ão estão em L (para todo w)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y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ão estão em L (para todo w), entã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y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ão estão em L (para todo 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C27C-C30B-4837-BA9F-C75F5B0E31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3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quivalência de cadeias: Exemplo 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55280" y="7650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a e ab são indis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íve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b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ão ambos em L 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um número par de b’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b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ão estão em L para qualquer outr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 e ba são indis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íve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ba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ão estão em L para nenhu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e ab são dis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íve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á em L par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ão está em L par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asses de equivalência d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042920" y="4149720"/>
          <a:ext cx="7613640" cy="2133720"/>
        </p:xfrm>
        <a:graphic>
          <a:graphicData uri="http://schemas.openxmlformats.org/drawingml/2006/table">
            <a:tbl>
              <a:tblPr/>
              <a:tblGrid>
                <a:gridCol w="2376360"/>
                <a:gridCol w="5237280"/>
              </a:tblGrid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o represent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de equivalê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ε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]</a:t>
                      </a:r>
                      <a:r>
                        <a:rPr b="0" lang="pt-BR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(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pt-BR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pt-BR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pt-BR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7D724-D4EA-4EEC-B9C1-6F6C17704E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73240" y="43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quivalência de cadeias: Exemplo 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 = {a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| i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0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eias a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a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todo i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: dis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í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es de equivalência: a, aa, aaa, aaaa,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ada valor de i define uma classe de equivalência com um único ele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m número infinito de classes de equivalência, cada uma com um único element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345E9-2068-4D44-A86E-D6F446BD12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73240" y="43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quivalência de cadeias: uma nova definiçã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907920"/>
            <a:ext cx="78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"/>
          </a:bodyPr>
          <a:p>
            <a:pPr marL="27360" indent="-27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f.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eja M=(Q,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F) um AFD. Duas cadeia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quivalen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orema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ara qualquer autômato M,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relação de equivalê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ceit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900000" y="4551480"/>
          <a:ext cx="7326360" cy="1325520"/>
        </p:xfrm>
        <a:graphic>
          <a:graphicData uri="http://schemas.openxmlformats.org/drawingml/2006/table">
            <a:tbl>
              <a:tblPr/>
              <a:tblGrid>
                <a:gridCol w="2286000"/>
                <a:gridCol w="5040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de equivalência as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844720" y="321300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40360" y="321300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37080" y="321300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34" idx="7"/>
            <a:endCxn id="334" idx="1"/>
          </p:cNvCxnSpPr>
          <p:nvPr/>
        </p:nvCxnSpPr>
        <p:spPr>
          <a:xfrm rot="5400000">
            <a:off x="3059280" y="3125160"/>
            <a:ext cx="2160" cy="305280"/>
          </a:xfrm>
          <a:prstGeom prst="curvedConnector5">
            <a:avLst>
              <a:gd name="adj1" fmla="val -18400000"/>
              <a:gd name="adj2" fmla="val 49940"/>
              <a:gd name="adj3" fmla="val -18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6" idx="7"/>
            <a:endCxn id="336" idx="1"/>
          </p:cNvCxnSpPr>
          <p:nvPr/>
        </p:nvCxnSpPr>
        <p:spPr>
          <a:xfrm rot="5400000">
            <a:off x="5651640" y="3125160"/>
            <a:ext cx="2160" cy="305280"/>
          </a:xfrm>
          <a:prstGeom prst="curvedConnector5">
            <a:avLst>
              <a:gd name="adj1" fmla="val -18400000"/>
              <a:gd name="adj2" fmla="val 49940"/>
              <a:gd name="adj3" fmla="val -18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5" idx="7"/>
            <a:endCxn id="335" idx="1"/>
          </p:cNvCxnSpPr>
          <p:nvPr/>
        </p:nvCxnSpPr>
        <p:spPr>
          <a:xfrm rot="5400000">
            <a:off x="4354560" y="3105720"/>
            <a:ext cx="2160" cy="305640"/>
          </a:xfrm>
          <a:prstGeom prst="curvedConnector5">
            <a:avLst>
              <a:gd name="adj1" fmla="val -17200000"/>
              <a:gd name="adj2" fmla="val 50000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4" idx="6"/>
            <a:endCxn id="335" idx="2"/>
          </p:cNvCxnSpPr>
          <p:nvPr/>
        </p:nvCxnSpPr>
        <p:spPr>
          <a:xfrm>
            <a:off x="3276720" y="3428640"/>
            <a:ext cx="84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5" idx="6"/>
            <a:endCxn id="336" idx="2"/>
          </p:cNvCxnSpPr>
          <p:nvPr/>
        </p:nvCxnSpPr>
        <p:spPr>
          <a:xfrm>
            <a:off x="4591080" y="3428640"/>
            <a:ext cx="84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6" idx="3"/>
            <a:endCxn id="335" idx="5"/>
          </p:cNvCxnSpPr>
          <p:nvPr/>
        </p:nvCxnSpPr>
        <p:spPr>
          <a:xfrm rot="5400000">
            <a:off x="4994640" y="3094560"/>
            <a:ext cx="19800" cy="992880"/>
          </a:xfrm>
          <a:prstGeom prst="bentConnector3">
            <a:avLst>
              <a:gd name="adj1" fmla="val 16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3" name=""/>
          <p:cNvGrpSpPr/>
          <p:nvPr/>
        </p:nvGrpSpPr>
        <p:grpSpPr>
          <a:xfrm>
            <a:off x="2700000" y="3357720"/>
            <a:ext cx="144360" cy="144360"/>
            <a:chOff x="2700000" y="3357720"/>
            <a:chExt cx="144360" cy="144360"/>
          </a:xfrm>
        </p:grpSpPr>
        <p:sp>
          <p:nvSpPr>
            <p:cNvPr id="344" name=""/>
            <p:cNvSpPr/>
            <p:nvPr/>
          </p:nvSpPr>
          <p:spPr>
            <a:xfrm flipH="1" flipV="1">
              <a:off x="2700000" y="3357720"/>
              <a:ext cx="144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2700000" y="3429000"/>
              <a:ext cx="144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43280" y="3282840"/>
            <a:ext cx="50328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40360" y="3284640"/>
            <a:ext cx="50292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7080" y="3284640"/>
            <a:ext cx="50328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43280" y="27781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19640" y="32097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40360" y="27813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88000" y="32097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89440" y="36432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37080" y="2781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132000" y="1484280"/>
                <a:ext cx="19447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δ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u</m:t>
                        </m:r>
                      </m:e>
                    </m:d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δ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A47A8-1351-445A-97CE-7E984983C8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73240" y="4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Teorema Myhill-Nero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1280" y="692280"/>
            <a:ext cx="8353440" cy="49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f.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a relação de equivalência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invariante à direit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m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implic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tod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orema Myhill-Ner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seguintes afirmativas são equival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 é regular sobr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iste uma relação de equivalência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invariante à direita em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um conjunto finito de classes de equivalência de tal modo que L é a união de um subconjunto das classes de equivalência d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tem conjunto finito de classes de equivalê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Pr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1" i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ii) :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L é regular </a:t>
            </a:r>
            <a:r>
              <a:rPr b="0" i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L aceita por um AFD M=(Q, </a:t>
            </a:r>
            <a:r>
              <a:rPr b="0" i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, F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eja então a relação de equivalência </a:t>
            </a:r>
            <a:r>
              <a:rPr b="0" i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definida para este AF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Esta relação é invariante à direita, pois u </a:t>
            </a:r>
            <a:r>
              <a:rPr b="0" i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v implica </a:t>
            </a:r>
            <a:r>
              <a:rPr b="0" i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(q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,u)=</a:t>
            </a:r>
            <a:r>
              <a:rPr b="0" i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(q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,v) = q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, e portanto </a:t>
            </a:r>
            <a:r>
              <a:rPr b="0" i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(q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,uw) =</a:t>
            </a:r>
            <a:r>
              <a:rPr b="0" i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(q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,w)= </a:t>
            </a:r>
            <a:r>
              <a:rPr b="0" i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(q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,v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Além disso, o número de classes de equivalência de </a:t>
            </a:r>
            <a:r>
              <a:rPr b="0" i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é finito, pois cada cadeia u relaciona-se com cadeias que terminam no mesmo estado que u, a partir do estado q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. E como um AFD tem um número finito N de estados, concluímos que o número de classes de equivalência de </a:t>
            </a:r>
            <a:r>
              <a:rPr b="0" i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é no máximo 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Finalmente, note que L é o conjunto de cadeias que terminam em algum estado em F. Para cada estado q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, existirá uma c.e. (possivelmente com um único elemento ou mesmo vazia) formada por cadeias cuja computação termina em q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. A linguagem L é a união das cadeias que terminam em um estado de F, ou seja: a união dos conjuntos de cadeias cujas classes de equivalência estão associadas a estados de F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59E6-65CC-4887-8D28-2EF9245ADA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73240" y="4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Teorema Myhill-Nero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1280" y="906120"/>
            <a:ext cx="83534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Prova 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1" i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 iii) :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 relação de equivalência que satisfaz (ii). Seja [u] uma c.e. desta relação, cujo elemento representativo é a cadeia u. Seja v uma segunda cadeia em [u], ou seja: u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o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invariante à direita, então uw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vw, para todo w. Logo, uw e vw estão numa mesma c.e. na relação de equivalência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o por (ii) L é a união de algumas das c.e. d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toda cadeia em uma dada c.e. ou está em L (se pertencer à alguma c.e. que forma L) ou não está em L (se pertencer a alguma c.e. que não forma em 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ogo, ou uw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vw estão em L, ou uw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vw não estão em L. Pela definição de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, u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que isto mostra é que: para toda cadeia u, se u e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 estão na mesma c.e. [u]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 então estão também na mesma c.e. [u]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. Portanto, cada c.e. d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um subconjunto de alguma c.e. d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não será possível termos alguma c.e. d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a qual não existam elementos de alguma c.e. d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Se assim fosse não teríamos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finido um conjunto de c.e. que particionam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clusão: como o número de c.e.s d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é finito, o conjunto de c.e.s d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também é fini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93E11-8E24-46F4-B34E-52ED32CF27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Teorema Myhill-Nero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1280" y="906120"/>
            <a:ext cx="83534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Prova (cont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iii) </a:t>
            </a:r>
            <a:r>
              <a:rPr b="1" i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 i) :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nstruiremos um AFD que aceita L (prova por construção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alfabeto é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 os estados serão as c.e.s d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estado inicial será a c.e. que contém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vemos que cada c.e. de fato é um estado, ou seja, as transições não dependem de estados passados ou do particular elemento da c.e. escolhido como elemento representativo. Ou seja, defini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[u]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,a) = [ua]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vemos mostrar que esta definição independe do valor de 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jam então u e v duas cadeias em [u]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o [u]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[v]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, devemos ter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[u]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,a) = [ua]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[va]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[v]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,a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u seja, preciso mostrar que ua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va. Pela definição de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isto equivale a mostrar que uax e vax estão ambos em L ou estão ambos fora de L, para qualquer cadeia x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 Mas como u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v, entã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w e vw estão ambos em L, para toda cadeia w. Se w = ax, então uax e vax estão ambos em L, para toda cadeia x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uw e vw não estão em L, para toda cadeia w. Se w = ax, então uax e vax estão ambos fora de L, para toda cadeia 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lta só mostrar que a linguagem aceita por este AFD construído é L. Isto pode ser feito construindo o AFD e definindo que se u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 antão [u]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não é um estado de aceitação.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(Prova como exercíc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14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0A347-95AD-4594-B106-7E056F7390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77724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Teorema Myhill-Nerode: Exempl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050920" y="620640"/>
            <a:ext cx="5791320" cy="3634200"/>
            <a:chOff x="2050920" y="620640"/>
            <a:chExt cx="5791320" cy="3634200"/>
          </a:xfrm>
        </p:grpSpPr>
        <p:grpSp>
          <p:nvGrpSpPr>
            <p:cNvPr id="364" name=""/>
            <p:cNvGrpSpPr/>
            <p:nvPr/>
          </p:nvGrpSpPr>
          <p:grpSpPr>
            <a:xfrm>
              <a:off x="2279520" y="865080"/>
              <a:ext cx="5058720" cy="3318840"/>
              <a:chOff x="2279520" y="865080"/>
              <a:chExt cx="5058720" cy="3318840"/>
            </a:xfrm>
          </p:grpSpPr>
          <p:sp>
            <p:nvSpPr>
              <p:cNvPr id="365" name=""/>
              <p:cNvSpPr/>
              <p:nvPr/>
            </p:nvSpPr>
            <p:spPr>
              <a:xfrm>
                <a:off x="2279520" y="113652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74800" y="113652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70440" y="113652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42040" y="113652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79520" y="2355480"/>
                <a:ext cx="609480" cy="60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574800" y="2355480"/>
                <a:ext cx="609840" cy="60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556240" y="227916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346200" y="3574800"/>
                <a:ext cx="609840" cy="60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889000" y="1441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184640" y="1441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889000" y="2660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184640" y="2583720"/>
                <a:ext cx="1371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3956040" y="2736360"/>
                <a:ext cx="167616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403600" y="1669680"/>
                <a:ext cx="30492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6013440" y="1593360"/>
                <a:ext cx="30456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0" name=""/>
              <p:cNvCxnSpPr>
                <a:stCxn id="366" idx="7"/>
                <a:endCxn id="368" idx="1"/>
              </p:cNvCxnSpPr>
              <p:nvPr/>
            </p:nvCxnSpPr>
            <p:spPr>
              <a:xfrm flipH="1" rot="16200000">
                <a:off x="5212080" y="108000"/>
                <a:ext cx="2160" cy="2235600"/>
              </a:xfrm>
              <a:prstGeom prst="curvedConnector5">
                <a:avLst>
                  <a:gd name="adj1" fmla="val -20000000"/>
                  <a:gd name="adj2" fmla="val 49991"/>
                  <a:gd name="adj3" fmla="val -200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81" name=""/>
              <p:cNvCxnSpPr>
                <a:stCxn id="372" idx="1"/>
                <a:endCxn id="372" idx="3"/>
              </p:cNvCxnSpPr>
              <p:nvPr/>
            </p:nvCxnSpPr>
            <p:spPr>
              <a:xfrm flipH="1" rot="16200000">
                <a:off x="3220200" y="3878280"/>
                <a:ext cx="432000" cy="2520"/>
              </a:xfrm>
              <a:prstGeom prst="curvedConnector5">
                <a:avLst>
                  <a:gd name="adj1" fmla="val -16847"/>
                  <a:gd name="adj2" fmla="val -14200000"/>
                  <a:gd name="adj3" fmla="val -16847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82" name=""/>
              <p:cNvCxnSpPr>
                <a:stCxn id="371" idx="5"/>
                <a:endCxn id="371" idx="7"/>
              </p:cNvCxnSpPr>
              <p:nvPr/>
            </p:nvCxnSpPr>
            <p:spPr>
              <a:xfrm flipH="1" flipV="1" rot="5400000">
                <a:off x="5861520" y="2582640"/>
                <a:ext cx="432360" cy="2160"/>
              </a:xfrm>
              <a:prstGeom prst="curvedConnector5">
                <a:avLst>
                  <a:gd name="adj1" fmla="val -30500"/>
                  <a:gd name="adj2" fmla="val 15540000"/>
                  <a:gd name="adj3" fmla="val -305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83" name=""/>
              <p:cNvCxnSpPr>
                <a:stCxn id="368" idx="5"/>
                <a:endCxn id="368" idx="7"/>
              </p:cNvCxnSpPr>
              <p:nvPr/>
            </p:nvCxnSpPr>
            <p:spPr>
              <a:xfrm flipH="1" flipV="1" rot="5400000">
                <a:off x="6547320" y="1439640"/>
                <a:ext cx="432360" cy="2160"/>
              </a:xfrm>
              <a:prstGeom prst="curvedConnector5">
                <a:avLst>
                  <a:gd name="adj1" fmla="val -20583"/>
                  <a:gd name="adj2" fmla="val 15980000"/>
                  <a:gd name="adj3" fmla="val -20583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84" name=""/>
            <p:cNvSpPr/>
            <p:nvPr/>
          </p:nvSpPr>
          <p:spPr>
            <a:xfrm>
              <a:off x="2279520" y="13064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98840" y="13064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94120" y="13064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65720" y="13064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03200" y="25254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98840" y="252540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79920" y="24494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70240" y="3744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1120" y="1230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46400" y="1230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18000" y="1230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55840" y="24494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1120" y="24494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2520" y="36684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65320" y="1153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36920" y="1153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65320" y="2296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89200" y="2296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08120" y="3668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41840" y="3287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80120" y="1230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94320" y="24494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70440" y="1839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37120" y="1915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46400" y="6206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84440" y="1763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13040" y="2906640"/>
              <a:ext cx="76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50920" y="1915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84440" y="31352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24000" y="4653000"/>
            <a:ext cx="20160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Classes de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124000" y="4724280"/>
          <a:ext cx="6659280" cy="1579680"/>
        </p:xfrm>
        <a:graphic>
          <a:graphicData uri="http://schemas.openxmlformats.org/drawingml/2006/table">
            <a:tbl>
              <a:tblPr/>
              <a:tblGrid>
                <a:gridCol w="767520"/>
                <a:gridCol w="1857960"/>
                <a:gridCol w="829440"/>
                <a:gridCol w="3204360"/>
              </a:tblGrid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de equivalê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de equivalê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b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b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pt-BR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a(a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bb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(a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bb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(a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4757-201D-497A-BE17-9DB191FACC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Algoritmos de Decisão para AFD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 ótimo se tivéssemos algoritmos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r se uma dada linguagem é vazia (nenhuma cadei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r se uma dada linguagem é finita (no. finito de cadei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r se uma dada linguagem é infinita (no. infinito de cadei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r se dois autômatos aceitam a mesma linguag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izmente, estes algoritmo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 Vamos então estudá-lo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502F-66D5-45D8-8023-A3D09CA301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77724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Teorema Myhill-Nerode: Exempl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050920" y="620640"/>
            <a:ext cx="5791320" cy="3634200"/>
            <a:chOff x="2050920" y="620640"/>
            <a:chExt cx="5791320" cy="3634200"/>
          </a:xfrm>
        </p:grpSpPr>
        <p:grpSp>
          <p:nvGrpSpPr>
            <p:cNvPr id="417" name=""/>
            <p:cNvGrpSpPr/>
            <p:nvPr/>
          </p:nvGrpSpPr>
          <p:grpSpPr>
            <a:xfrm>
              <a:off x="2279520" y="865080"/>
              <a:ext cx="5058720" cy="3318840"/>
              <a:chOff x="2279520" y="865080"/>
              <a:chExt cx="5058720" cy="3318840"/>
            </a:xfrm>
          </p:grpSpPr>
          <p:sp>
            <p:nvSpPr>
              <p:cNvPr id="418" name=""/>
              <p:cNvSpPr/>
              <p:nvPr/>
            </p:nvSpPr>
            <p:spPr>
              <a:xfrm>
                <a:off x="2279520" y="113652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574800" y="113652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870440" y="113652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242040" y="113652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79520" y="2355480"/>
                <a:ext cx="609480" cy="60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574800" y="2355480"/>
                <a:ext cx="609840" cy="60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556240" y="227916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346200" y="3574800"/>
                <a:ext cx="609840" cy="60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889000" y="1441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184640" y="1441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889000" y="2660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4184640" y="2583720"/>
                <a:ext cx="1371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3956040" y="2736360"/>
                <a:ext cx="167616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403600" y="1669680"/>
                <a:ext cx="30492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6013440" y="1593360"/>
                <a:ext cx="30456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3" name=""/>
              <p:cNvCxnSpPr>
                <a:stCxn id="419" idx="7"/>
                <a:endCxn id="421" idx="1"/>
              </p:cNvCxnSpPr>
              <p:nvPr/>
            </p:nvCxnSpPr>
            <p:spPr>
              <a:xfrm flipH="1" rot="16200000">
                <a:off x="5212080" y="108000"/>
                <a:ext cx="2160" cy="2235600"/>
              </a:xfrm>
              <a:prstGeom prst="curvedConnector5">
                <a:avLst>
                  <a:gd name="adj1" fmla="val -20000000"/>
                  <a:gd name="adj2" fmla="val 49991"/>
                  <a:gd name="adj3" fmla="val -200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4" name=""/>
              <p:cNvCxnSpPr>
                <a:stCxn id="425" idx="1"/>
                <a:endCxn id="425" idx="3"/>
              </p:cNvCxnSpPr>
              <p:nvPr/>
            </p:nvCxnSpPr>
            <p:spPr>
              <a:xfrm flipH="1" rot="16200000">
                <a:off x="3220200" y="3878280"/>
                <a:ext cx="432000" cy="2520"/>
              </a:xfrm>
              <a:prstGeom prst="curvedConnector5">
                <a:avLst>
                  <a:gd name="adj1" fmla="val -16847"/>
                  <a:gd name="adj2" fmla="val -14200000"/>
                  <a:gd name="adj3" fmla="val -16847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5" name=""/>
              <p:cNvCxnSpPr>
                <a:stCxn id="424" idx="5"/>
                <a:endCxn id="424" idx="7"/>
              </p:cNvCxnSpPr>
              <p:nvPr/>
            </p:nvCxnSpPr>
            <p:spPr>
              <a:xfrm flipH="1" flipV="1" rot="5400000">
                <a:off x="5861520" y="2582640"/>
                <a:ext cx="432360" cy="2160"/>
              </a:xfrm>
              <a:prstGeom prst="curvedConnector5">
                <a:avLst>
                  <a:gd name="adj1" fmla="val -30500"/>
                  <a:gd name="adj2" fmla="val 15540000"/>
                  <a:gd name="adj3" fmla="val -305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6" name=""/>
              <p:cNvCxnSpPr>
                <a:stCxn id="421" idx="5"/>
                <a:endCxn id="421" idx="7"/>
              </p:cNvCxnSpPr>
              <p:nvPr/>
            </p:nvCxnSpPr>
            <p:spPr>
              <a:xfrm flipH="1" flipV="1" rot="5400000">
                <a:off x="6547320" y="1439640"/>
                <a:ext cx="432360" cy="2160"/>
              </a:xfrm>
              <a:prstGeom prst="curvedConnector5">
                <a:avLst>
                  <a:gd name="adj1" fmla="val -20583"/>
                  <a:gd name="adj2" fmla="val 15980000"/>
                  <a:gd name="adj3" fmla="val -20583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37" name=""/>
            <p:cNvSpPr/>
            <p:nvPr/>
          </p:nvSpPr>
          <p:spPr>
            <a:xfrm>
              <a:off x="2279520" y="13064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98840" y="13064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94120" y="13064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65720" y="13064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03200" y="25254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98840" y="252540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79920" y="24494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0240" y="3744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51120" y="1230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946400" y="1230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18000" y="1230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55840" y="24494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51120" y="24494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2520" y="36684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965320" y="1153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36920" y="1153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65320" y="2296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89200" y="2296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08120" y="3668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41840" y="3287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80120" y="1230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94320" y="24494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70440" y="1839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37120" y="1915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46400" y="6206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84440" y="1763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13040" y="2906640"/>
              <a:ext cx="76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50920" y="1915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84440" y="31352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24000" y="4653000"/>
            <a:ext cx="20160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Classes de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2124000" y="4341960"/>
          <a:ext cx="5472360" cy="1895400"/>
        </p:xfrm>
        <a:graphic>
          <a:graphicData uri="http://schemas.openxmlformats.org/drawingml/2006/table">
            <a:tbl>
              <a:tblPr/>
              <a:tblGrid>
                <a:gridCol w="2016360"/>
                <a:gridCol w="3456000"/>
              </a:tblGrid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o representa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de equivalê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b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b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bb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ε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b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a(a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bb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(a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bb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(a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F99F8-1916-4354-8D62-4A77B581D7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42920" y="9684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Teorema Myhill-Nerode: Exempl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187280" y="1413000"/>
          <a:ext cx="6769440" cy="2158920"/>
        </p:xfrm>
        <a:graphic>
          <a:graphicData uri="http://schemas.openxmlformats.org/drawingml/2006/table">
            <a:tbl>
              <a:tblPr/>
              <a:tblGrid>
                <a:gridCol w="2492640"/>
                <a:gridCol w="4276800"/>
              </a:tblGrid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o representa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de equivalê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lasse q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lasse q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a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lasse q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lasse q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b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b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bb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lasse q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lasse q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ε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ε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lasse q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ab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a(a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bb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(a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bb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(a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r>
                        <a:rPr b="0" lang="pt-B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lasse q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684360" y="932040"/>
            <a:ext cx="2879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elação entre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58920" y="4724280"/>
            <a:ext cx="1008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16360" y="4724280"/>
            <a:ext cx="100800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443640" y="4724280"/>
            <a:ext cx="1008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43280" y="3860640"/>
            <a:ext cx="100836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643280" y="5589720"/>
            <a:ext cx="100836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115640" y="4869000"/>
            <a:ext cx="144360" cy="144360"/>
            <a:chOff x="1115640" y="4869000"/>
            <a:chExt cx="144360" cy="144360"/>
          </a:xfrm>
        </p:grpSpPr>
        <p:sp>
          <p:nvSpPr>
            <p:cNvPr id="477" name=""/>
            <p:cNvSpPr/>
            <p:nvPr/>
          </p:nvSpPr>
          <p:spPr>
            <a:xfrm flipH="1" flipV="1">
              <a:off x="1115640" y="4869000"/>
              <a:ext cx="144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1115640" y="4940280"/>
              <a:ext cx="144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9" name=""/>
          <p:cNvCxnSpPr>
            <a:stCxn id="471" idx="6"/>
            <a:endCxn id="472" idx="2"/>
          </p:cNvCxnSpPr>
          <p:nvPr/>
        </p:nvCxnSpPr>
        <p:spPr>
          <a:xfrm>
            <a:off x="2266560" y="4976280"/>
            <a:ext cx="63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2" idx="7"/>
            <a:endCxn id="474" idx="2"/>
          </p:cNvCxnSpPr>
          <p:nvPr/>
        </p:nvCxnSpPr>
        <p:spPr>
          <a:xfrm flipV="1">
            <a:off x="3776400" y="4112640"/>
            <a:ext cx="848520" cy="66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2" idx="5"/>
            <a:endCxn id="475" idx="2"/>
          </p:cNvCxnSpPr>
          <p:nvPr/>
        </p:nvCxnSpPr>
        <p:spPr>
          <a:xfrm>
            <a:off x="3776400" y="5173200"/>
            <a:ext cx="848520" cy="66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74" idx="6"/>
            <a:endCxn id="473" idx="1"/>
          </p:cNvCxnSpPr>
          <p:nvPr/>
        </p:nvCxnSpPr>
        <p:spPr>
          <a:xfrm>
            <a:off x="5670360" y="4113360"/>
            <a:ext cx="921240" cy="68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"/>
          <p:cNvCxnSpPr>
            <a:stCxn id="475" idx="6"/>
            <a:endCxn id="473" idx="3"/>
          </p:cNvCxnSpPr>
          <p:nvPr/>
        </p:nvCxnSpPr>
        <p:spPr>
          <a:xfrm flipV="1">
            <a:off x="5670360" y="5154480"/>
            <a:ext cx="921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4" name=""/>
          <p:cNvCxnSpPr>
            <a:stCxn id="473" idx="7"/>
            <a:endCxn id="473" idx="5"/>
          </p:cNvCxnSpPr>
          <p:nvPr/>
        </p:nvCxnSpPr>
        <p:spPr>
          <a:xfrm flipH="1" rot="16200000">
            <a:off x="7126200" y="4974840"/>
            <a:ext cx="357840" cy="2520"/>
          </a:xfrm>
          <a:prstGeom prst="curvedConnector5">
            <a:avLst>
              <a:gd name="adj1" fmla="val -41289"/>
              <a:gd name="adj2" fmla="val 15150000"/>
              <a:gd name="adj3" fmla="val -412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1563840" y="4892760"/>
            <a:ext cx="3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l-GR" sz="2400" spc="-1" strike="noStrike" baseline="30000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18760" y="4892760"/>
            <a:ext cx="3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[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50080" y="47242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85560" y="40053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[a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35520" y="4221000"/>
            <a:ext cx="25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05000" y="5734080"/>
            <a:ext cx="4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[a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26160" y="5540400"/>
            <a:ext cx="2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75" idx="7"/>
            <a:endCxn id="475" idx="1"/>
          </p:cNvCxnSpPr>
          <p:nvPr/>
        </p:nvCxnSpPr>
        <p:spPr>
          <a:xfrm rot="5400000">
            <a:off x="5146200" y="5288040"/>
            <a:ext cx="2160" cy="713520"/>
          </a:xfrm>
          <a:prstGeom prst="curvedConnector5">
            <a:avLst>
              <a:gd name="adj1" fmla="val -17800000"/>
              <a:gd name="adj2" fmla="val 49974"/>
              <a:gd name="adj3" fmla="val -178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3" name=""/>
          <p:cNvSpPr/>
          <p:nvPr/>
        </p:nvSpPr>
        <p:spPr>
          <a:xfrm>
            <a:off x="5011920" y="5084640"/>
            <a:ext cx="2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30000" y="41497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685640" y="45813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164280" y="5445000"/>
            <a:ext cx="25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35240" y="489276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[ab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7236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Parece mínim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99BA-D3AF-4110-83DF-F6339FE66D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73240" y="4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Teorema Myhill-Nerode: Corolár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1280" y="692280"/>
            <a:ext cx="8353440" cy="49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53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ja L uma linguagem regular 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 relação de equivalência de cadeias sobre L. O AFD mínimo que aceita L é a máquina de estados M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finida a partir das classes de equivalência sobr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tal como especificada na prova do teorema Myhill-Ner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Prova: Sudkamp, pág. 2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u seja: o teorema Myhill-Nerode também permite que se obtenha o AFD mínimo para uma dada linguagem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 também permite a identificação de linguagens não-regulares (ii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mplo: Prove que L={       |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0} não é regular}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3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teorema de mil e uma utilidad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897280" y="4149720"/>
                <a:ext cx="3794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33BA-9906-42DA-B41E-6B749A6573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orema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eja M um AFD com k est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ão, L(M) é não-vazio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M aceita uma cadeia z com length(z) &lt;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v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Trivi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(M) não-vazio. Seja x a menor cadeia de L(M). Assuma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r absur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que length(x) &gt; k-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l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umping Lem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x=uvw, com uv 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. Em particular, uv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=uw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. Mas length(uw)&lt;length(x), ou seja, a menor cadeia de L (x) é maior do que uma outra cadeia uw de L (absur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914E-7D6B-499C-9CC6-07A8E1F6F6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514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orema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eja M um AFD com k est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ão, L(M) tem um número infinito de cadeias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M aceita uma cadeia x com k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length(z) &lt; 2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v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800" indent="-51480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 aceita uma cadeia x com k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length(x) &lt; 2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l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Pumping Lemm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x=uvw, com uv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L, qualquer que seja i: número infinito de cadeias (diferindo apenas no número de “ciclos” realizad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800" indent="-51480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(M) tem um número infinito de cadeias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número de cadeias com length(.) &lt; k é limitado pelo no. de símbolos do alfabeto e no. de estados. Logo, teremos alguma cadeia x tal que length(x)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uma (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bsur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que não existe z tal que k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length(z) &lt; 2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ja x então a menor cadeia tal que length(x) 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2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Pumping Lemm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x=uvw, length(uv)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k e uv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w = uw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L(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 length(uw)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2k, então, x não seria a menor cadeia tal que length(x)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2k (pois length(uw) &lt; length(x)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 length(uw) &lt; 2k, então length(uw)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k, pois senão tería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ength(x)=length(uw) + length(v)&lt; 2k (contradi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38862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8120" y="579132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93480" y="5791320"/>
            <a:ext cx="5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FA50-A7D3-4E6C-9493-A013BF1BA8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imes New Roman"/>
              </a:rPr>
              <a:t>Algoritmo para Determinar Cardinalidade de Linguagem Regular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jam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o número de estados 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o tamanho do alfabeto de uma AFD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 cadeias z1 não-nulas, length(z1) &lt; k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 + j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... +j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k-1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 j(j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1) / (j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 cadeias z2, k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length(z2) &lt; 2k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j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k+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... +j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2k-1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 j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j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1) / (j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0" y="1066680"/>
            <a:ext cx="4190760" cy="5257440"/>
            <a:chOff x="4572000" y="1066680"/>
            <a:chExt cx="4190760" cy="5257440"/>
          </a:xfrm>
        </p:grpSpPr>
        <p:grpSp>
          <p:nvGrpSpPr>
            <p:cNvPr id="139" name=""/>
            <p:cNvGrpSpPr/>
            <p:nvPr/>
          </p:nvGrpSpPr>
          <p:grpSpPr>
            <a:xfrm>
              <a:off x="4642920" y="1066680"/>
              <a:ext cx="2414880" cy="1629000"/>
              <a:chOff x="4642920" y="1066680"/>
              <a:chExt cx="2414880" cy="1629000"/>
            </a:xfrm>
          </p:grpSpPr>
          <p:sp>
            <p:nvSpPr>
              <p:cNvPr id="140" name=""/>
              <p:cNvSpPr/>
              <p:nvPr/>
            </p:nvSpPr>
            <p:spPr>
              <a:xfrm>
                <a:off x="4784760" y="1583280"/>
                <a:ext cx="2201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Ao menos uma das n1 cadeias z1 é aceita pelo AFD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642920" y="1066680"/>
                <a:ext cx="2414880" cy="162900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850360" y="2695680"/>
              <a:ext cx="0" cy="29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58160" y="1881360"/>
              <a:ext cx="35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069160" y="2991960"/>
              <a:ext cx="1633320" cy="444240"/>
              <a:chOff x="5069160" y="2991960"/>
              <a:chExt cx="1633320" cy="44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5069160" y="2991960"/>
                <a:ext cx="1391040" cy="444240"/>
              </a:xfrm>
              <a:prstGeom prst="flowChartDocumen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69160" y="2991960"/>
                <a:ext cx="16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L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) não-vaz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7413120" y="1659240"/>
              <a:ext cx="1208880" cy="518040"/>
              <a:chOff x="7413120" y="1659240"/>
              <a:chExt cx="1208880" cy="518040"/>
            </a:xfrm>
          </p:grpSpPr>
          <p:sp>
            <p:nvSpPr>
              <p:cNvPr id="148" name=""/>
              <p:cNvSpPr/>
              <p:nvPr/>
            </p:nvSpPr>
            <p:spPr>
              <a:xfrm>
                <a:off x="7413120" y="1659240"/>
                <a:ext cx="1028160" cy="518040"/>
              </a:xfrm>
              <a:prstGeom prst="flowChartDocumen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413120" y="1659240"/>
                <a:ext cx="12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L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) vaz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5779440" y="3436200"/>
              <a:ext cx="0" cy="29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572000" y="3732480"/>
              <a:ext cx="2414880" cy="1629000"/>
              <a:chOff x="4572000" y="3732480"/>
              <a:chExt cx="2414880" cy="1629000"/>
            </a:xfrm>
          </p:grpSpPr>
          <p:sp>
            <p:nvSpPr>
              <p:cNvPr id="152" name=""/>
              <p:cNvSpPr/>
              <p:nvPr/>
            </p:nvSpPr>
            <p:spPr>
              <a:xfrm>
                <a:off x="4712400" y="4250880"/>
                <a:ext cx="2201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Ao menos uma das n2 cadeias z2 é aceita pelo AFD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0" y="3732480"/>
                <a:ext cx="2414880" cy="162900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069160" y="5657760"/>
              <a:ext cx="1846440" cy="666360"/>
              <a:chOff x="5069160" y="5657760"/>
              <a:chExt cx="1846440" cy="666360"/>
            </a:xfrm>
          </p:grpSpPr>
          <p:sp>
            <p:nvSpPr>
              <p:cNvPr id="155" name=""/>
              <p:cNvSpPr/>
              <p:nvPr/>
            </p:nvSpPr>
            <p:spPr>
              <a:xfrm>
                <a:off x="5069160" y="5657760"/>
                <a:ext cx="1572480" cy="666360"/>
              </a:xfrm>
              <a:prstGeom prst="flowChartDocumen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69160" y="5657760"/>
                <a:ext cx="1846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L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) tem número infinito de cadei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779440" y="5361480"/>
              <a:ext cx="0" cy="29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7342200" y="4102920"/>
              <a:ext cx="1420560" cy="884880"/>
              <a:chOff x="7342200" y="4102920"/>
              <a:chExt cx="1420560" cy="884880"/>
            </a:xfrm>
          </p:grpSpPr>
          <p:sp>
            <p:nvSpPr>
              <p:cNvPr id="159" name=""/>
              <p:cNvSpPr/>
              <p:nvPr/>
            </p:nvSpPr>
            <p:spPr>
              <a:xfrm>
                <a:off x="7342200" y="4102920"/>
                <a:ext cx="1209960" cy="884880"/>
              </a:xfrm>
              <a:prstGeom prst="flowChartDocumen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342200" y="4102920"/>
                <a:ext cx="14205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L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) tem número finito de cadei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6986880" y="4547160"/>
              <a:ext cx="35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50360" y="2621520"/>
              <a:ext cx="49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58160" y="1510920"/>
              <a:ext cx="4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79440" y="5287320"/>
              <a:ext cx="4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86880" y="4176720"/>
              <a:ext cx="49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37AD8-FEA6-40F1-91E2-56A860FFF9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Algoritmo para Determinar Equivalência de AF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837720"/>
            <a:ext cx="7696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f.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ois automata finitos determinísticos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quivalentes se aceitam a mesma linguagem (ou seja, se L(M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= L(M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85800" y="3886200"/>
                <a:ext cx="2238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∩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4191120" y="1905120"/>
            <a:ext cx="2057400" cy="3657600"/>
            <a:chOff x="4191120" y="1905120"/>
            <a:chExt cx="2057400" cy="3657600"/>
          </a:xfrm>
        </p:grpSpPr>
        <p:sp>
          <p:nvSpPr>
            <p:cNvPr id="170" name=""/>
            <p:cNvSpPr/>
            <p:nvPr/>
          </p:nvSpPr>
          <p:spPr>
            <a:xfrm>
              <a:off x="4257720" y="1905120"/>
              <a:ext cx="1923480" cy="8380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91120" y="1905120"/>
              <a:ext cx="205740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Determin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pt-BR" sz="1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pt-B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) e 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pt-BR" sz="1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pt-B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57720" y="3276720"/>
              <a:ext cx="1923480" cy="9144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91120" y="3276720"/>
              <a:ext cx="205740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Calcul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pt-B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pt-B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pt-B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pt-B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57720" y="4724280"/>
              <a:ext cx="1923480" cy="83844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91120" y="4724280"/>
              <a:ext cx="20574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Determin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M 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tal que 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705720" y="3048120"/>
            <a:ext cx="2057400" cy="1447560"/>
            <a:chOff x="6705720" y="3048120"/>
            <a:chExt cx="2057400" cy="1447560"/>
          </a:xfrm>
        </p:grpSpPr>
        <p:sp>
          <p:nvSpPr>
            <p:cNvPr id="177" name=""/>
            <p:cNvSpPr/>
            <p:nvPr/>
          </p:nvSpPr>
          <p:spPr>
            <a:xfrm>
              <a:off x="6705720" y="3048120"/>
              <a:ext cx="2057400" cy="14475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23080" y="3581280"/>
              <a:ext cx="188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ceita alguma cadeia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1814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77" idx="1"/>
          </p:cNvCxnSpPr>
          <p:nvPr/>
        </p:nvCxnSpPr>
        <p:spPr>
          <a:xfrm flipV="1">
            <a:off x="6248520" y="3771720"/>
            <a:ext cx="457920" cy="126576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2" name=""/>
          <p:cNvGrpSpPr/>
          <p:nvPr/>
        </p:nvGrpSpPr>
        <p:grpSpPr>
          <a:xfrm>
            <a:off x="7238880" y="1981080"/>
            <a:ext cx="1371600" cy="609840"/>
            <a:chOff x="7238880" y="1981080"/>
            <a:chExt cx="1371600" cy="609840"/>
          </a:xfrm>
        </p:grpSpPr>
        <p:sp>
          <p:nvSpPr>
            <p:cNvPr id="183" name=""/>
            <p:cNvSpPr/>
            <p:nvPr/>
          </p:nvSpPr>
          <p:spPr>
            <a:xfrm>
              <a:off x="7238880" y="1981080"/>
              <a:ext cx="990360" cy="6098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4840" y="2057400"/>
              <a:ext cx="1295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t-B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t-B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238880" y="5029200"/>
            <a:ext cx="1371600" cy="609480"/>
            <a:chOff x="7238880" y="5029200"/>
            <a:chExt cx="1371600" cy="609480"/>
          </a:xfrm>
        </p:grpSpPr>
        <p:sp>
          <p:nvSpPr>
            <p:cNvPr id="186" name=""/>
            <p:cNvSpPr/>
            <p:nvPr/>
          </p:nvSpPr>
          <p:spPr>
            <a:xfrm>
              <a:off x="7238880" y="5029200"/>
              <a:ext cx="990360" cy="60948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14840" y="5105160"/>
              <a:ext cx="1295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t-B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t-B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 flipV="1">
            <a:off x="77724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724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72400" y="2666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72400" y="44956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828800"/>
            <a:ext cx="350532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orema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eja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FDs. Existe um procedimento para determinar s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quival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va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ja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linguagens aceitas por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Considere então a lingu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L é reg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ss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em idên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3D3E7-19A7-44EF-97E6-CCBF015EDD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quivalência de Estados de um AF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f.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eja M=(Q,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F) um AFD. Dois estados 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ã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quivalente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362320" y="1371600"/>
                <a:ext cx="45050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δ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u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  <m:r>
                      <m:t xml:space="preserve">⇔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δ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u</m:t>
                        </m:r>
                      </m:e>
                    </m:d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F, para todo </m:t>
                    </m:r>
                    <m:r>
                      <m:t xml:space="preserve">u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Σ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7924680" y="2209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2468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71600" y="2133720"/>
            <a:ext cx="7548480" cy="3126600"/>
            <a:chOff x="1371600" y="2133720"/>
            <a:chExt cx="7548480" cy="3126600"/>
          </a:xfrm>
        </p:grpSpPr>
        <p:sp>
          <p:nvSpPr>
            <p:cNvPr id="199" name=""/>
            <p:cNvSpPr/>
            <p:nvPr/>
          </p:nvSpPr>
          <p:spPr>
            <a:xfrm>
              <a:off x="3505320" y="33526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600200" y="2590560"/>
              <a:ext cx="1066680" cy="585720"/>
              <a:chOff x="1600200" y="2590560"/>
              <a:chExt cx="1066680" cy="585720"/>
            </a:xfrm>
          </p:grpSpPr>
          <p:sp>
            <p:nvSpPr>
              <p:cNvPr id="201" name=""/>
              <p:cNvSpPr/>
              <p:nvPr/>
            </p:nvSpPr>
            <p:spPr>
              <a:xfrm>
                <a:off x="1905120" y="2590560"/>
                <a:ext cx="457200" cy="45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00200" y="2666160"/>
                <a:ext cx="106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600200" y="3962160"/>
              <a:ext cx="1066680" cy="585720"/>
              <a:chOff x="1600200" y="3962160"/>
              <a:chExt cx="1066680" cy="585720"/>
            </a:xfrm>
          </p:grpSpPr>
          <p:sp>
            <p:nvSpPr>
              <p:cNvPr id="204" name=""/>
              <p:cNvSpPr/>
              <p:nvPr/>
            </p:nvSpPr>
            <p:spPr>
              <a:xfrm>
                <a:off x="1905120" y="3962160"/>
                <a:ext cx="457200" cy="45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00200" y="4037760"/>
                <a:ext cx="106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666880" y="2209680"/>
              <a:ext cx="1066680" cy="585720"/>
              <a:chOff x="2666880" y="2209680"/>
              <a:chExt cx="1066680" cy="58572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2209680"/>
                <a:ext cx="457200" cy="45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66880" y="2285280"/>
                <a:ext cx="106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971800" y="3276360"/>
              <a:ext cx="45720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66880" y="3352680"/>
              <a:ext cx="106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666880" y="4343400"/>
              <a:ext cx="1066680" cy="585720"/>
              <a:chOff x="2666880" y="4343400"/>
              <a:chExt cx="1066680" cy="585720"/>
            </a:xfrm>
          </p:grpSpPr>
          <p:sp>
            <p:nvSpPr>
              <p:cNvPr id="212" name=""/>
              <p:cNvSpPr/>
              <p:nvPr/>
            </p:nvSpPr>
            <p:spPr>
              <a:xfrm>
                <a:off x="2971800" y="4343400"/>
                <a:ext cx="457200" cy="45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666880" y="4419000"/>
                <a:ext cx="106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2895480" y="2133720"/>
              <a:ext cx="60984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95480" y="426708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286000" y="2438280"/>
              <a:ext cx="6094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86000" y="2971800"/>
              <a:ext cx="68580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362320" y="3580920"/>
              <a:ext cx="6094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267080"/>
              <a:ext cx="53316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4" idx="5"/>
              <a:endCxn id="214" idx="6"/>
            </p:cNvCxnSpPr>
            <p:nvPr/>
          </p:nvCxnSpPr>
          <p:spPr>
            <a:xfrm flipH="1" flipV="1" rot="5400000">
              <a:off x="3351960" y="2500920"/>
              <a:ext cx="216360" cy="89640"/>
            </a:xfrm>
            <a:prstGeom prst="curvedConnector5">
              <a:avLst>
                <a:gd name="adj1" fmla="val -147000"/>
                <a:gd name="adj2" fmla="val 178225"/>
                <a:gd name="adj3" fmla="val -147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5" idx="5"/>
              <a:endCxn id="215" idx="6"/>
            </p:cNvCxnSpPr>
            <p:nvPr/>
          </p:nvCxnSpPr>
          <p:spPr>
            <a:xfrm flipH="1" flipV="1" rot="5400000">
              <a:off x="3351960" y="4634640"/>
              <a:ext cx="216000" cy="89640"/>
            </a:xfrm>
            <a:prstGeom prst="curvedConnector5">
              <a:avLst>
                <a:gd name="adj1" fmla="val -146911"/>
                <a:gd name="adj2" fmla="val 178225"/>
                <a:gd name="adj3" fmla="val -14691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371600" y="28191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41907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9" idx="5"/>
              <a:endCxn id="209" idx="7"/>
            </p:cNvCxnSpPr>
            <p:nvPr/>
          </p:nvCxnSpPr>
          <p:spPr>
            <a:xfrm flipH="1" flipV="1" rot="5400000">
              <a:off x="3201120" y="3503880"/>
              <a:ext cx="324000" cy="2160"/>
            </a:xfrm>
            <a:prstGeom prst="curvedConnector5">
              <a:avLst>
                <a:gd name="adj1" fmla="val -7341"/>
                <a:gd name="adj2" fmla="val 16440000"/>
                <a:gd name="adj3" fmla="val -73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5" name=""/>
            <p:cNvSpPr/>
            <p:nvPr/>
          </p:nvSpPr>
          <p:spPr>
            <a:xfrm>
              <a:off x="1905120" y="22860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05120" y="31240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81080" y="3657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76720" y="27432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52680" y="4800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00600" y="3276360"/>
              <a:ext cx="685800" cy="45684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791320" y="3276360"/>
              <a:ext cx="1218960" cy="1116720"/>
              <a:chOff x="5791320" y="3276360"/>
              <a:chExt cx="1218960" cy="1116720"/>
            </a:xfrm>
          </p:grpSpPr>
          <p:sp>
            <p:nvSpPr>
              <p:cNvPr id="233" name=""/>
              <p:cNvSpPr/>
              <p:nvPr/>
            </p:nvSpPr>
            <p:spPr>
              <a:xfrm>
                <a:off x="5791320" y="3276360"/>
                <a:ext cx="1143000" cy="45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91320" y="3276360"/>
                <a:ext cx="1218960" cy="11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pt-BR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38880" y="2743200"/>
              <a:ext cx="1218960" cy="1116720"/>
              <a:chOff x="7238880" y="2743200"/>
              <a:chExt cx="1218960" cy="1116720"/>
            </a:xfrm>
          </p:grpSpPr>
          <p:sp>
            <p:nvSpPr>
              <p:cNvPr id="236" name=""/>
              <p:cNvSpPr/>
              <p:nvPr/>
            </p:nvSpPr>
            <p:spPr>
              <a:xfrm>
                <a:off x="7238880" y="2743200"/>
                <a:ext cx="1143000" cy="45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38880" y="2743200"/>
                <a:ext cx="1218960" cy="11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pt-BR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7620120" y="3962160"/>
              <a:ext cx="45720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15200" y="403848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62920" y="2666880"/>
              <a:ext cx="12952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6781680" y="3047760"/>
              <a:ext cx="381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81680" y="3657600"/>
              <a:ext cx="83844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3" name=""/>
            <p:cNvCxnSpPr>
              <a:stCxn id="240" idx="5"/>
              <a:endCxn id="240" idx="7"/>
            </p:cNvCxnSpPr>
            <p:nvPr/>
          </p:nvCxnSpPr>
          <p:spPr>
            <a:xfrm flipH="1" flipV="1" rot="5400000">
              <a:off x="8053200" y="2970000"/>
              <a:ext cx="432000" cy="2520"/>
            </a:xfrm>
            <a:prstGeom prst="curvedConnector5">
              <a:avLst>
                <a:gd name="adj1" fmla="val -27189"/>
                <a:gd name="adj2" fmla="val 15083333"/>
                <a:gd name="adj3" fmla="val -2718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38" idx="5"/>
              <a:endCxn id="238" idx="7"/>
            </p:cNvCxnSpPr>
            <p:nvPr/>
          </p:nvCxnSpPr>
          <p:spPr>
            <a:xfrm flipH="1" flipV="1" rot="5400000">
              <a:off x="7848360" y="4189320"/>
              <a:ext cx="324000" cy="2520"/>
            </a:xfrm>
            <a:prstGeom prst="curvedConnector5">
              <a:avLst>
                <a:gd name="adj1" fmla="val -29365"/>
                <a:gd name="adj2" fmla="val 10183333"/>
                <a:gd name="adj3" fmla="val -2936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5" name=""/>
            <p:cNvSpPr/>
            <p:nvPr/>
          </p:nvSpPr>
          <p:spPr>
            <a:xfrm>
              <a:off x="6553080" y="38862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48520" y="2971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219320" y="533412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Estados equivalentes são também ditos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ão-distingu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Estados não-equivalentes são também ditos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distingu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4039B-71D2-48B2-8C28-88F6972383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lgoritmo para Identificar Equivalências de Esta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sociados a cada par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i&gt;j), dois vetores D (de 0´s e 1´s) e S (de conjuntos de pares de inteir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[i, j]: valor 1 quando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distinguíveis, caso contrário valor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[i, j]: conjunto de pares (m,n) tais que a não-equivalência de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ode ser determinada a partir daquela de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éia do algoritmo: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371600" y="3733920"/>
            <a:ext cx="2286000" cy="586080"/>
            <a:chOff x="1371600" y="3733920"/>
            <a:chExt cx="2286000" cy="586080"/>
          </a:xfrm>
        </p:grpSpPr>
        <p:sp>
          <p:nvSpPr>
            <p:cNvPr id="251" name=""/>
            <p:cNvSpPr/>
            <p:nvPr/>
          </p:nvSpPr>
          <p:spPr>
            <a:xfrm>
              <a:off x="1600200" y="37339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37339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57400" y="3962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09680" y="3733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71600" y="380988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66880" y="380988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371600" y="4800600"/>
            <a:ext cx="2286000" cy="586080"/>
            <a:chOff x="1371600" y="4800600"/>
            <a:chExt cx="2286000" cy="586080"/>
          </a:xfrm>
        </p:grpSpPr>
        <p:sp>
          <p:nvSpPr>
            <p:cNvPr id="258" name=""/>
            <p:cNvSpPr/>
            <p:nvPr/>
          </p:nvSpPr>
          <p:spPr>
            <a:xfrm>
              <a:off x="160020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9548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57400" y="5029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096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1600" y="487656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6880" y="487656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733920" y="3276720"/>
            <a:ext cx="4952880" cy="34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D[n,m]=1: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e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distinguíveis. Ao examina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e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observ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que S[m,n] contém o par [i,j], logo são distinguíveis também (e faço D[i,j]=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D[n,m] não definido: não sei se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e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são distinguíveis. Ao examina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e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observ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que S[m,n] contém o par [i,j], logo serão distinguíveis se,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 em algum momento, descobrir que D[n,m]=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(e aí faço D[i,j]=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2515A-3A4A-449E-A5E0-AC7D62185B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lgoritmo para Identificar Equivalências de Esta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9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trada: AFD M=(Q,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icialização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6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cada par 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i&lt;j faça D[i,j]=0, S[i,j]=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ca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 i, j com i&lt;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6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é um estado final e 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não é um estado final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t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faça D[i, j]=1 (estados distinguíveis para a cadeia vazi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ca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 i, j com i&lt;j e D[i, ,j]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6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algum a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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a)=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a)=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D[n,m]=1 (ou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[m,n]=1), então DIST(i, 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6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n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ca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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fa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6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a)=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a)=q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6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m&lt;n e [i, j]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[x, y]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t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dicione [i, j] a S[x, y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6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não s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m&gt;n e [i, j]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[x, y]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t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dicione [i, j] a S[y, 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6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6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ST(i, 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6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[i, j]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6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to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[m, n]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[i, j] DIST(m, 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05E0D-BF0B-43E7-A789-AFB093D785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6T10:43:04Z</dcterms:created>
  <dc:creator>Carlos H. C. Ribeiro</dc:creator>
  <dc:description/>
  <dc:language>en-US</dc:language>
  <cp:lastModifiedBy>Carlos Henrique</cp:lastModifiedBy>
  <cp:lastPrinted>2001-03-22T11:56:25Z</cp:lastPrinted>
  <dcterms:modified xsi:type="dcterms:W3CDTF">2007-03-20T13:08:12Z</dcterms:modified>
  <cp:revision>291</cp:revision>
  <dc:subject/>
  <dc:title>Algoritmos de decisão para AFs, teorema Myhill-Nerode</dc:title>
</cp:coreProperties>
</file>