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D8EA-AE42-4C3A-946F-FBC2A6C6A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42EE-628C-4960-8148-A4A55076E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20F0-13B2-4AA8-B13A-B28BB7C9B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AC21-CFB6-4107-84BF-6C9C81555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99CC9-8BFA-4584-82E5-8C6DAA07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0AC61-CB55-4C5D-8F57-EA86C56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5FE4-3DB1-48AF-8637-2044458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BD81F-D058-45A4-9A7B-78F9271D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324FC-2314-421A-AD19-50244AC9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38A71-EA0D-4C15-8FEE-EE2A8C3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85A0-24FC-4443-957E-FE3DC85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C56D-1249-4C0C-B762-EF94A5D6F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44791-95A3-42D3-B1AE-771EB9CF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048E0-F025-4A3A-A2D5-7B1A45A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2D6D-5200-4CB5-86DB-66104A3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48452-52BD-4C84-B1B8-BDE5BE6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90782-5C84-4000-8B7D-FE36870C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684A-2F48-4CE4-AD9B-6C3B07F0A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7150-C3E9-4E38-A754-C01409900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CE84-445B-47CD-AFCD-890DFD99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7F9C-23B5-4306-9858-BA2D89DB5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151C-768A-4333-805F-45CE910A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9647-44F5-4F4C-B8F8-EA1528B00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EBA5-BCE2-49E9-A177-B9F2E246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609120" cy="6858000"/>
            <a:chOff x="-720" y="-4680"/>
            <a:chExt cx="609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3400" y="-4680"/>
              <a:ext cx="579960" cy="6857640"/>
              <a:chOff x="23400" y="-4680"/>
              <a:chExt cx="5799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7720" y="-4680"/>
                <a:ext cx="567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8080" y="1693080"/>
                <a:ext cx="567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8080" y="12873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8080" y="14940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8080" y="98496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8080" y="680400"/>
                <a:ext cx="567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080" y="372240"/>
                <a:ext cx="5749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3400" y="393948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3400" y="35337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3760" y="239544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3400" y="323028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3400" y="29268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3760" y="2617920"/>
                <a:ext cx="5749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7720" y="497052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7720" y="456444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400" y="5672520"/>
                <a:ext cx="567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34280" y="6395760"/>
                <a:ext cx="345960" cy="568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3400" y="62046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3400" y="5895000"/>
                <a:ext cx="5749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42520" y="3236760"/>
              <a:ext cx="6858000" cy="374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05560" y="3337560"/>
              <a:ext cx="6856200" cy="1717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626920" y="6356520"/>
            <a:ext cx="48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956360" y="6356520"/>
            <a:ext cx="95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A29-D34B-4E53-8D06-28E99FD9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B96-9777-4AA5-9CA8-F88D3EC6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422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. Carlos H. C. Ribeiro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Ramal: 5895   Sala: 106</a:t>
            </a: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860640"/>
            <a:ext cx="51832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ta finitos bidire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ta finitos com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pr. de fechamento p/ conjuntos re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: Mealy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Moo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a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09680" y="1828800"/>
            <a:ext cx="4572000" cy="1043640"/>
            <a:chOff x="2209680" y="1828800"/>
            <a:chExt cx="4572000" cy="1043640"/>
          </a:xfrm>
        </p:grpSpPr>
        <p:sp>
          <p:nvSpPr>
            <p:cNvPr id="332" name=""/>
            <p:cNvSpPr/>
            <p:nvPr/>
          </p:nvSpPr>
          <p:spPr>
            <a:xfrm>
              <a:off x="3352680" y="1981080"/>
              <a:ext cx="6858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90920" y="23623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38480" y="2362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3200" y="1828800"/>
              <a:ext cx="380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9680" y="23623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-1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5320" y="20574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91120" y="1828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62520" y="23623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1981080"/>
              <a:ext cx="6858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2057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429000" y="350532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335268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41911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3581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35268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581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487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ão funcion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r def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deveria mapear estados em saídas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ão dependendo de estad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tradas anteriores... E o que fazer se existirem 2 transições distintas p/ um est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E6B5-3D74-427C-AFC6-9ED26CD63D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: Mealy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Moo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a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59092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31240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2819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590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31240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27432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62720" y="2819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26708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41148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4952880"/>
            <a:ext cx="35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])=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43434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4114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Solução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r a saída produzida pela última transição Mealy como parte do estado Mo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267080"/>
            <a:ext cx="2286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43434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peia “estados”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x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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indep. de estados/entradas 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4E61-97DF-4803-9C6B-45B026D578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nguagens Regulares: Propriedades de Fechamen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91440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mbrando a definição de linguagem regul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Ø, {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 e {a}, para todo a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ão linguagens reg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 recursiv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e Y linguagens regulare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Y, XY e X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linguagens reg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chament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X é linguagem regular apenas se obtido dos elementos básicos por um número finito de aplicações do passo recur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linguagem é regular sss é reconhecida por um A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3276720"/>
            <a:ext cx="7924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 classe das linguagens regulares é fechada sob complementaçã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linguagem regular sobre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tão                    é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 classe das linguagens regulares é fechada sob intersecção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linguagens regulares, então              é linguagem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114800" y="4038480"/>
                <a:ext cx="1387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76720" y="5257800"/>
                <a:ext cx="949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0982-50C8-4EAF-B51C-031A872961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ubstitui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substitui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mapeamento de um alfabe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subconjuntos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ara algum alfabe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ndendo a definição para Cadeias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xa)=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para linguag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1981080"/>
            <a:ext cx="14479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2286000"/>
            <a:ext cx="99036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2133720"/>
            <a:ext cx="838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2514600"/>
            <a:ext cx="838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429000"/>
            <a:ext cx="838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200400" y="3200400"/>
                <a:ext cx="187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048120" y="2133720"/>
            <a:ext cx="8380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2096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715000" y="3276720"/>
                <a:ext cx="187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350532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388620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2209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668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581280" y="5334120"/>
                <a:ext cx="19814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CE42-97CD-430F-A7DB-6F39237AF2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bstituições: Exemplos e Fecham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0, 1}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a, 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10)=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0, 1}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a, 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L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0+1)1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)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a+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44956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orema: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classe das linguagens regulares é fechada sob substituiçõ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linguagem regular sobre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t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é regular (sobr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Y. Bar-Hilel, M. Perles e E. Shamir [196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0B6A-2F03-45E1-8FC6-FEA1951E3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momorfismos e Homomorfismos Invers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homomorfismo h é uma substituição que mapeia um alfabet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subconjunto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nitári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algum alfabet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omorfismos mapeiam símbolos em c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de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homomorfismo inverso 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linguagem L é 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)={x | h(x)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homomorfismo inverso 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cadeia w é 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w)={x | h(x)=w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{0, 1},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0) = aa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) = ab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010)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0) = aaab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{0, 1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0) = aa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) = aba, 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 (01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)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aaba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5F86-EF30-4A20-A729-894C32DB5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momorfismos Inversos: Exem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0, 1}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{a, 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) = aa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 = aba, L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ab+ba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(L)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676520" y="2286000"/>
            <a:ext cx="5410080" cy="3812400"/>
            <a:chOff x="1676520" y="2286000"/>
            <a:chExt cx="5410080" cy="3812400"/>
          </a:xfrm>
        </p:grpSpPr>
        <p:sp>
          <p:nvSpPr>
            <p:cNvPr id="415" name=""/>
            <p:cNvSpPr/>
            <p:nvPr/>
          </p:nvSpPr>
          <p:spPr>
            <a:xfrm>
              <a:off x="1828800" y="2743200"/>
              <a:ext cx="990720" cy="1905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33720" y="3581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28954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76520" y="2590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0440" y="2743200"/>
              <a:ext cx="1295280" cy="2362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39040" y="36576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29718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00800" y="2514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2590920"/>
              <a:ext cx="1295640" cy="28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42900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0240" y="26668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5320" y="2286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95840" y="350532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038840" y="4800600"/>
                  <a:ext cx="1872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⋮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3810240" y="38862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3920" y="3048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038840" y="34290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114800" y="411444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267440" y="373356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4267440" y="3047760"/>
              <a:ext cx="1447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267440" y="449532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24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3600" y="3505320"/>
              <a:ext cx="609840" cy="12189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44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640" y="3352680"/>
              <a:ext cx="609480" cy="1219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32120" y="426708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1" name=""/>
            <p:cNvCxnSpPr>
              <a:stCxn id="437" idx="4"/>
              <a:endCxn id="439" idx="4"/>
            </p:cNvCxnSpPr>
            <p:nvPr/>
          </p:nvCxnSpPr>
          <p:spPr>
            <a:xfrm flipV="1" rot="16200000">
              <a:off x="4990680" y="3466080"/>
              <a:ext cx="153000" cy="2363040"/>
            </a:xfrm>
            <a:prstGeom prst="curvedConnector5">
              <a:avLst>
                <a:gd name="adj1" fmla="val -744575"/>
                <a:gd name="adj2" fmla="val 49992"/>
                <a:gd name="adj3" fmla="val -744575"/>
              </a:avLst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42" name=""/>
            <p:cNvSpPr/>
            <p:nvPr/>
          </p:nvSpPr>
          <p:spPr>
            <a:xfrm>
              <a:off x="5639040" y="5638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004D-2357-439C-9261-3B3BE3820F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momorfismos Inversos: Exem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{0, 1}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{a, b}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          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0) = aa,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) = aba, L =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b+ba)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L)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) Cadeia w em L começando com b: não pode se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x) para nenhuma cadeia x de 0’s e 1’s! (pois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0) 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) começam com 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o, cadeias w em L que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pode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r imagem de cadeias x em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vem começar com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i) Caso 1: w=a Impossível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obre alfabeto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Cadeia de pelo menos dois símbol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o 2: w=abw’, para algum w’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b+ba)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caso, devo te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w) começando com 1 (aba), de modo a garantir o b na segunda posição. Mas aí, tenho 2 possibi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o 2.1: w’=a. Neste caso: w=aba, e portan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w) = 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so 2.2: w’=abw’’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w=ababw’’. Impossível de ser gerado a partir d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0) 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 classe das linguagens regulares é fechada sob homomorfismos.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Y. Bar-Hilel, M. Perles e E. Shamir [196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ema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 classe das linguagens regulares é fechada sob homomorfismos inversos.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.Ginsburg e G. Rose [1963]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0164-5679-4F8A-92E4-97C9A70D6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 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Pumping Lemma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para Conjunto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Inform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142640" y="2362320"/>
            <a:ext cx="4038840" cy="3355200"/>
            <a:chOff x="1142640" y="2362320"/>
            <a:chExt cx="4038840" cy="3355200"/>
          </a:xfrm>
        </p:grpSpPr>
        <p:sp>
          <p:nvSpPr>
            <p:cNvPr id="448" name=""/>
            <p:cNvSpPr/>
            <p:nvPr/>
          </p:nvSpPr>
          <p:spPr>
            <a:xfrm>
              <a:off x="1218960" y="28195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9880" y="28195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8960" y="51055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9880" y="51055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2480" y="3048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14800" y="32767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1523880" y="32767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752120" y="5334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6" name=""/>
            <p:cNvCxnSpPr>
              <a:stCxn id="448" idx="7"/>
              <a:endCxn id="448" idx="1"/>
            </p:cNvCxnSpPr>
            <p:nvPr/>
          </p:nvCxnSpPr>
          <p:spPr>
            <a:xfrm rot="5400000">
              <a:off x="1484280" y="2697840"/>
              <a:ext cx="2160" cy="378720"/>
            </a:xfrm>
            <a:prstGeom prst="curvedConnector5">
              <a:avLst>
                <a:gd name="adj1" fmla="val -18600000"/>
                <a:gd name="adj2" fmla="val 49952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49" idx="7"/>
              <a:endCxn id="449" idx="1"/>
            </p:cNvCxnSpPr>
            <p:nvPr/>
          </p:nvCxnSpPr>
          <p:spPr>
            <a:xfrm rot="5400000">
              <a:off x="4075200" y="2697840"/>
              <a:ext cx="2160" cy="378720"/>
            </a:xfrm>
            <a:prstGeom prst="curvedConnector5">
              <a:avLst>
                <a:gd name="adj1" fmla="val -18600000"/>
                <a:gd name="adj2" fmla="val 49952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 flipV="1">
              <a:off x="1676160" y="3200040"/>
              <a:ext cx="22100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1142640" y="297180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142640" y="30481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86200" y="5181480"/>
              <a:ext cx="38088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95280" y="27432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86200" y="27432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6200" y="50292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5280" y="50292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25909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18960" y="38098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61960" y="5257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020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14800" y="3733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0760" y="2438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876920" y="1981080"/>
            <a:ext cx="3504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aa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bba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aa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bab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aa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    v      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6920" y="5410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cadeia “bombeada” (pump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60000">
            <a:off x="5295960" y="4686480"/>
            <a:ext cx="380880" cy="1218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E280-0BED-4E79-AD60-954A4C06B9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Pumping Lemma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para Conjuntos Regula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m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grafo de estados de um AFD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k estados. Então qualquer caminho de comprimento k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ntém um cic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v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minho de comprimento k: k+1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 existem k nós em M: existirá um nó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ocorre pelo menos duas vezes. A subtrajetória entre a primeira e a segunda ocorrências d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cic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rolár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grafo de estados de um AFD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k estados, e seja p um caminho de comprimento maior igual a k. Então p pode ser decomposto em subtrajetórias q, r e s (p=qrs), em que o comprimento de qr é menor ou igual a k e r é um cic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2DE7-5A46-4E59-AD0B-EB0FCDA35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utomata Bidire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990720"/>
            <a:ext cx="7334280" cy="1405440"/>
            <a:chOff x="990720" y="990720"/>
            <a:chExt cx="7334280" cy="1405440"/>
          </a:xfrm>
        </p:grpSpPr>
        <p:sp>
          <p:nvSpPr>
            <p:cNvPr id="131" name=""/>
            <p:cNvSpPr/>
            <p:nvPr/>
          </p:nvSpPr>
          <p:spPr>
            <a:xfrm>
              <a:off x="990720" y="990720"/>
              <a:ext cx="26496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5680" y="990720"/>
              <a:ext cx="26532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000" y="990720"/>
              <a:ext cx="26496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0920" y="990720"/>
              <a:ext cx="26532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5960" y="990720"/>
              <a:ext cx="26496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16240" y="990720"/>
              <a:ext cx="26496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2480" y="1821240"/>
              <a:ext cx="530280" cy="51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9080" y="1886040"/>
              <a:ext cx="46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387440" y="130968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2760" y="1886040"/>
              <a:ext cx="165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e fin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6240" y="1246320"/>
              <a:ext cx="79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21000" y="1565640"/>
              <a:ext cx="463320" cy="255600"/>
            </a:xfrm>
            <a:prstGeom prst="rightArrow">
              <a:avLst>
                <a:gd name="adj1" fmla="val 50000"/>
                <a:gd name="adj2" fmla="val 453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5040" y="156564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F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743360" y="990720"/>
              <a:ext cx="3581640" cy="1404000"/>
              <a:chOff x="4743360" y="990720"/>
              <a:chExt cx="3581640" cy="1404000"/>
            </a:xfrm>
          </p:grpSpPr>
          <p:sp>
            <p:nvSpPr>
              <p:cNvPr id="145" name=""/>
              <p:cNvSpPr/>
              <p:nvPr/>
            </p:nvSpPr>
            <p:spPr>
              <a:xfrm>
                <a:off x="4942080" y="990720"/>
                <a:ext cx="26496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07040" y="990720"/>
                <a:ext cx="26676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73800" y="990720"/>
                <a:ext cx="26496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04080" y="990720"/>
                <a:ext cx="26496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38760" y="990720"/>
                <a:ext cx="26532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69040" y="990720"/>
                <a:ext cx="265320" cy="2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75280" y="1820880"/>
                <a:ext cx="530280" cy="51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41880" y="1884600"/>
                <a:ext cx="463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340240" y="130968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5560" y="1884600"/>
                <a:ext cx="165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e fini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69040" y="1246320"/>
                <a:ext cx="79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73800" y="1501920"/>
                <a:ext cx="463320" cy="255600"/>
              </a:xfrm>
              <a:prstGeom prst="rightArrow">
                <a:avLst>
                  <a:gd name="adj1" fmla="val 50000"/>
                  <a:gd name="adj2" fmla="val 453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4743360" y="1501920"/>
                <a:ext cx="463680" cy="255600"/>
              </a:xfrm>
              <a:prstGeom prst="rightArrow">
                <a:avLst>
                  <a:gd name="adj1" fmla="val 50000"/>
                  <a:gd name="adj2" fmla="val 4535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31240" y="1373400"/>
                <a:ext cx="119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AF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144792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rá que isto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ment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o poder do automa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971800"/>
            <a:ext cx="769608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2AFD é um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íntup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 = conjunto finito de estados,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alfab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função de transição Q x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Q x {L, 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q,a)=(p,L): lê a em q, vai p/ estado p e move p/ esquer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q,a)=(p,R): lê a em q, vai p/ estado p e move p/ dir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estado inicial, F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 = conjunto de estados f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Fs, podemos definir operação do autômato para uma dada cadeia. Isto não serve para um 2AFD: preciso indicar 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re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movimento da fit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cada novo símbol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a cadeia que é lid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886200" y="2971800"/>
                <a:ext cx="2286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,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2781-F353-468F-A5B8-DD27ECDDB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Pumping Lemma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para Conjuntos Regula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ma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L uma linguagem regular aceita por um AFD M com k estados. Sej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adeia em L com comprimento  maior ou igual a k. Ent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ode ser escrito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. Bar-Hilel, M. Perles e E. Shamir [196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o útil para provar que uma dada linguag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é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gular: Basta mostrar que não existe uma decomposi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uma Cadeia da linguagem que satisfaça as condições do 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33720" y="2895480"/>
                <a:ext cx="5333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ABEF-5DFD-4039-B781-11F1F1ACF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1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{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a, b}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|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é quadrado perfeito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va por contrad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suma, por absurdo, que L é reg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ão L é aceita por algum AFD de k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 e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length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k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u mostrar que existe uma Cadeia decomposta de acordo com 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ujo comprimento não é quadrado perfei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al que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k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um quadrado perfe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mping Lemma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0 &lt;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k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cicl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length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k &lt; k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 2k + 1 = (k+1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ja: k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&lt;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&lt; (k+1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 não é quadrado perfeito (não pertence a L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A70F-61DD-4B80-9F45-186A94281B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2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{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| i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va por contrad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suma, por absurdo, que L é reg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ão L é aceita por algum AFD de k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mping lem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 e  lengt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k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length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k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u mostrar que existe uma cadeia decomposta de acordo com 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Pumping Lemm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não pertence à 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ertence a L, tem comprimento 2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mping Lemma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=a 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k - i - j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i+j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k e j &gt;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ciclo, posso realizar o bombeamen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 = a 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 j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k - i - j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k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639F-18C2-4884-A2B8-F0B45AEF82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AFD: Operação sobre Cadei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escrição instantâne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um 2AFD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cade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q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al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Cadeia de ent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estado atual do autôm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beça está lendo o 1o. símbolo da subcade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transição       em um 2AFD 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linguag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(M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ceita por um 2AFD é formada por cadei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ai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00400" y="2743200"/>
                <a:ext cx="281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/>
                      <m:lim>
                        <m:r>
                          <m:t xml:space="preserve">M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3429000"/>
                <a:ext cx="7696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a</m:t>
                    </m:r>
                    <m:r>
                      <m:t xml:space="preserve">≻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9480" y="3962520"/>
                <a:ext cx="8229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a</m:t>
                    </m:r>
                    <m:r>
                      <m:t xml:space="preserve">≻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19520" y="5334120"/>
                <a:ext cx="3886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w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wp</m:t>
                    </m:r>
                    <m:r>
                      <m:rPr>
                        <m:lit/>
                        <m:nor/>
                      </m:rPr>
                      <m:t xml:space="preserve">, para algum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1D39-F95F-4355-ABAB-C66AAFC60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410080" y="4267080"/>
            <a:ext cx="449604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R)        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R)        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R)        (q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0  1  0 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2286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0  1  0 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7480" y="304920"/>
            <a:ext cx="7619400" cy="5798880"/>
            <a:chOff x="357480" y="304920"/>
            <a:chExt cx="7619400" cy="5798880"/>
          </a:xfrm>
        </p:grpSpPr>
        <p:sp>
          <p:nvSpPr>
            <p:cNvPr id="173" name=""/>
            <p:cNvSpPr/>
            <p:nvPr/>
          </p:nvSpPr>
          <p:spPr>
            <a:xfrm>
              <a:off x="1828800" y="3505320"/>
              <a:ext cx="579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13336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4760" y="35053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799880" y="327672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244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95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100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39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047760" y="3276720"/>
              <a:ext cx="609840" cy="228600"/>
            </a:xfrm>
            <a:prstGeom prst="rightArrow">
              <a:avLst>
                <a:gd name="adj1" fmla="val 50000"/>
                <a:gd name="adj2" fmla="val 6669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434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335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79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810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1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1600" y="23623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0560" y="23623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22860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22860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360" y="3505320"/>
              <a:ext cx="57960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6728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35053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1280" y="3505320"/>
              <a:ext cx="57960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57600" y="35053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1760" y="3049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480" y="1523880"/>
              <a:ext cx="57960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914400" y="6858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1295280"/>
              <a:ext cx="527040" cy="211320"/>
            </a:xfrm>
            <a:prstGeom prst="rightArrow">
              <a:avLst>
                <a:gd name="adj1" fmla="val 50000"/>
                <a:gd name="adj2" fmla="val 623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810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1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66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7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" y="1523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0600" y="1295280"/>
              <a:ext cx="527040" cy="211320"/>
            </a:xfrm>
            <a:prstGeom prst="rightArrow">
              <a:avLst>
                <a:gd name="adj1" fmla="val 50000"/>
                <a:gd name="adj2" fmla="val 623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93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49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42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53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9096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3808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3808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3049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943600" y="685800"/>
              <a:ext cx="838080" cy="1379520"/>
              <a:chOff x="5943600" y="685800"/>
              <a:chExt cx="838080" cy="1379520"/>
            </a:xfrm>
          </p:grpSpPr>
          <p:sp>
            <p:nvSpPr>
              <p:cNvPr id="230" name=""/>
              <p:cNvSpPr/>
              <p:nvPr/>
            </p:nvSpPr>
            <p:spPr>
              <a:xfrm>
                <a:off x="5943600" y="1523880"/>
                <a:ext cx="579240" cy="541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248160" y="68580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19560" y="15238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352680" y="685800"/>
              <a:ext cx="838080" cy="1379520"/>
              <a:chOff x="3352680" y="685800"/>
              <a:chExt cx="838080" cy="1379520"/>
            </a:xfrm>
          </p:grpSpPr>
          <p:sp>
            <p:nvSpPr>
              <p:cNvPr id="234" name=""/>
              <p:cNvSpPr/>
              <p:nvPr/>
            </p:nvSpPr>
            <p:spPr>
              <a:xfrm>
                <a:off x="3352680" y="1523880"/>
                <a:ext cx="579240" cy="541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657240" y="68580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28640" y="15238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V="1">
              <a:off x="1218960" y="6858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962160" y="6858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943600" y="6858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17220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19076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/>
            <p:nvPr/>
          </p:nvCxnSpPr>
          <p:spPr>
            <a:xfrm flipH="1">
              <a:off x="7543080" y="533160"/>
              <a:ext cx="76680" cy="1981800"/>
            </a:xfrm>
            <a:prstGeom prst="curvedConnector5">
              <a:avLst>
                <a:gd name="adj1" fmla="val -468396"/>
                <a:gd name="adj2" fmla="val 50000"/>
                <a:gd name="adj3" fmla="val -468396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581280" y="43434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/>
            <p:nvPr/>
          </p:nvCxnSpPr>
          <p:spPr>
            <a:xfrm flipV="1" rot="10800000">
              <a:off x="761760" y="2590560"/>
              <a:ext cx="76680" cy="1981800"/>
            </a:xfrm>
            <a:prstGeom prst="curvedConnector5">
              <a:avLst>
                <a:gd name="adj1" fmla="val 629716"/>
                <a:gd name="adj2" fmla="val 50000"/>
                <a:gd name="adj3" fmla="val 629716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 flipV="1">
              <a:off x="2438280" y="26668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3434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0  1  0  0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24080" y="5334120"/>
              <a:ext cx="527040" cy="210960"/>
            </a:xfrm>
            <a:prstGeom prst="rightArrow">
              <a:avLst>
                <a:gd name="adj1" fmla="val 50000"/>
                <a:gd name="adj2" fmla="val 624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196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44197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248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756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000" y="44197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6688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44197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9076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86200" y="441972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160" y="441972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952880" y="4724280"/>
              <a:ext cx="838080" cy="1379520"/>
              <a:chOff x="4952880" y="4724280"/>
              <a:chExt cx="838080" cy="1379520"/>
            </a:xfrm>
          </p:grpSpPr>
          <p:sp>
            <p:nvSpPr>
              <p:cNvPr id="261" name=""/>
              <p:cNvSpPr/>
              <p:nvPr/>
            </p:nvSpPr>
            <p:spPr>
              <a:xfrm>
                <a:off x="4952880" y="5562360"/>
                <a:ext cx="579240" cy="541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257440" y="472428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8840" y="556236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V="1">
              <a:off x="2819160" y="47242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209680" y="4724280"/>
              <a:ext cx="838080" cy="1379520"/>
              <a:chOff x="2209680" y="4724280"/>
              <a:chExt cx="838080" cy="1379520"/>
            </a:xfrm>
          </p:grpSpPr>
          <p:sp>
            <p:nvSpPr>
              <p:cNvPr id="266" name=""/>
              <p:cNvSpPr/>
              <p:nvPr/>
            </p:nvSpPr>
            <p:spPr>
              <a:xfrm>
                <a:off x="2209680" y="5562360"/>
                <a:ext cx="579240" cy="541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2514240" y="472428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5640" y="556236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662940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838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838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0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838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28195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8195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8195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1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9528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10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9528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0100 q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1E57-1180-47A1-8A72-3C1FB9371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AFD Só Aceitam 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ceita por um 2AFD, então L é uma linguagem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a: Hopcroft/Ullman, págs. 40-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m 2AFD é equivalente a um AF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8B7A-92E6-48BF-9B80-C56A0D595D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utômata Finitos com Saí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é agora, só vimos AFs que não produzem saída (apenas indicam se aceitam ou não uma Cadeia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Moore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aídas associadas ao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áquinas de Mealy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aídas associadas à transi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CE85-EB49-4804-84D9-C2F02D9E71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Máquinas de Moo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a máquina de Moor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sextupla (Q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ond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o alfabeto da saída 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fine a saída associada a cada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..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..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ída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...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52480" y="1981080"/>
            <a:ext cx="5638680" cy="1069560"/>
            <a:chOff x="1752480" y="1981080"/>
            <a:chExt cx="5638680" cy="1069560"/>
          </a:xfrm>
        </p:grpSpPr>
        <p:sp>
          <p:nvSpPr>
            <p:cNvPr id="286" name=""/>
            <p:cNvSpPr/>
            <p:nvPr/>
          </p:nvSpPr>
          <p:spPr>
            <a:xfrm>
              <a:off x="1752480" y="2438280"/>
              <a:ext cx="533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71800" y="2438280"/>
              <a:ext cx="53316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67080" y="2438280"/>
              <a:ext cx="53352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28800" y="24382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7760" y="24382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43400" y="24382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0" y="274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4960" y="2743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274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52480" y="19810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95480" y="19810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198108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5562360" y="1981080"/>
              <a:ext cx="1828800" cy="1069560"/>
              <a:chOff x="5562360" y="1981080"/>
              <a:chExt cx="1828800" cy="106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5562360" y="2590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19560" y="2743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76760" y="2438280"/>
                <a:ext cx="533520" cy="609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53080" y="24382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00800" y="1981080"/>
                <a:ext cx="990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(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Máquinas de Me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3733920"/>
            <a:ext cx="784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.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a máquina de Mealy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sextupla (Q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, ond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o alfabeto da saída 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Q x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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fine a saída associada a cada transi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..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...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ída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,,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...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3880" y="5105520"/>
            <a:ext cx="6553440" cy="764280"/>
            <a:chOff x="1523880" y="5105520"/>
            <a:chExt cx="6553440" cy="764280"/>
          </a:xfrm>
        </p:grpSpPr>
        <p:grpSp>
          <p:nvGrpSpPr>
            <p:cNvPr id="307" name=""/>
            <p:cNvGrpSpPr/>
            <p:nvPr/>
          </p:nvGrpSpPr>
          <p:grpSpPr>
            <a:xfrm>
              <a:off x="1523880" y="5105520"/>
              <a:ext cx="4343400" cy="761400"/>
              <a:chOff x="1523880" y="5105520"/>
              <a:chExt cx="4343400" cy="761400"/>
            </a:xfrm>
          </p:grpSpPr>
          <p:sp>
            <p:nvSpPr>
              <p:cNvPr id="308" name=""/>
              <p:cNvSpPr/>
              <p:nvPr/>
            </p:nvSpPr>
            <p:spPr>
              <a:xfrm>
                <a:off x="1523880" y="5257800"/>
                <a:ext cx="53316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71440" y="5257800"/>
                <a:ext cx="53352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53352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23880" y="52578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7760" y="52578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24280" y="52578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7040" y="5562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04960" y="5562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81480" y="5562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81280" y="510552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(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,a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81080" y="510552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(q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,a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601992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7120" y="55623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5257800"/>
              <a:ext cx="53352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43800" y="52578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520" y="51055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51CC-A5B5-466A-9977-992038AB41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: Moore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Meal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ema 1 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(Q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é uma máquina de Moore, então existe uma máquina de Mealy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quivalente,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desde qu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gnoremos a primeira saída da máquina de Mo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va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(Q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’,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uma máquina de Mealy tal que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’(q,a) =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,a)). Entã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)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aliza as mesmas transições de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sob o mesmo conj. de estados e alfab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)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roduz as mesmas saídas de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menos da primei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).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’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ignor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).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’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  ok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).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’(q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  ok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419720" y="5486400"/>
                <a:ext cx="20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BD56-5AA5-47D7-86B2-82F42DCA7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: Mealy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Moo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 2 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(Q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é uma máquina de Mealy, então existe uma máquina de Moo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qui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v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(Qx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,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) uma máquina de Moore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) b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elemento qualquer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([q,b],a)=[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,a)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,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([q,b]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duz as mesmas saídas de M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obre um conjunto de estados univocamente mapeado a partir dos estados de M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1773-591B-4A1D-BD60-141C07A8F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Carlos Henrique</cp:lastModifiedBy>
  <cp:lastPrinted>2001-03-18T14:52:09Z</cp:lastPrinted>
  <dcterms:modified xsi:type="dcterms:W3CDTF">2007-03-07T17:25:35Z</dcterms:modified>
  <cp:revision>210</cp:revision>
  <dc:subject/>
  <dc:title>Linguagens Regulares e Máquinas de Estados Finitos</dc:title>
</cp:coreProperties>
</file>