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851C-F4A2-4F9E-8FC1-A0102FAE7C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A726-3BCF-4BA1-B5E3-65264D415D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E8BF-D4F1-4FA5-B750-52D1A935C1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B69-6294-4967-9F00-B741B94D7D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4AAA-2EC9-4F44-AAD7-B8941EE1BE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88D4-B82D-4589-AA03-16D0C4C3BF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8E0A-EB9A-4F56-95CC-6E5E522894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9AB0-F215-4554-AC46-77EDE4C27A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9321-F2D5-442D-ABAA-0DD442B5A1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E80-BA4E-4477-A6E1-ABAC76BC59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11F3-94ED-4A50-86AD-119FFC4E95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570F-257D-493D-84C6-590660036E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C12C-94E7-4FD3-BA2B-A763D2F317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1EF9-A7A3-4317-B21A-86D157A3C5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4BBC-F1E6-4B32-8C47-A2EA2C8756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BA40-11C7-4364-A33C-BCAA3F6F1E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FC96-729E-4F1D-B7D8-A6A78ABA4C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55D-5311-4E1C-8748-8ED5C2E064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EDD0-D5E0-4709-848F-C92F56836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7CD2-116E-4658-877F-BDB30B7C1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1ED0-DB3B-4CD0-8F36-C9AD0667B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C796-3081-4C4A-ACE3-C25E2C74D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BEBF6-276A-4CAA-BC6A-B1A0F9F1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99977-1A6C-43A3-80FF-1F693FD2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90964-7417-4383-8FE9-CB4BF2D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33B45-F6CB-4825-BAD0-C6FE7DE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BADF4-5848-4513-960C-9C5A499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AD778-5BD5-407C-879E-DE0B76BF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0F47-A6B1-42F3-885E-54C50B0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B264-5D17-4D25-980D-4FA272132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01DCA-1C06-4420-97C4-4E2A7DF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77E64-B67B-440E-BFFC-6ED9B86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7E0DD-A074-479E-AD2B-E8C12475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FB22-719B-452E-B0F7-04385C0A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1555E-C0CA-4BC9-B599-F4D5EF64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3AAC-F4AF-4CA5-8884-49AC72EE9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E17B-994B-414A-9168-7A670050E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0BE0-BF48-4DB1-90F1-988CE796D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6510-3049-4643-A228-981416B17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CB0B-3A5B-4782-93E2-5E1006A5E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CBEE-2253-4FED-ADB3-DE559DC25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E619-EE0B-454E-8B69-C59D7ACE0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609120" cy="6858000"/>
            <a:chOff x="-720" y="-4680"/>
            <a:chExt cx="609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23040" y="-2880"/>
              <a:ext cx="580320" cy="6855840"/>
              <a:chOff x="23040" y="-2880"/>
              <a:chExt cx="580320" cy="68558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28800" y="-2880"/>
                <a:ext cx="565560" cy="683496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6834960"/>
                  <a:gd name="textAreaBottom" fmla="*/ 6835320 h 683496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29160" y="1695240"/>
                <a:ext cx="565560" cy="50076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29160" y="1287360"/>
                <a:ext cx="565560" cy="50292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29160" y="151200"/>
                <a:ext cx="565560" cy="30312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29160" y="987480"/>
                <a:ext cx="565560" cy="34848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29160" y="682920"/>
                <a:ext cx="565560" cy="43164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30240" y="374400"/>
                <a:ext cx="573120" cy="374400"/>
              </a:xfrm>
              <a:custGeom>
                <a:avLst/>
                <a:gdLst>
                  <a:gd name="textAreaLeft" fmla="*/ 360 w 573120"/>
                  <a:gd name="textAreaRight" fmla="*/ 573840 w 57312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22680" y="3939840"/>
                <a:ext cx="565560" cy="49932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24480" y="3534120"/>
                <a:ext cx="565560" cy="50040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25560" y="2397240"/>
                <a:ext cx="565560" cy="30456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26280" y="3232800"/>
                <a:ext cx="565560" cy="34848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25200" y="2930040"/>
                <a:ext cx="565560" cy="42804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26640" y="2618280"/>
                <a:ext cx="572040" cy="375840"/>
              </a:xfrm>
              <a:custGeom>
                <a:avLst/>
                <a:gdLst>
                  <a:gd name="textAreaLeft" fmla="*/ -360 w 572040"/>
                  <a:gd name="textAreaRight" fmla="*/ 572040 w 5720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25200" y="4969800"/>
                <a:ext cx="565560" cy="50076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26280" y="4561920"/>
                <a:ext cx="565560" cy="50292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22680" y="5669280"/>
                <a:ext cx="565560" cy="30348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133560" y="6396480"/>
                <a:ext cx="345960" cy="56664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566640"/>
                  <a:gd name="textAreaBottom" fmla="*/ 567000 h 56664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22680" y="6201000"/>
                <a:ext cx="565560" cy="429480"/>
              </a:xfrm>
              <a:custGeom>
                <a:avLst/>
                <a:gdLst>
                  <a:gd name="textAreaLeft" fmla="*/ -360 w 565560"/>
                  <a:gd name="textAreaRight" fmla="*/ 565560 w 56556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22680" y="5892120"/>
                <a:ext cx="572040" cy="375480"/>
              </a:xfrm>
              <a:custGeom>
                <a:avLst/>
                <a:gdLst>
                  <a:gd name="textAreaLeft" fmla="*/ -360 w 572040"/>
                  <a:gd name="textAreaRight" fmla="*/ 572040 w 5720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241440" y="3237840"/>
              <a:ext cx="6856200" cy="37476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904480" y="3337200"/>
              <a:ext cx="6854760" cy="171000"/>
            </a:xfrm>
            <a:custGeom>
              <a:avLst/>
              <a:gdLst>
                <a:gd name="textAreaLeft" fmla="*/ -360 w 6854760"/>
                <a:gd name="textAreaRight" fmla="*/ 6854760 w 6854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556000" y="6427800"/>
            <a:ext cx="49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6360" y="642780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F315-D79F-4200-B3DB-192ACD472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5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>
                  <a:gd name="textAreaLeft" fmla="*/ 360 w 1001520"/>
                  <a:gd name="textAreaRight" fmla="*/ 1002240 w 1001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>
                  <a:gd name="textAreaLeft" fmla="*/ 360 w 988560"/>
                  <a:gd name="textAreaRight" fmla="*/ 989280 w 9885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>
                  <a:gd name="textAreaLeft" fmla="*/ 360 w 988560"/>
                  <a:gd name="textAreaRight" fmla="*/ 989280 w 9885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>
                  <a:gd name="textAreaLeft" fmla="*/ 360 w 988560"/>
                  <a:gd name="textAreaRight" fmla="*/ 989280 w 9885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>
                  <a:gd name="textAreaLeft" fmla="*/ 360 w 1001520"/>
                  <a:gd name="textAreaRight" fmla="*/ 1002240 w 1001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>
                  <a:gd name="textAreaLeft" fmla="*/ 360 w 988560"/>
                  <a:gd name="textAreaRight" fmla="*/ 989280 w 9885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0360"/>
                  <a:gd name="textAreaBottom" fmla="*/ 990720 h 9903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>
                  <a:gd name="textAreaLeft" fmla="*/ 360 w 988560"/>
                  <a:gd name="textAreaRight" fmla="*/ 989280 w 9885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>
                  <a:gd name="textAreaLeft" fmla="*/ 360 w 1001520"/>
                  <a:gd name="textAreaRight" fmla="*/ 1002240 w 10015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267-9334-482B-BC94-1F51E7FB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hyperlink" Target="mailto:tasinaffo@comp.ita.b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Paulo M. Tasinaffo   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tasinaffo@comp.ita.br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6945   Sala: 107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835280" y="3645000"/>
            <a:ext cx="518292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LA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mata de pilha e L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lema do bombeamento para L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0560" y="115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6200" y="11592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462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728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142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2852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1230480" y="830160"/>
            <a:ext cx="72291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0560" y="4428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3784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0560" y="142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2852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66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ço Reservado para Rodapé 3"/>
          <p:cNvSpPr/>
          <p:nvPr/>
        </p:nvSpPr>
        <p:spPr>
          <a:xfrm>
            <a:off x="2556000" y="642780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7956720" y="642780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553-DC12-424D-9304-C7B30D1F7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O </a:t>
            </a:r>
            <a:r>
              <a:rPr b="1" i="1" lang="pt-BR" sz="2400" spc="-1" strike="noStrike">
                <a:solidFill>
                  <a:srgbClr val="003366"/>
                </a:solidFill>
                <a:latin typeface="Times New Roman"/>
              </a:rPr>
              <a:t>Pumping Lemma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para Linguagens Livres de Contex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L uma linguagem livre de contexto. Então existe uma constante n (dependente apenas da linguagem L) tal que, se z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 e length(z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, podemos escrever z=uvwxy de mo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vx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vwx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 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 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, para todo 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sponde ao bombeament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u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ubcadeias separadas por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no caso de linguagens regulares, posso usar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mostrar que uma linguage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 é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ivre de contexto. A idéia é prestar atenção especial às subcadeias bombeadas v e x, e, assumindo que a linguagem seja LC, tentar chegar a alguma contrad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ço Reservado para Rodapé 3"/>
          <p:cNvSpPr/>
          <p:nvPr/>
        </p:nvSpPr>
        <p:spPr>
          <a:xfrm>
            <a:off x="2556000" y="642780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7956720" y="642780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415C-2597-405C-863A-37E578FB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 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e que L={a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| i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1} não é livre de contex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ponha que L seja LC. Então, vale o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umping lemma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 existe um n correspondente. Seja z = a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L. Como length(z)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, então posso escrev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z = uvwxy, com length(vx)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, length(vwx)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, e uv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) vx não pode conter a’s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’s, pois teria que colocar n b’s entre eles (impossível, pois length (vw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) v e x não podem ter apenas a’s, pois se assim fosse tería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y = uwy com n b’s e n c’s, mas menos do que n a’s, já que alguns destes estariam em vx (pois length(v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). Assim, não poderia escrever uw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como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i) vx não pode conter apenas a’s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b’s, pois se assim fosse tería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y = uwy com n c’s, mas menos do que n a’s ou b’s, já que alguns destes estariam em vx (pois length(v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). Assim, não poderia escrever uw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como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 raciocínio análogo a ii), v e x não podem ter apenas b’s ou c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 raciocínio análogo a iii), vx não pode conter apenas a’s e c’s ou b’s e c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im, z=uvwx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(por hipótese), mas v e x não podem ser formados por nenhuma combinação de símbolos do alfabeto da linguagem L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radição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L não é livre de contex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ço Reservado para Rodapé 3"/>
          <p:cNvSpPr/>
          <p:nvPr/>
        </p:nvSpPr>
        <p:spPr>
          <a:xfrm>
            <a:off x="2556000" y="642780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7956720" y="642780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0C8-E63D-4893-BFC3-AC3794E5A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ve que L={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ength(w) é primo} não é livre de conte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nha que L seja L.C. Então, vale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existe um n correspondente: Seja z = 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, com k um número primo maior do que n. Como length(z)=k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, então posso escre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 = uvwxy, com length(vx)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 length(vwx)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, e uv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m = length(u) + length(w) + length(y). Então, o comprimento de qualquer cadeia z = u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uwy)+ length(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length(uwy) + i length(vx) = m + i (k-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articular, length(u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+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+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) = m + (k+1)(k-m) = k(k-m+1), que é divisível por k!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radiçã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11700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660240" y="822240"/>
            <a:ext cx="794412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66560" y="18900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14520" y="1125360"/>
            <a:ext cx="79898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2076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01520" y="1589040"/>
            <a:ext cx="8934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0560" y="115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6200" y="4428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907920" y="836640"/>
            <a:ext cx="7409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32076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560" y="142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800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1185840" y="836640"/>
            <a:ext cx="6699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06200" y="18900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80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0560" y="4428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06200" y="11592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755640" y="682560"/>
            <a:ext cx="75614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Paulo Tasinaffo</cp:lastModifiedBy>
  <cp:lastPrinted>2001-05-16T14:30:50Z</cp:lastPrinted>
  <dcterms:modified xsi:type="dcterms:W3CDTF">2012-11-06T13:03:10Z</dcterms:modified>
  <cp:revision>396</cp:revision>
  <dc:subject/>
  <dc:title>Automata de pilha e pumping lemma para GLCs</dc:title>
</cp:coreProperties>
</file>