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E41697F-5D53-4A97-A4B8-5DC4B29B2A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5. Aceita cadeias que terminam e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caieta cadeias que não terminam e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. Aceita cadeias que começam e terminam com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OU começam e terminam com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, ou seja: L(M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) = a {a,b}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b {a,b}</a:t>
            </a:r>
            <a:r>
              <a:rPr b="0" lang="pt-BR" sz="1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. Acaita cadeias que contêm ao menos um “1” e que tenham um número par de zeros após o último “1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B27C-3552-498D-941C-7293C5277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86BF-D4C0-4BFE-BA4F-25A1993B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66D2-D851-4B55-984F-250A41ABD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4009-5736-4C44-92EF-E3661DF16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0F00-3F08-40C5-9879-F55A2B2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EC17E-1AAE-49BE-8326-4832A66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91A72-0253-4FBD-A658-19AF93F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F0372-86DD-43E3-A574-3CB3914D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539A-F343-41FB-8FE9-D898358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8B25-2E16-49BD-B48A-67635FD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FA55A-6FC4-4874-9851-5D4814B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B176-5194-4E7F-9595-815F573C7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4475D-598D-4E0F-9E49-8901AC2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78D70-3F23-48A1-8154-36D3497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9A5A4-8AAE-496A-BDA7-D610D8E6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EB26B-B797-4615-973B-90810955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A9384-1DAE-4458-997E-B3B16C5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CE3D-8FB2-4F93-8044-21708B8A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75E5-9439-4D23-864D-41E090790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23A5-C752-4E3F-B49F-C5ACE9AC1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DB6C-25A5-4F0A-A186-2639EB79E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7C1D-791A-4701-8B6D-CA163AE26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C393-A8E6-4642-92F4-BF334F040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BFBE-2641-45B9-9D3D-ABE7FC1C5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609120" cy="6858000"/>
            <a:chOff x="-720" y="-4680"/>
            <a:chExt cx="609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3400" y="-4680"/>
              <a:ext cx="579960" cy="6857640"/>
              <a:chOff x="23400" y="-4680"/>
              <a:chExt cx="5799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7720" y="-4680"/>
                <a:ext cx="567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8080" y="1693080"/>
                <a:ext cx="567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8080" y="12873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8080" y="14940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8080" y="98496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8080" y="680400"/>
                <a:ext cx="567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080" y="372240"/>
                <a:ext cx="5749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3400" y="393948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3400" y="353376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3760" y="2395440"/>
                <a:ext cx="567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3400" y="3230280"/>
                <a:ext cx="567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3400" y="29268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3760" y="2617920"/>
                <a:ext cx="5749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7720" y="4970520"/>
                <a:ext cx="567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7720" y="4564440"/>
                <a:ext cx="567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400" y="5672520"/>
                <a:ext cx="567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34280" y="6395760"/>
                <a:ext cx="345960" cy="568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3400" y="6204600"/>
                <a:ext cx="567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3400" y="5895000"/>
                <a:ext cx="5749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42520" y="3236760"/>
              <a:ext cx="6858000" cy="374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05560" y="3337560"/>
              <a:ext cx="6856200" cy="1717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410920" y="635652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8027640" y="6356520"/>
            <a:ext cx="88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E2B-FC92-46D9-A4FC-50C82449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88E5-89EB-424C-A829-BB181E52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hyperlink" Target="mailto:tasinafo@comp.ita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68360" y="3962520"/>
            <a:ext cx="4419720" cy="17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UL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ta fin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ta finitos não-determiní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mata finitos com movimentos-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orema de Kle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781280"/>
            <a:ext cx="829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s. Carlos H. C. Ribeiro e Paulo M. Tasinaffo  </a:t>
            </a:r>
            <a:br>
              <a:rPr sz="2000"/>
            </a:b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tasinafo@comp.ita.br</a:t>
            </a:r>
            <a:br>
              <a:rPr sz="2000"/>
            </a:br>
            <a:br>
              <a:rPr sz="5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590920" y="914400"/>
            <a:ext cx="4190400" cy="1907640"/>
            <a:chOff x="2590920" y="914400"/>
            <a:chExt cx="4190400" cy="1907640"/>
          </a:xfrm>
        </p:grpSpPr>
        <p:sp>
          <p:nvSpPr>
            <p:cNvPr id="441" name=""/>
            <p:cNvSpPr/>
            <p:nvPr/>
          </p:nvSpPr>
          <p:spPr>
            <a:xfrm>
              <a:off x="4114800" y="1600200"/>
              <a:ext cx="6091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38680" y="1600200"/>
              <a:ext cx="6091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90920" y="16002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190512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24280" y="1905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>
              <a:stCxn id="443" idx="7"/>
              <a:endCxn id="443" idx="1"/>
            </p:cNvCxnSpPr>
            <p:nvPr/>
          </p:nvCxnSpPr>
          <p:spPr>
            <a:xfrm rot="5400000">
              <a:off x="2893680" y="1473840"/>
              <a:ext cx="216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"/>
            <p:cNvCxnSpPr>
              <a:stCxn id="441" idx="4"/>
              <a:endCxn id="443" idx="4"/>
            </p:cNvCxnSpPr>
            <p:nvPr/>
          </p:nvCxnSpPr>
          <p:spPr>
            <a:xfrm rot="5400000">
              <a:off x="3655800" y="1448640"/>
              <a:ext cx="2520" cy="1524240"/>
            </a:xfrm>
            <a:prstGeom prst="curvedConnector5">
              <a:avLst>
                <a:gd name="adj1" fmla="val 14400000"/>
                <a:gd name="adj2" fmla="val 49988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2" idx="7"/>
              <a:endCxn id="442" idx="1"/>
            </p:cNvCxnSpPr>
            <p:nvPr/>
          </p:nvCxnSpPr>
          <p:spPr>
            <a:xfrm rot="5400000">
              <a:off x="5941800" y="1474200"/>
              <a:ext cx="2160" cy="43200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266688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076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15000" y="16765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5000" y="1676520"/>
              <a:ext cx="456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19160" y="914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2362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14479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528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3600" y="91440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066680" y="3048120"/>
            <a:ext cx="7162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e automato aceita qualquer cadeia que contenha dois b´s segui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z-se que este automato finit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onhec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linguagem definida por cadeias com dois b´s seg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457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FA90-A350-4CD0-9CCF-1579D7BD7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143000" y="228600"/>
            <a:ext cx="73915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{q1, q2}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0,1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q1,  F = {q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057400" y="762120"/>
          <a:ext cx="1981080" cy="1185840"/>
        </p:xfrm>
        <a:graphic>
          <a:graphicData uri="http://schemas.openxmlformats.org/drawingml/2006/table">
            <a:tbl>
              <a:tblPr/>
              <a:tblGrid>
                <a:gridCol w="660240"/>
                <a:gridCol w="660240"/>
                <a:gridCol w="66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2" name=""/>
          <p:cNvGrpSpPr/>
          <p:nvPr/>
        </p:nvGrpSpPr>
        <p:grpSpPr>
          <a:xfrm>
            <a:off x="4800600" y="685800"/>
            <a:ext cx="2514600" cy="1907280"/>
            <a:chOff x="4800600" y="685800"/>
            <a:chExt cx="2514600" cy="1907280"/>
          </a:xfrm>
        </p:grpSpPr>
        <p:sp>
          <p:nvSpPr>
            <p:cNvPr id="463" name=""/>
            <p:cNvSpPr/>
            <p:nvPr/>
          </p:nvSpPr>
          <p:spPr>
            <a:xfrm>
              <a:off x="6400800" y="137160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53240" y="13716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62720" y="1676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4" idx="7"/>
              <a:endCxn id="464" idx="1"/>
            </p:cNvCxnSpPr>
            <p:nvPr/>
          </p:nvCxnSpPr>
          <p:spPr>
            <a:xfrm rot="5400000">
              <a:off x="5256360" y="1245240"/>
              <a:ext cx="216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7" name=""/>
            <p:cNvCxnSpPr>
              <a:endCxn id="464" idx="4"/>
            </p:cNvCxnSpPr>
            <p:nvPr/>
          </p:nvCxnSpPr>
          <p:spPr>
            <a:xfrm rot="5400000">
              <a:off x="6018480" y="1219680"/>
              <a:ext cx="2160" cy="1524960"/>
            </a:xfrm>
            <a:prstGeom prst="curvedConnector5">
              <a:avLst>
                <a:gd name="adj1" fmla="val 14400000"/>
                <a:gd name="adj2" fmla="val 49988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63" idx="7"/>
              <a:endCxn id="463" idx="1"/>
            </p:cNvCxnSpPr>
            <p:nvPr/>
          </p:nvCxnSpPr>
          <p:spPr>
            <a:xfrm rot="5400000">
              <a:off x="6704280" y="1245240"/>
              <a:ext cx="2160" cy="43272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>
              <a:off x="5029200" y="1447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77120" y="1447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77120" y="144756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81840" y="6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9132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91320" y="1218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4800600" y="15998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800600" y="17524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219320" y="28954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Q = {q1, q2}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0,1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q1,  F = {q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209680" y="3429000"/>
          <a:ext cx="1981440" cy="1185840"/>
        </p:xfrm>
        <a:graphic>
          <a:graphicData uri="http://schemas.openxmlformats.org/drawingml/2006/table">
            <a:tbl>
              <a:tblPr/>
              <a:tblGrid>
                <a:gridCol w="660240"/>
                <a:gridCol w="660240"/>
                <a:gridCol w="66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0" name=""/>
          <p:cNvGrpSpPr/>
          <p:nvPr/>
        </p:nvGrpSpPr>
        <p:grpSpPr>
          <a:xfrm>
            <a:off x="4876560" y="4114800"/>
            <a:ext cx="2514960" cy="1907640"/>
            <a:chOff x="4876560" y="4114800"/>
            <a:chExt cx="2514960" cy="1907640"/>
          </a:xfrm>
        </p:grpSpPr>
        <p:sp>
          <p:nvSpPr>
            <p:cNvPr id="481" name=""/>
            <p:cNvSpPr/>
            <p:nvPr/>
          </p:nvSpPr>
          <p:spPr>
            <a:xfrm>
              <a:off x="6477120" y="48006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9200" y="48006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3904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stCxn id="482" idx="7"/>
              <a:endCxn id="482" idx="1"/>
            </p:cNvCxnSpPr>
            <p:nvPr/>
          </p:nvCxnSpPr>
          <p:spPr>
            <a:xfrm rot="5400000">
              <a:off x="5332680" y="4673520"/>
              <a:ext cx="2520" cy="43272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endCxn id="482" idx="4"/>
            </p:cNvCxnSpPr>
            <p:nvPr/>
          </p:nvCxnSpPr>
          <p:spPr>
            <a:xfrm rot="5400000">
              <a:off x="6094440" y="4647240"/>
              <a:ext cx="2520" cy="15246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81" idx="7"/>
              <a:endCxn id="481" idx="1"/>
            </p:cNvCxnSpPr>
            <p:nvPr/>
          </p:nvCxnSpPr>
          <p:spPr>
            <a:xfrm rot="5400000">
              <a:off x="6780240" y="4673520"/>
              <a:ext cx="252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5105520" y="4876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53440" y="4876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7800" y="4114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6764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6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876560" y="50292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560" y="5181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432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48769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514600" y="228600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51055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F21C-7F43-474F-BB2F-B038F7DD8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143000" y="228600"/>
            <a:ext cx="739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1219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438280" y="1447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438280" y="16002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289548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37339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00400" y="37339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5" idx="7"/>
            <a:endCxn id="505" idx="1"/>
          </p:cNvCxnSpPr>
          <p:nvPr/>
        </p:nvCxnSpPr>
        <p:spPr>
          <a:xfrm rot="5400000">
            <a:off x="3503520" y="3607560"/>
            <a:ext cx="2160" cy="432360"/>
          </a:xfrm>
          <a:prstGeom prst="curvedConnector5">
            <a:avLst>
              <a:gd name="adj1" fmla="val -20000000"/>
              <a:gd name="adj2" fmla="val 50000"/>
              <a:gd name="adj3" fmla="val -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7"/>
            <a:endCxn id="504" idx="1"/>
          </p:cNvCxnSpPr>
          <p:nvPr/>
        </p:nvCxnSpPr>
        <p:spPr>
          <a:xfrm rot="5400000">
            <a:off x="4951440" y="3607560"/>
            <a:ext cx="2160" cy="432360"/>
          </a:xfrm>
          <a:prstGeom prst="curvedConnector5">
            <a:avLst>
              <a:gd name="adj1" fmla="val -20000000"/>
              <a:gd name="adj2" fmla="val 50000"/>
              <a:gd name="adj3" fmla="val -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3276720" y="38098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384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047760" y="3962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0477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8520" y="12193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1055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(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3920" y="609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9880" y="16765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29200" y="533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05520" y="1600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685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1752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00" idx="3"/>
            <a:endCxn id="518" idx="2"/>
          </p:cNvCxnSpPr>
          <p:nvPr/>
        </p:nvCxnSpPr>
        <p:spPr>
          <a:xfrm flipV="1">
            <a:off x="3276720" y="913680"/>
            <a:ext cx="4579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00" idx="3"/>
            <a:endCxn id="519" idx="2"/>
          </p:cNvCxnSpPr>
          <p:nvPr/>
        </p:nvCxnSpPr>
        <p:spPr>
          <a:xfrm>
            <a:off x="3276360" y="152388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9" idx="3"/>
            <a:endCxn id="519" idx="5"/>
          </p:cNvCxnSpPr>
          <p:nvPr/>
        </p:nvCxnSpPr>
        <p:spPr>
          <a:xfrm flipH="1" rot="16200000">
            <a:off x="4114080" y="1981440"/>
            <a:ext cx="2160" cy="432720"/>
          </a:xfrm>
          <a:prstGeom prst="curvedConnector5">
            <a:avLst>
              <a:gd name="adj1" fmla="val 20000000"/>
              <a:gd name="adj2" fmla="val 49958"/>
              <a:gd name="adj3" fmla="val 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1" idx="3"/>
            <a:endCxn id="521" idx="5"/>
          </p:cNvCxnSpPr>
          <p:nvPr/>
        </p:nvCxnSpPr>
        <p:spPr>
          <a:xfrm flipH="1" rot="16200000">
            <a:off x="5408280" y="1905480"/>
            <a:ext cx="2520" cy="432360"/>
          </a:xfrm>
          <a:prstGeom prst="curvedConnector5">
            <a:avLst>
              <a:gd name="adj1" fmla="val 20000000"/>
              <a:gd name="adj2" fmla="val 50000"/>
              <a:gd name="adj3" fmla="val 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1"/>
            <a:endCxn id="520" idx="7"/>
          </p:cNvCxnSpPr>
          <p:nvPr/>
        </p:nvCxnSpPr>
        <p:spPr>
          <a:xfrm flipH="1" rot="16200000">
            <a:off x="5333040" y="407160"/>
            <a:ext cx="2160" cy="432360"/>
          </a:xfrm>
          <a:prstGeom prst="curvedConnector5">
            <a:avLst>
              <a:gd name="adj1" fmla="val -20000000"/>
              <a:gd name="adj2" fmla="val 50000"/>
              <a:gd name="adj3" fmla="val -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8" idx="1"/>
            <a:endCxn id="518" idx="7"/>
          </p:cNvCxnSpPr>
          <p:nvPr/>
        </p:nvCxnSpPr>
        <p:spPr>
          <a:xfrm flipH="1" rot="16200000">
            <a:off x="4037400" y="482400"/>
            <a:ext cx="2520" cy="432360"/>
          </a:xfrm>
          <a:prstGeom prst="curvedConnector5">
            <a:avLst>
              <a:gd name="adj1" fmla="val -20000000"/>
              <a:gd name="adj2" fmla="val 50000"/>
              <a:gd name="adj3" fmla="val -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19" idx="5"/>
            <a:endCxn id="521" idx="3"/>
          </p:cNvCxnSpPr>
          <p:nvPr/>
        </p:nvCxnSpPr>
        <p:spPr>
          <a:xfrm flipH="1" flipV="1" rot="5400000">
            <a:off x="4723560" y="1726920"/>
            <a:ext cx="76680" cy="864360"/>
          </a:xfrm>
          <a:prstGeom prst="curvedConnector5">
            <a:avLst>
              <a:gd name="adj1" fmla="val -192452"/>
              <a:gd name="adj2" fmla="val 50000"/>
              <a:gd name="adj3" fmla="val -192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1" idx="1"/>
            <a:endCxn id="519" idx="7"/>
          </p:cNvCxnSpPr>
          <p:nvPr/>
        </p:nvCxnSpPr>
        <p:spPr>
          <a:xfrm rot="5400000">
            <a:off x="4723920" y="1295280"/>
            <a:ext cx="76680" cy="864360"/>
          </a:xfrm>
          <a:prstGeom prst="curvedConnector5">
            <a:avLst>
              <a:gd name="adj1" fmla="val -211320"/>
              <a:gd name="adj2" fmla="val 50000"/>
              <a:gd name="adj3" fmla="val -2113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0" idx="1"/>
            <a:endCxn id="518" idx="7"/>
          </p:cNvCxnSpPr>
          <p:nvPr/>
        </p:nvCxnSpPr>
        <p:spPr>
          <a:xfrm rot="5400000">
            <a:off x="4647600" y="227520"/>
            <a:ext cx="76680" cy="864360"/>
          </a:xfrm>
          <a:prstGeom prst="curvedConnector5">
            <a:avLst>
              <a:gd name="adj1" fmla="val -118396"/>
              <a:gd name="adj2" fmla="val 50000"/>
              <a:gd name="adj3" fmla="val -1183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18" idx="5"/>
            <a:endCxn id="520" idx="3"/>
          </p:cNvCxnSpPr>
          <p:nvPr/>
        </p:nvCxnSpPr>
        <p:spPr>
          <a:xfrm flipH="1" flipV="1" rot="5400000">
            <a:off x="4647240" y="660240"/>
            <a:ext cx="76680" cy="864360"/>
          </a:xfrm>
          <a:prstGeom prst="curvedConnector5">
            <a:avLst>
              <a:gd name="adj1" fmla="val -154716"/>
              <a:gd name="adj2" fmla="val 50000"/>
              <a:gd name="adj3" fmla="val -1547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8098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914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152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152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2209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76720" y="1600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914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228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1523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2438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5880" y="37339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3809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7220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48" idx="3"/>
            <a:endCxn id="504" idx="5"/>
          </p:cNvCxnSpPr>
          <p:nvPr/>
        </p:nvCxnSpPr>
        <p:spPr>
          <a:xfrm rot="5400000">
            <a:off x="5675400" y="3747240"/>
            <a:ext cx="2160" cy="1016640"/>
          </a:xfrm>
          <a:prstGeom prst="curvedConnector5">
            <a:avLst>
              <a:gd name="adj1" fmla="val 20000000"/>
              <a:gd name="adj2" fmla="val 49982"/>
              <a:gd name="adj3" fmla="val 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04" idx="7"/>
            <a:endCxn id="548" idx="1"/>
          </p:cNvCxnSpPr>
          <p:nvPr/>
        </p:nvCxnSpPr>
        <p:spPr>
          <a:xfrm flipH="1" rot="16200000">
            <a:off x="5676120" y="3315240"/>
            <a:ext cx="2160" cy="1016640"/>
          </a:xfrm>
          <a:prstGeom prst="curvedConnector5">
            <a:avLst>
              <a:gd name="adj1" fmla="val -20000000"/>
              <a:gd name="adj2" fmla="val 49982"/>
              <a:gd name="adj3" fmla="val -2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6386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7704-99CC-4B74-8B53-6B39C9689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Fs: Mais Defini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figuração instantâne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de um AF corresponde ao estado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cade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inda não processados num dado instante (um elemento de Q x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A configuração instantânea define o comportamen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utu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unção      em Q x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definida por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   [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notação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 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é  usada para indicar que configuração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pode ser obtida de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] por zero ou mais trans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de transição estend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de Q x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 descreve formalmente a operação de um AF sobre uma cadei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 é defini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ade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ceita (por um autôma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= p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L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aceita por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conjunto de cadeias em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itas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is AFs que aceitam a mesma linguagem são di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quivale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994280" y="3716280"/>
                <a:ext cx="25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47640" y="4357800"/>
                <a:ext cx="3862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v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1979640" y="765000"/>
            <a:ext cx="53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ja                               um 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905200" y="836640"/>
                <a:ext cx="28191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,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5" name=""/>
          <p:cNvGrpSpPr/>
          <p:nvPr/>
        </p:nvGrpSpPr>
        <p:grpSpPr>
          <a:xfrm>
            <a:off x="2268360" y="2852640"/>
            <a:ext cx="144360" cy="144720"/>
            <a:chOff x="2268360" y="2852640"/>
            <a:chExt cx="144360" cy="144720"/>
          </a:xfrm>
        </p:grpSpPr>
        <p:sp>
          <p:nvSpPr>
            <p:cNvPr id="566" name=""/>
            <p:cNvSpPr/>
            <p:nvPr/>
          </p:nvSpPr>
          <p:spPr>
            <a:xfrm>
              <a:off x="2268360" y="2852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68360" y="2925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227640" y="2852640"/>
            <a:ext cx="144360" cy="144720"/>
            <a:chOff x="6227640" y="2852640"/>
            <a:chExt cx="144360" cy="144720"/>
          </a:xfrm>
        </p:grpSpPr>
        <p:sp>
          <p:nvSpPr>
            <p:cNvPr id="569" name=""/>
            <p:cNvSpPr/>
            <p:nvPr/>
          </p:nvSpPr>
          <p:spPr>
            <a:xfrm>
              <a:off x="6227640" y="2852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27640" y="2925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771640" y="3068640"/>
            <a:ext cx="360360" cy="337320"/>
            <a:chOff x="2771640" y="3068640"/>
            <a:chExt cx="360360" cy="337320"/>
          </a:xfrm>
        </p:grpSpPr>
        <p:grpSp>
          <p:nvGrpSpPr>
            <p:cNvPr id="572" name=""/>
            <p:cNvGrpSpPr/>
            <p:nvPr/>
          </p:nvGrpSpPr>
          <p:grpSpPr>
            <a:xfrm>
              <a:off x="2844720" y="3213000"/>
              <a:ext cx="144360" cy="144720"/>
              <a:chOff x="2844720" y="3213000"/>
              <a:chExt cx="144360" cy="144720"/>
            </a:xfrm>
          </p:grpSpPr>
          <p:sp>
            <p:nvSpPr>
              <p:cNvPr id="573" name=""/>
              <p:cNvSpPr/>
              <p:nvPr/>
            </p:nvSpPr>
            <p:spPr>
              <a:xfrm>
                <a:off x="2844720" y="321300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844720" y="32860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277164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7A59-9ADD-493F-A88C-A378A6E3D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 = {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{a, b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= {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bba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ba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a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bab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ab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b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]   [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562720" y="1219320"/>
          <a:ext cx="65530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19320"/>
                    <a:ext cx="6553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6248520" y="1143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57800" y="1752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8120" y="5257800"/>
                <a:ext cx="18507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bba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bab</m:t>
                            </m:r>
                          </m:e>
                        </m:d>
                        <m:r>
                          <m:t xml:space="preserve">≠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5334120" y="5181480"/>
            <a:ext cx="259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dei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ei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dei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ita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36A3-1F91-452E-A1AF-87076BD08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Fs Não-Determinístic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ero, um ou mai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óximos estados podem resultar de compu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) = {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) = 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81080" y="19810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121932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057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81952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666880" y="15238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22860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66880" y="24382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1981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1295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28195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33920" y="1981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81280" y="1295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5760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828440" y="2514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37339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dado AFN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va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algum AF (embora mais “complicado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ifica prova de teoremas relacionados com AF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acilita projeto de autômatos reconhecedores de linguage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particular, AFNs serão usados para prov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linguagem L é aceita por um AF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 é uma linguagem re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23880" y="2971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80AF-DE3C-4D32-BA80-F765A4BC91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Fs Não-Determinísticos: Defini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FND é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íntu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 = conjunto finito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alfab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relação de transiçã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 x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x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estad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 = conjunto de estados fin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5029200" y="1143000"/>
                <a:ext cx="2590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,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1066680" y="3657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 = {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{a, b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= {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b]  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492360" y="3500280"/>
          <a:ext cx="2430720" cy="25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500280"/>
                    <a:ext cx="243072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784A-AE91-4F44-AC73-FCF21F6A4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FNDs: Outras Defini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                             um AF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ade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w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ceita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 existi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o menos u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utação que processa a cadeia e termina em estado de 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exemplo anterior: ababb é aceita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enotada L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é o conjunto de cadeias em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itas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905120" y="1066680"/>
                <a:ext cx="2286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,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3" name=""/>
          <p:cNvGrpSpPr/>
          <p:nvPr/>
        </p:nvGrpSpPr>
        <p:grpSpPr>
          <a:xfrm>
            <a:off x="2678040" y="3124080"/>
            <a:ext cx="3789360" cy="609480"/>
            <a:chOff x="2678040" y="3124080"/>
            <a:chExt cx="3789360" cy="609480"/>
          </a:xfrm>
        </p:grpSpPr>
        <p:sp>
          <p:nvSpPr>
            <p:cNvPr id="614" name=""/>
            <p:cNvSpPr/>
            <p:nvPr/>
          </p:nvSpPr>
          <p:spPr>
            <a:xfrm>
              <a:off x="2678040" y="3124080"/>
              <a:ext cx="541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19480" y="3124080"/>
              <a:ext cx="93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5840" y="3124080"/>
              <a:ext cx="933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89320" y="3124080"/>
              <a:ext cx="137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09680" y="3505320"/>
            <a:ext cx="4267440" cy="2514600"/>
            <a:chOff x="2209680" y="3505320"/>
            <a:chExt cx="4267440" cy="2514600"/>
          </a:xfrm>
        </p:grpSpPr>
        <p:sp>
          <p:nvSpPr>
            <p:cNvPr id="619" name=""/>
            <p:cNvSpPr/>
            <p:nvPr/>
          </p:nvSpPr>
          <p:spPr>
            <a:xfrm>
              <a:off x="25909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57600" y="40388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57600" y="54864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876920" y="3962520"/>
              <a:ext cx="609480" cy="609480"/>
              <a:chOff x="4876920" y="3962520"/>
              <a:chExt cx="609480" cy="609480"/>
            </a:xfrm>
          </p:grpSpPr>
          <p:sp>
            <p:nvSpPr>
              <p:cNvPr id="623" name=""/>
              <p:cNvSpPr/>
              <p:nvPr/>
            </p:nvSpPr>
            <p:spPr>
              <a:xfrm>
                <a:off x="4952880" y="403884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76920" y="39625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76920" y="5410440"/>
              <a:ext cx="609480" cy="609480"/>
              <a:chOff x="4876920" y="5410440"/>
              <a:chExt cx="609480" cy="609480"/>
            </a:xfrm>
          </p:grpSpPr>
          <p:sp>
            <p:nvSpPr>
              <p:cNvPr id="626" name=""/>
              <p:cNvSpPr/>
              <p:nvPr/>
            </p:nvSpPr>
            <p:spPr>
              <a:xfrm>
                <a:off x="4952880" y="548676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76920" y="541044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3048120" y="434304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48120" y="50292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14800" y="4267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4800" y="5715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2" name=""/>
            <p:cNvCxnSpPr>
              <a:stCxn id="619" idx="0"/>
              <a:endCxn id="619" idx="1"/>
            </p:cNvCxnSpPr>
            <p:nvPr/>
          </p:nvCxnSpPr>
          <p:spPr>
            <a:xfrm rot="5400000">
              <a:off x="2704320" y="4753080"/>
              <a:ext cx="67680" cy="162720"/>
            </a:xfrm>
            <a:prstGeom prst="curvedConnector5">
              <a:avLst>
                <a:gd name="adj1" fmla="val -342780"/>
                <a:gd name="adj2" fmla="val 49889"/>
                <a:gd name="adj3" fmla="val -3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3" name=""/>
            <p:cNvCxnSpPr>
              <a:stCxn id="624" idx="7"/>
              <a:endCxn id="624" idx="0"/>
            </p:cNvCxnSpPr>
            <p:nvPr/>
          </p:nvCxnSpPr>
          <p:spPr>
            <a:xfrm flipV="1" rot="16200000">
              <a:off x="5244480" y="3898080"/>
              <a:ext cx="89640" cy="216720"/>
            </a:xfrm>
            <a:prstGeom prst="curvedConnector5">
              <a:avLst>
                <a:gd name="adj1" fmla="val 356854"/>
                <a:gd name="adj2" fmla="val 49916"/>
                <a:gd name="adj3" fmla="val 3568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4" name=""/>
            <p:cNvCxnSpPr>
              <a:stCxn id="627" idx="7"/>
              <a:endCxn id="627" idx="0"/>
            </p:cNvCxnSpPr>
            <p:nvPr/>
          </p:nvCxnSpPr>
          <p:spPr>
            <a:xfrm flipV="1" rot="16200000">
              <a:off x="5244480" y="5346000"/>
              <a:ext cx="89640" cy="216720"/>
            </a:xfrm>
            <a:prstGeom prst="curvedConnector5">
              <a:avLst>
                <a:gd name="adj1" fmla="val 356854"/>
                <a:gd name="adj2" fmla="val 49916"/>
                <a:gd name="adj3" fmla="val 3568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5" name=""/>
            <p:cNvSpPr/>
            <p:nvPr/>
          </p:nvSpPr>
          <p:spPr>
            <a:xfrm>
              <a:off x="3200400" y="4267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3400" y="3886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00400" y="4953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97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49532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412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9680" y="42674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480060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57600" y="4038840"/>
              <a:ext cx="99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57600" y="5486400"/>
              <a:ext cx="99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52880" y="4038840"/>
              <a:ext cx="99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52880" y="5486400"/>
              <a:ext cx="99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019920" y="4267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ceita cadeias contendo subcadeias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087B-10E7-4FCC-952C-71BBFA975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 entre AFs e AFND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66680" y="1752480"/>
            <a:ext cx="73915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ore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ja L uma linguagem aceita por um AFND. Então existe um AF que aceita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) um AF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éia: Construir um AF M’ = (Q’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, F’) que si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ções realizadas por M. O AF manterá como “estado” o conjunto de todos os estados que podem resultar após uma dada computação de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7E2E-A744-4DA7-80DA-5548D365DC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762120" y="44197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66680" y="533520"/>
            <a:ext cx="78487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Q’ = Conjunto de todos os subconjuntos de Q (Q’ =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. Note portanto que os estados de M’ são entã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junt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estados de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otação para um elemento de Q’: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, onde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’ = 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F’ = estados de Q’ contendo um estado de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’([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, a) =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}, a) = {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...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}, a) representa a aplicação 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a cada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eguida da união dos conjuntos resultantes. Uma transição em M’ produz portanto um conjunto que contém todos os possíveis sucessores para cada possível estado de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B43C-830D-4C43-B819-B030390448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utômato Fini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o de sistema dinâmico em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um número finito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m transições entre estados, mediadas por entradas provenientes de um conjunto discreto finito (alfabe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cada estado, todas as transições produzidas por cada um dos símbolos do alfabeto estão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27672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: S1 (inicial), S2, S3 (fi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radas: {a,b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1280" y="3733920"/>
            <a:ext cx="4191120" cy="1907280"/>
            <a:chOff x="3581280" y="3733920"/>
            <a:chExt cx="4191120" cy="1907280"/>
          </a:xfrm>
        </p:grpSpPr>
        <p:sp>
          <p:nvSpPr>
            <p:cNvPr id="140" name=""/>
            <p:cNvSpPr/>
            <p:nvPr/>
          </p:nvSpPr>
          <p:spPr>
            <a:xfrm>
              <a:off x="5105520" y="441936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441936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441936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1120" y="4724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2" idx="7"/>
              <a:endCxn id="142" idx="1"/>
            </p:cNvCxnSpPr>
            <p:nvPr/>
          </p:nvCxnSpPr>
          <p:spPr>
            <a:xfrm rot="5400000">
              <a:off x="3885120" y="4291920"/>
              <a:ext cx="1800" cy="43272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0" idx="4"/>
              <a:endCxn id="142" idx="4"/>
            </p:cNvCxnSpPr>
            <p:nvPr/>
          </p:nvCxnSpPr>
          <p:spPr>
            <a:xfrm rot="5400000">
              <a:off x="4646520" y="4267440"/>
              <a:ext cx="2160" cy="15246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7"/>
              <a:endCxn id="141" idx="1"/>
            </p:cNvCxnSpPr>
            <p:nvPr/>
          </p:nvCxnSpPr>
          <p:spPr>
            <a:xfrm rot="5400000">
              <a:off x="6932880" y="4291920"/>
              <a:ext cx="180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365760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14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720" y="4495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5720" y="4495680"/>
              <a:ext cx="45720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419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3733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28640" y="4572000"/>
            <a:ext cx="152280" cy="304920"/>
            <a:chOff x="3428640" y="4572000"/>
            <a:chExt cx="152280" cy="304920"/>
          </a:xfrm>
        </p:grpSpPr>
        <p:sp>
          <p:nvSpPr>
            <p:cNvPr id="158" name=""/>
            <p:cNvSpPr/>
            <p:nvPr/>
          </p:nvSpPr>
          <p:spPr>
            <a:xfrm flipH="1" flipV="1">
              <a:off x="3428640" y="4572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428640" y="4724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90720" y="57150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ção por grafo direcionado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transi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C8FE-0C8D-4405-8E02-8B5C99031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62120" y="44197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080" y="304920"/>
            <a:ext cx="8001000" cy="72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vemos agora (por indução) que uma computação de uma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M’ “imita” o comportamento de M, isto 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)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a |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 |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0: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 = [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suponha válido para |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m: 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ii)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va para |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| = m+1: 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) =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,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 (por hipót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, a) = [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,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, a) = {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 (defini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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, a) = [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, a) = {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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) = [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) = {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nalmente, observe que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plic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[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’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= {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... p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 contém um estado de F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rtanto, L(M) = L(M’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volta é triv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5D0F-39A8-4ED9-BF80-1A2582D2B6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FNDs com Transições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2120" y="1447920"/>
            <a:ext cx="815328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 AFND com transiçõ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é um AFND em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lação de transiçã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 x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 seja: um AFND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eita transições “não-forçada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o 1. Um AFND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aceita um número de zeros (inclusive 0), seguidos por 1´s e 2´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o 2. Q={q1,q2,q3,q4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0,1}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q1, F={q4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819160" y="3809880"/>
            <a:ext cx="3962160" cy="914400"/>
            <a:chOff x="2819160" y="3809880"/>
            <a:chExt cx="3962160" cy="914400"/>
          </a:xfrm>
        </p:grpSpPr>
        <p:grpSp>
          <p:nvGrpSpPr>
            <p:cNvPr id="659" name=""/>
            <p:cNvGrpSpPr/>
            <p:nvPr/>
          </p:nvGrpSpPr>
          <p:grpSpPr>
            <a:xfrm>
              <a:off x="2971800" y="4267080"/>
              <a:ext cx="3428280" cy="457200"/>
              <a:chOff x="2971800" y="4267080"/>
              <a:chExt cx="3428280" cy="457200"/>
            </a:xfrm>
          </p:grpSpPr>
          <p:sp>
            <p:nvSpPr>
              <p:cNvPr id="660" name=""/>
              <p:cNvSpPr/>
              <p:nvPr/>
            </p:nvSpPr>
            <p:spPr>
              <a:xfrm>
                <a:off x="2971800" y="42670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95680" y="42670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43240" y="42670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28640" y="44956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52880" y="449568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019560" y="434340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895120" y="434304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819160" y="44956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8" name=""/>
            <p:cNvCxnSpPr>
              <a:stCxn id="660" idx="7"/>
              <a:endCxn id="660" idx="1"/>
            </p:cNvCxnSpPr>
            <p:nvPr/>
          </p:nvCxnSpPr>
          <p:spPr>
            <a:xfrm rot="5400000">
              <a:off x="3198600" y="4172040"/>
              <a:ext cx="2520" cy="32400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9" name=""/>
            <p:cNvCxnSpPr/>
            <p:nvPr/>
          </p:nvCxnSpPr>
          <p:spPr>
            <a:xfrm rot="5400000">
              <a:off x="4732200" y="4182480"/>
              <a:ext cx="2160" cy="32400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/>
            <p:nvPr/>
          </p:nvCxnSpPr>
          <p:spPr>
            <a:xfrm rot="5400000">
              <a:off x="6179760" y="4182120"/>
              <a:ext cx="216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3276360" y="38098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38098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24480" y="38098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47760" y="426708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95680" y="426708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19560" y="426708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57600" y="4114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57800" y="4114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98108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053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5943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62520" y="5943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1904760" y="57909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828440" y="5943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9" idx="7"/>
            <a:endCxn id="679" idx="1"/>
          </p:cNvCxnSpPr>
          <p:nvPr/>
        </p:nvCxnSpPr>
        <p:spPr>
          <a:xfrm rot="5400000">
            <a:off x="2208240" y="5619600"/>
            <a:ext cx="2520" cy="324360"/>
          </a:xfrm>
          <a:prstGeom prst="curvedConnector5">
            <a:avLst>
              <a:gd name="adj1" fmla="val -18600000"/>
              <a:gd name="adj2" fmla="val 50000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7" name=""/>
          <p:cNvSpPr/>
          <p:nvPr/>
        </p:nvSpPr>
        <p:spPr>
          <a:xfrm>
            <a:off x="228600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38680" y="5562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5715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05320" y="5715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476760" y="5456520"/>
            <a:ext cx="457560" cy="664200"/>
            <a:chOff x="6476760" y="5456520"/>
            <a:chExt cx="457560" cy="664200"/>
          </a:xfrm>
        </p:grpSpPr>
        <p:sp>
          <p:nvSpPr>
            <p:cNvPr id="692" name=""/>
            <p:cNvSpPr/>
            <p:nvPr/>
          </p:nvSpPr>
          <p:spPr>
            <a:xfrm>
              <a:off x="6477120" y="579132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"/>
            <p:cNvCxnSpPr/>
            <p:nvPr/>
          </p:nvCxnSpPr>
          <p:spPr>
            <a:xfrm rot="5400000">
              <a:off x="6637680" y="5630040"/>
              <a:ext cx="216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6477120" y="5715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666880" y="5562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67080" y="5562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594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5715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0080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0572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15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2060-BA14-4D23-83CB-B52FEA9AB5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43000" y="0"/>
            <a:ext cx="739152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chamento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 um estado q é o conjunto de todos os estados p tais que existe um caminho de q a p apenas com rótul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emplo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emplo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S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S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S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{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echamento-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LOSUR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66680" y="388620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AFs, tínha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AFNDs com transiçõe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nde P={p | para algum r em             , p está em          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782880" y="3886200"/>
                <a:ext cx="4233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v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447920" y="4724280"/>
                <a:ext cx="6848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OSUR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a</m:t>
                        </m:r>
                      </m:e>
                    </m:d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OSUR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5105520" y="5257800"/>
                <a:ext cx="761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934320" y="53341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C21A-CF69-4CA0-BF43-6C0D6CF90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quivalência entre AFNDs e AFNDs com Transições </a:t>
            </a:r>
            <a:r>
              <a:rPr b="0" lang="pt-BR" sz="36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21337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orem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Uma linguagem L é aceita por um AFN-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 e somente se L é aceita por um A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va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pcroft/Ullman, pág. 2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serve que a volta também vale, trivi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4174-A6DB-4116-AC68-67D74016F5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Relação entre AFs e Linguagens Reg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66680" y="198108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mos agora provar que as linguagens aceitas pelos automata finitos são aquelas definidas pelas expressões regulares (ou seja, as linguagens regula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é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3657600"/>
            <a:ext cx="14475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5880" y="4572000"/>
            <a:ext cx="14479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0"/>
            <a:endCxn id="716" idx="3"/>
          </p:cNvCxnSpPr>
          <p:nvPr/>
        </p:nvCxnSpPr>
        <p:spPr>
          <a:xfrm flipV="1" rot="16200000">
            <a:off x="5828760" y="3580560"/>
            <a:ext cx="572040" cy="14104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16" idx="1"/>
            <a:endCxn id="720" idx="0"/>
          </p:cNvCxnSpPr>
          <p:nvPr/>
        </p:nvCxnSpPr>
        <p:spPr>
          <a:xfrm flipV="1" rot="10800000">
            <a:off x="2780640" y="3999600"/>
            <a:ext cx="1181880" cy="5720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22" idx="3"/>
            <a:endCxn id="717" idx="2"/>
          </p:cNvCxnSpPr>
          <p:nvPr/>
        </p:nvCxnSpPr>
        <p:spPr>
          <a:xfrm flipV="1">
            <a:off x="5486400" y="5257080"/>
            <a:ext cx="1334160" cy="72468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426708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ND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ND’s com transiçõ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24480" y="5791320"/>
            <a:ext cx="38124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981080" y="4572000"/>
            <a:ext cx="3657600" cy="1752480"/>
            <a:chOff x="1981080" y="4572000"/>
            <a:chExt cx="3657600" cy="1752480"/>
          </a:xfrm>
        </p:grpSpPr>
        <p:sp>
          <p:nvSpPr>
            <p:cNvPr id="720" name=""/>
            <p:cNvSpPr/>
            <p:nvPr/>
          </p:nvSpPr>
          <p:spPr>
            <a:xfrm>
              <a:off x="1981080" y="45720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38480" y="5638680"/>
              <a:ext cx="144792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8" name=""/>
            <p:cNvCxnSpPr>
              <a:stCxn id="720" idx="2"/>
              <a:endCxn id="722" idx="1"/>
            </p:cNvCxnSpPr>
            <p:nvPr/>
          </p:nvCxnSpPr>
          <p:spPr>
            <a:xfrm flipH="1" rot="16200000">
              <a:off x="3047760" y="4990680"/>
              <a:ext cx="724680" cy="1257840"/>
            </a:xfrm>
            <a:prstGeom prst="curvedConnector2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729" name=""/>
            <p:cNvSpPr/>
            <p:nvPr/>
          </p:nvSpPr>
          <p:spPr>
            <a:xfrm>
              <a:off x="4191120" y="56386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ressões Reg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81080" y="46483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AF’s determinís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571500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66880" y="57150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64771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5F38-624B-4B4F-9DDA-3D01164E83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33920" y="609480"/>
            <a:ext cx="14475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76520" y="1676520"/>
            <a:ext cx="14475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38" idx="3"/>
            <a:endCxn id="737" idx="2"/>
          </p:cNvCxnSpPr>
          <p:nvPr/>
        </p:nvCxnSpPr>
        <p:spPr>
          <a:xfrm flipV="1">
            <a:off x="3123720" y="1294560"/>
            <a:ext cx="1334520" cy="72468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0" name=""/>
          <p:cNvSpPr/>
          <p:nvPr/>
        </p:nvSpPr>
        <p:spPr>
          <a:xfrm>
            <a:off x="182880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ões Re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09880" y="609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ND’s com transiçõ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762120"/>
            <a:ext cx="762120" cy="76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2590920"/>
            <a:ext cx="8686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orem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ja r uma expressão regular. Então existe um AFND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aceita L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aremos PIF sobre o número de operadores na expressã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se (nenhum operador). Neste caso, r é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adeia vazia), um símbolo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enhuma cadeia aceita). Os seguintes AFND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m, respectiv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4648320"/>
            <a:ext cx="1905120" cy="685800"/>
            <a:chOff x="609480" y="4648320"/>
            <a:chExt cx="1905120" cy="685800"/>
          </a:xfrm>
        </p:grpSpPr>
        <p:sp>
          <p:nvSpPr>
            <p:cNvPr id="745" name=""/>
            <p:cNvSpPr/>
            <p:nvPr/>
          </p:nvSpPr>
          <p:spPr>
            <a:xfrm>
              <a:off x="1905120" y="480060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29528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080" y="4800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81080" y="4800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81080" y="48769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120" y="480060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09480" y="50292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609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7160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943240" y="4800600"/>
            <a:ext cx="1905480" cy="533520"/>
            <a:chOff x="5943240" y="4800600"/>
            <a:chExt cx="1905480" cy="533520"/>
          </a:xfrm>
        </p:grpSpPr>
        <p:sp>
          <p:nvSpPr>
            <p:cNvPr id="755" name=""/>
            <p:cNvSpPr/>
            <p:nvPr/>
          </p:nvSpPr>
          <p:spPr>
            <a:xfrm>
              <a:off x="7238880" y="480060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200" y="4800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15200" y="4800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5200" y="4876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480060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943240" y="5029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594324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276360" y="4648320"/>
            <a:ext cx="1904760" cy="685800"/>
            <a:chOff x="3276360" y="4648320"/>
            <a:chExt cx="1904760" cy="685800"/>
          </a:xfrm>
        </p:grpSpPr>
        <p:sp>
          <p:nvSpPr>
            <p:cNvPr id="763" name=""/>
            <p:cNvSpPr/>
            <p:nvPr/>
          </p:nvSpPr>
          <p:spPr>
            <a:xfrm>
              <a:off x="4572000" y="4800600"/>
              <a:ext cx="532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216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4960" y="4800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47960" y="4800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47960" y="4876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29000" y="4800600"/>
              <a:ext cx="532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276360" y="5029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327636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38480" y="4648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C5F2-E8BF-4EEB-B56D-58098398C5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19320" y="380880"/>
            <a:ext cx="739116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. Indução. Suponha que o teorema seja válido para expressões regulares r com i-1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. Provemos a validade para i operadores. Por definição, expressões regulares são formadas vi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ncatenação ou estrela de Kleene. Temos portanto três casos a analis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.1 r 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, onde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tem até i-1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ste caso, serve o seguinte AFND-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437920" y="3581280"/>
            <a:ext cx="5258160" cy="1981440"/>
            <a:chOff x="2437920" y="3581280"/>
            <a:chExt cx="5258160" cy="1981440"/>
          </a:xfrm>
        </p:grpSpPr>
        <p:sp>
          <p:nvSpPr>
            <p:cNvPr id="775" name=""/>
            <p:cNvSpPr/>
            <p:nvPr/>
          </p:nvSpPr>
          <p:spPr>
            <a:xfrm>
              <a:off x="266688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7086600" y="4343400"/>
              <a:ext cx="609480" cy="533520"/>
              <a:chOff x="7086600" y="4343400"/>
              <a:chExt cx="609480" cy="533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086600" y="4343400"/>
                <a:ext cx="5331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62560" y="43434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162560" y="44197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2590560" y="434340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437920" y="4572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2437920" y="4419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33560" y="3581280"/>
              <a:ext cx="266724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33560" y="4800600"/>
              <a:ext cx="266724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5" name=""/>
            <p:cNvCxnSpPr>
              <a:stCxn id="780" idx="7"/>
              <a:endCxn id="783" idx="1"/>
            </p:cNvCxnSpPr>
            <p:nvPr/>
          </p:nvCxnSpPr>
          <p:spPr>
            <a:xfrm flipV="1">
              <a:off x="3045960" y="3962160"/>
              <a:ext cx="687960" cy="45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6" name=""/>
            <p:cNvCxnSpPr>
              <a:stCxn id="780" idx="5"/>
              <a:endCxn id="784" idx="1"/>
            </p:cNvCxnSpPr>
            <p:nvPr/>
          </p:nvCxnSpPr>
          <p:spPr>
            <a:xfrm>
              <a:off x="3045960" y="4799160"/>
              <a:ext cx="6879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7" name=""/>
            <p:cNvCxnSpPr>
              <a:stCxn id="783" idx="3"/>
              <a:endCxn id="777" idx="1"/>
            </p:cNvCxnSpPr>
            <p:nvPr/>
          </p:nvCxnSpPr>
          <p:spPr>
            <a:xfrm>
              <a:off x="6400440" y="3962520"/>
              <a:ext cx="764280" cy="45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4" idx="3"/>
              <a:endCxn id="777" idx="3"/>
            </p:cNvCxnSpPr>
            <p:nvPr/>
          </p:nvCxnSpPr>
          <p:spPr>
            <a:xfrm flipV="1">
              <a:off x="6400440" y="4798800"/>
              <a:ext cx="76428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9" name=""/>
            <p:cNvSpPr/>
            <p:nvPr/>
          </p:nvSpPr>
          <p:spPr>
            <a:xfrm>
              <a:off x="3809880" y="37339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09880" y="4952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5790960" y="3733920"/>
              <a:ext cx="609480" cy="533160"/>
              <a:chOff x="5790960" y="3733920"/>
              <a:chExt cx="609480" cy="533160"/>
            </a:xfrm>
          </p:grpSpPr>
          <p:sp>
            <p:nvSpPr>
              <p:cNvPr id="792" name=""/>
              <p:cNvSpPr/>
              <p:nvPr/>
            </p:nvSpPr>
            <p:spPr>
              <a:xfrm>
                <a:off x="5790960" y="373392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6920" y="373392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6920" y="3809880"/>
                <a:ext cx="381240" cy="38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790960" y="4952880"/>
              <a:ext cx="609480" cy="533520"/>
              <a:chOff x="5790960" y="4952880"/>
              <a:chExt cx="609480" cy="533520"/>
            </a:xfrm>
          </p:grpSpPr>
          <p:sp>
            <p:nvSpPr>
              <p:cNvPr id="796" name=""/>
              <p:cNvSpPr/>
              <p:nvPr/>
            </p:nvSpPr>
            <p:spPr>
              <a:xfrm>
                <a:off x="5790960" y="4952880"/>
                <a:ext cx="5331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6920" y="49528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6920" y="502920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3886200" y="37339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862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00600" y="37339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00600" y="49528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4080" y="3809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4776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05360" y="3809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360" y="4876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76ED-E294-4AC9-B1B6-C8B8228644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38080" y="1905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71600" y="380880"/>
            <a:ext cx="7010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mente defini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219320" y="990720"/>
                <a:ext cx="6095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671920" y="2149560"/>
                <a:ext cx="334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567160" y="2759040"/>
                <a:ext cx="3551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133720" y="3657600"/>
                <a:ext cx="2425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057400" y="4191120"/>
                <a:ext cx="627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q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981080" y="4724280"/>
                <a:ext cx="6389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q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1981080" y="5257800"/>
                <a:ext cx="343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3E65-CA27-4FD0-A8E0-F66BD25CCB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8600" y="304920"/>
            <a:ext cx="868680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 r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ond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m até i-1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 caso, serve o seguinte AFND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mente defini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1371600" y="3048120"/>
                <a:ext cx="6067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18" name=""/>
          <p:cNvGrpSpPr/>
          <p:nvPr/>
        </p:nvGrpSpPr>
        <p:grpSpPr>
          <a:xfrm>
            <a:off x="1599840" y="1447920"/>
            <a:ext cx="5867640" cy="761760"/>
            <a:chOff x="1599840" y="1447920"/>
            <a:chExt cx="5867640" cy="761760"/>
          </a:xfrm>
        </p:grpSpPr>
        <p:sp>
          <p:nvSpPr>
            <p:cNvPr id="819" name=""/>
            <p:cNvSpPr/>
            <p:nvPr/>
          </p:nvSpPr>
          <p:spPr>
            <a:xfrm>
              <a:off x="1676520" y="1447920"/>
              <a:ext cx="2666880" cy="761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52480" y="1523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3733920" y="1523880"/>
              <a:ext cx="609480" cy="533520"/>
              <a:chOff x="3733920" y="1523880"/>
              <a:chExt cx="609480" cy="533520"/>
            </a:xfrm>
          </p:grpSpPr>
          <p:sp>
            <p:nvSpPr>
              <p:cNvPr id="822" name=""/>
              <p:cNvSpPr/>
              <p:nvPr/>
            </p:nvSpPr>
            <p:spPr>
              <a:xfrm>
                <a:off x="3733920" y="1523880"/>
                <a:ext cx="5331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809880" y="15238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809880" y="160020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828800" y="1523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90920" y="1600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800600" y="1447920"/>
              <a:ext cx="2666880" cy="761760"/>
              <a:chOff x="4800600" y="1447920"/>
              <a:chExt cx="2666880" cy="761760"/>
            </a:xfrm>
          </p:grpSpPr>
          <p:sp>
            <p:nvSpPr>
              <p:cNvPr id="828" name=""/>
              <p:cNvSpPr/>
              <p:nvPr/>
            </p:nvSpPr>
            <p:spPr>
              <a:xfrm>
                <a:off x="4800600" y="1447920"/>
                <a:ext cx="2666880" cy="7617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76560" y="1600200"/>
                <a:ext cx="53352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6858000" y="1600200"/>
                <a:ext cx="609480" cy="532800"/>
                <a:chOff x="6858000" y="1600200"/>
                <a:chExt cx="609480" cy="5328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6858000" y="1600200"/>
                  <a:ext cx="533160" cy="532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33960" y="1600200"/>
                  <a:ext cx="53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33960" y="1676160"/>
                  <a:ext cx="381240" cy="380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4952880" y="1600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7280" y="16002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434340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43400" y="1828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1599840" y="16761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599840" y="18288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1143000" y="4191120"/>
                <a:ext cx="627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q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143000" y="4724280"/>
                <a:ext cx="6389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q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1143000" y="5257800"/>
                <a:ext cx="2008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0B8C-BBF9-47A5-A7DC-66E2A123A9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457200" y="304920"/>
            <a:ext cx="868680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3 r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, ond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m até i-1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111400" y="3200400"/>
                <a:ext cx="458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3124080" y="1447920"/>
            <a:ext cx="266724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00400" y="1523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81480" y="1523880"/>
            <a:ext cx="609480" cy="533520"/>
            <a:chOff x="5181480" y="1523880"/>
            <a:chExt cx="609480" cy="533520"/>
          </a:xfrm>
        </p:grpSpPr>
        <p:sp>
          <p:nvSpPr>
            <p:cNvPr id="848" name=""/>
            <p:cNvSpPr/>
            <p:nvPr/>
          </p:nvSpPr>
          <p:spPr>
            <a:xfrm>
              <a:off x="5181480" y="15238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57440" y="1523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57440" y="1600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276720" y="1523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038480" y="1600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91320" y="1447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913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1143000" y="4191120"/>
                <a:ext cx="627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e </m:t>
                    </m:r>
                    <m:r>
                      <m:t xml:space="preserve">q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143000" y="4724280"/>
                <a:ext cx="3905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57" name=""/>
          <p:cNvGrpSpPr/>
          <p:nvPr/>
        </p:nvGrpSpPr>
        <p:grpSpPr>
          <a:xfrm>
            <a:off x="6324480" y="1523880"/>
            <a:ext cx="609480" cy="533520"/>
            <a:chOff x="6324480" y="1523880"/>
            <a:chExt cx="609480" cy="533520"/>
          </a:xfrm>
        </p:grpSpPr>
        <p:sp>
          <p:nvSpPr>
            <p:cNvPr id="858" name=""/>
            <p:cNvSpPr/>
            <p:nvPr/>
          </p:nvSpPr>
          <p:spPr>
            <a:xfrm>
              <a:off x="6324480" y="15238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00440" y="1523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00440" y="1600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981080" y="1523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57400" y="1523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1460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1447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5" name=""/>
          <p:cNvCxnSpPr>
            <a:stCxn id="861" idx="4"/>
            <a:endCxn id="858" idx="4"/>
          </p:cNvCxnSpPr>
          <p:nvPr/>
        </p:nvCxnSpPr>
        <p:spPr>
          <a:xfrm flipH="1" rot="16200000">
            <a:off x="4417560" y="-113760"/>
            <a:ext cx="2160" cy="4343760"/>
          </a:xfrm>
          <a:prstGeom prst="curvedConnector5">
            <a:avLst>
              <a:gd name="adj1" fmla="val 31880000"/>
              <a:gd name="adj2" fmla="val 49995"/>
              <a:gd name="adj3" fmla="val 318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49" idx="0"/>
            <a:endCxn id="851" idx="0"/>
          </p:cNvCxnSpPr>
          <p:nvPr/>
        </p:nvCxnSpPr>
        <p:spPr>
          <a:xfrm rot="5400000">
            <a:off x="4532400" y="533160"/>
            <a:ext cx="2520" cy="1981800"/>
          </a:xfrm>
          <a:prstGeom prst="curvedConnector5">
            <a:avLst>
              <a:gd name="adj1" fmla="val -39100000"/>
              <a:gd name="adj2" fmla="val 50000"/>
              <a:gd name="adj3" fmla="val -39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4267080" y="533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1911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B4BC-0A3A-4BD9-A941-DE9EC88E98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utomata Finitos: Definição Forma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autômato finito é u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íntup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conjunto finit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fab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unção de transição Q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= conjunto de estados finais (aceitado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00400" y="2666880"/>
                <a:ext cx="28195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,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6B27-C72B-444B-8B0B-5D31D1B244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ercíci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114300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Construir AFND-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’s para as seguintes linguagens regu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1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2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0+(0+11)0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Construir um AF equiv. ao AFND ({p,q,r,s},{0,1},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p,{s}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ndo a função de tran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,q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9092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7672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750F-1FA4-4719-BE38-B8044A97A7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" y="762120"/>
            <a:ext cx="762120" cy="76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" y="2666880"/>
            <a:ext cx="8686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orem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ja L uma linguagem aceita por um AF. Então L é uma linguagem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va (informal)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mecanismo que gera uma linguagem regular a partir de qualquer AF. A idéia é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reduzir”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sso a passo o autômato original, mostrando que o que ele produz ao final é uma expressã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iste uma prova formal em Hopcroft/Ullman (pág. 3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81080" y="609480"/>
            <a:ext cx="16002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8480" y="1676520"/>
            <a:ext cx="14479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stCxn id="876" idx="2"/>
            <a:endCxn id="877" idx="1"/>
          </p:cNvCxnSpPr>
          <p:nvPr/>
        </p:nvCxnSpPr>
        <p:spPr>
          <a:xfrm flipH="1" rot="16200000">
            <a:off x="3047760" y="1028160"/>
            <a:ext cx="724680" cy="125784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4191120" y="1676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ões Re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98108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F’s determiní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9163-A8B5-4EFC-A23B-9D548E163C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Um algoritmo para gerar expressões regulares a partir de um AF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 M um automato com Q={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...,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, e seja m o número de estados finais de M (ou seja, card(F)=m). Seja w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rótulo (símbolo do alfabeto) associado à transição do estado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 estado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, faça  m cópias 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...,M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M, cada uma com um estado final difer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4688-2CB0-4622-B360-E91A1FC525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ada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ha um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m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que não seja inicial ou final em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todo j,k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 (mas possivelmente j=k), faç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 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ntão adicione um arco d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q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rótulo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 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ntão adicione um arco de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q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rótulo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j 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j e k têm arcos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...,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ectando-os, então substitua todos os arcos por um único 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mova o nó 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todos os seus arcos incidentes em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que os únicos nós em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jam o estado inicial e o (único) estado final. Determine então a expressão L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ceita por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pressão regular aceita por M é formada pela união: L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895480" y="5097600"/>
            <a:ext cx="3298680" cy="776160"/>
            <a:chOff x="2895480" y="5097600"/>
            <a:chExt cx="3298680" cy="776160"/>
          </a:xfrm>
        </p:grpSpPr>
        <p:grpSp>
          <p:nvGrpSpPr>
            <p:cNvPr id="885" name=""/>
            <p:cNvGrpSpPr/>
            <p:nvPr/>
          </p:nvGrpSpPr>
          <p:grpSpPr>
            <a:xfrm>
              <a:off x="3038760" y="5303880"/>
              <a:ext cx="573840" cy="569880"/>
              <a:chOff x="3038760" y="5303880"/>
              <a:chExt cx="573840" cy="569880"/>
            </a:xfrm>
          </p:grpSpPr>
          <p:sp>
            <p:nvSpPr>
              <p:cNvPr id="886" name=""/>
              <p:cNvSpPr/>
              <p:nvPr/>
            </p:nvSpPr>
            <p:spPr>
              <a:xfrm>
                <a:off x="3038760" y="5303880"/>
                <a:ext cx="573840" cy="56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10040" y="5374800"/>
                <a:ext cx="430200" cy="42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5620320" y="5303880"/>
              <a:ext cx="573840" cy="569880"/>
              <a:chOff x="5620320" y="5303880"/>
              <a:chExt cx="573840" cy="569880"/>
            </a:xfrm>
          </p:grpSpPr>
          <p:sp>
            <p:nvSpPr>
              <p:cNvPr id="889" name=""/>
              <p:cNvSpPr/>
              <p:nvPr/>
            </p:nvSpPr>
            <p:spPr>
              <a:xfrm>
                <a:off x="5620320" y="5303880"/>
                <a:ext cx="573840" cy="56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91600" y="5374800"/>
                <a:ext cx="430200" cy="42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4258080" y="5303880"/>
              <a:ext cx="57348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2895480" y="5446080"/>
              <a:ext cx="1432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2895480" y="5589000"/>
              <a:ext cx="14328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12600" y="5589000"/>
              <a:ext cx="64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31560" y="5589000"/>
              <a:ext cx="78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86" idx="7"/>
              <a:endCxn id="886" idx="1"/>
            </p:cNvCxnSpPr>
            <p:nvPr/>
          </p:nvCxnSpPr>
          <p:spPr>
            <a:xfrm rot="5400000">
              <a:off x="3324240" y="5182920"/>
              <a:ext cx="1800" cy="4071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"/>
            <p:cNvCxnSpPr>
              <a:stCxn id="889" idx="7"/>
              <a:endCxn id="889" idx="1"/>
            </p:cNvCxnSpPr>
            <p:nvPr/>
          </p:nvCxnSpPr>
          <p:spPr>
            <a:xfrm rot="5400000">
              <a:off x="5906160" y="5182920"/>
              <a:ext cx="1800" cy="4071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8" name=""/>
          <p:cNvSpPr/>
          <p:nvPr/>
        </p:nvSpPr>
        <p:spPr>
          <a:xfrm>
            <a:off x="3111480" y="5303880"/>
            <a:ext cx="64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330800" y="5303880"/>
            <a:ext cx="64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692680" y="5303880"/>
            <a:ext cx="64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97320" y="487692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51600" y="49482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84600" y="551664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975200" y="551664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96C7-5849-44B8-9514-15FABC6A8C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rminamos então com um Teorema fundamental da Teoria  da Computaçã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886200" y="1676520"/>
            <a:ext cx="399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orema de Kle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linguagem L é aceita por um AF com alfabet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ss L é uma linguagem regular sobr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1698480" cy="205740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1600200" y="4419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ephen Kleene (1909-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D5F8-1611-40F3-B8E8-B9EB1FBC96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utomata Finitos: Exempl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219320"/>
            <a:ext cx="73915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{S1, S2, S3}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a,b}, 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1,  F = {S3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666880" y="3962520"/>
            <a:ext cx="4343040" cy="1907280"/>
            <a:chOff x="2666880" y="3962520"/>
            <a:chExt cx="4343040" cy="1907280"/>
          </a:xfrm>
        </p:grpSpPr>
        <p:grpSp>
          <p:nvGrpSpPr>
            <p:cNvPr id="167" name=""/>
            <p:cNvGrpSpPr/>
            <p:nvPr/>
          </p:nvGrpSpPr>
          <p:grpSpPr>
            <a:xfrm>
              <a:off x="2819520" y="3962520"/>
              <a:ext cx="4190400" cy="1907280"/>
              <a:chOff x="2819520" y="3962520"/>
              <a:chExt cx="4190400" cy="1907280"/>
            </a:xfrm>
          </p:grpSpPr>
          <p:sp>
            <p:nvSpPr>
              <p:cNvPr id="168" name=""/>
              <p:cNvSpPr/>
              <p:nvPr/>
            </p:nvSpPr>
            <p:spPr>
              <a:xfrm>
                <a:off x="4343400" y="4647960"/>
                <a:ext cx="60912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7280" y="4647960"/>
                <a:ext cx="60912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19520" y="4647960"/>
                <a:ext cx="609480" cy="60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29000" y="495288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52880" y="4952880"/>
                <a:ext cx="9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3" name=""/>
              <p:cNvCxnSpPr>
                <a:stCxn id="170" idx="7"/>
                <a:endCxn id="170" idx="1"/>
              </p:cNvCxnSpPr>
              <p:nvPr/>
            </p:nvCxnSpPr>
            <p:spPr>
              <a:xfrm rot="5400000">
                <a:off x="3122640" y="4520520"/>
                <a:ext cx="1800" cy="432360"/>
              </a:xfrm>
              <a:prstGeom prst="curvedConnector5">
                <a:avLst>
                  <a:gd name="adj1" fmla="val -20000000"/>
                  <a:gd name="adj2" fmla="val 50000"/>
                  <a:gd name="adj3" fmla="val -20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4" name=""/>
              <p:cNvCxnSpPr>
                <a:stCxn id="168" idx="4"/>
                <a:endCxn id="170" idx="4"/>
              </p:cNvCxnSpPr>
              <p:nvPr/>
            </p:nvCxnSpPr>
            <p:spPr>
              <a:xfrm rot="5400000">
                <a:off x="3884400" y="4496400"/>
                <a:ext cx="2160" cy="1524240"/>
              </a:xfrm>
              <a:prstGeom prst="curvedConnector5">
                <a:avLst>
                  <a:gd name="adj1" fmla="val 14400000"/>
                  <a:gd name="adj2" fmla="val 49988"/>
                  <a:gd name="adj3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"/>
              <p:cNvCxnSpPr>
                <a:stCxn id="169" idx="7"/>
                <a:endCxn id="169" idx="1"/>
              </p:cNvCxnSpPr>
              <p:nvPr/>
            </p:nvCxnSpPr>
            <p:spPr>
              <a:xfrm rot="5400000">
                <a:off x="6170760" y="4520880"/>
                <a:ext cx="1800" cy="432000"/>
              </a:xfrm>
              <a:prstGeom prst="curvedConnector5">
                <a:avLst>
                  <a:gd name="adj1" fmla="val -20000000"/>
                  <a:gd name="adj2" fmla="val 49958"/>
                  <a:gd name="adj3" fmla="val -20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19360" y="4724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3600" y="472428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3600" y="4724280"/>
                <a:ext cx="456840" cy="45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47760" y="3962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7600" y="54100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57600" y="44956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81480" y="441936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72200" y="396252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,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H="1" flipV="1">
              <a:off x="26668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666880" y="50292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2133720" y="2209680"/>
          <a:ext cx="2514600" cy="15811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D7E9-7EC7-433F-A875-30A93E400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362320" y="1981080"/>
            <a:ext cx="4419360" cy="3645000"/>
            <a:chOff x="2362320" y="1981080"/>
            <a:chExt cx="4419360" cy="3645000"/>
          </a:xfrm>
        </p:grpSpPr>
        <p:sp>
          <p:nvSpPr>
            <p:cNvPr id="189" name=""/>
            <p:cNvSpPr/>
            <p:nvPr/>
          </p:nvSpPr>
          <p:spPr>
            <a:xfrm>
              <a:off x="2362320" y="3200400"/>
              <a:ext cx="533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14600" y="33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55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3200400"/>
              <a:ext cx="533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3200400"/>
              <a:ext cx="533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3200400"/>
              <a:ext cx="533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3200400"/>
              <a:ext cx="533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242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86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767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3276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189" idx="0"/>
              <a:endCxn id="195" idx="0"/>
            </p:cNvCxnSpPr>
            <p:nvPr/>
          </p:nvCxnSpPr>
          <p:spPr>
            <a:xfrm flipH="1" rot="16200000">
              <a:off x="4457160" y="1371960"/>
              <a:ext cx="2160" cy="3658320"/>
            </a:xfrm>
            <a:prstGeom prst="curvedConnector5">
              <a:avLst>
                <a:gd name="adj1" fmla="val -43700000"/>
                <a:gd name="adj2" fmla="val 49995"/>
                <a:gd name="adj3" fmla="val -43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281952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189" idx="4"/>
              <a:endCxn id="193" idx="4"/>
            </p:cNvCxnSpPr>
            <p:nvPr/>
          </p:nvCxnSpPr>
          <p:spPr>
            <a:xfrm flipH="1" rot="16200000">
              <a:off x="3542400" y="2895840"/>
              <a:ext cx="2520" cy="1829520"/>
            </a:xfrm>
            <a:prstGeom prst="curvedConnector5">
              <a:avLst>
                <a:gd name="adj1" fmla="val 27183333"/>
                <a:gd name="adj2" fmla="val 49990"/>
                <a:gd name="adj3" fmla="val 271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28954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2209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832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272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192" idx="4"/>
              <a:endCxn id="194" idx="4"/>
            </p:cNvCxnSpPr>
            <p:nvPr/>
          </p:nvCxnSpPr>
          <p:spPr>
            <a:xfrm flipH="1" rot="16200000">
              <a:off x="4456800" y="289584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192" idx="4"/>
              <a:endCxn id="195" idx="4"/>
            </p:cNvCxnSpPr>
            <p:nvPr/>
          </p:nvCxnSpPr>
          <p:spPr>
            <a:xfrm flipH="1" rot="16200000">
              <a:off x="4914000" y="2438640"/>
              <a:ext cx="2520" cy="2743920"/>
            </a:xfrm>
            <a:prstGeom prst="curvedConnector5">
              <a:avLst>
                <a:gd name="adj1" fmla="val 50583333"/>
                <a:gd name="adj2" fmla="val 49993"/>
                <a:gd name="adj3" fmla="val 505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4343400" y="40384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00600" y="45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193" idx="0"/>
              <a:endCxn id="195" idx="1"/>
            </p:cNvCxnSpPr>
            <p:nvPr/>
          </p:nvCxnSpPr>
          <p:spPr>
            <a:xfrm flipH="1" rot="16200000">
              <a:off x="5232960" y="2423880"/>
              <a:ext cx="89640" cy="1640520"/>
            </a:xfrm>
            <a:prstGeom prst="curvedConnector5">
              <a:avLst>
                <a:gd name="adj1" fmla="val -256854"/>
                <a:gd name="adj2" fmla="val 50000"/>
                <a:gd name="adj3" fmla="val -2568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193" idx="0"/>
              <a:endCxn id="195" idx="0"/>
            </p:cNvCxnSpPr>
            <p:nvPr/>
          </p:nvCxnSpPr>
          <p:spPr>
            <a:xfrm flipH="1" rot="16200000">
              <a:off x="5371560" y="2286360"/>
              <a:ext cx="2160" cy="1829520"/>
            </a:xfrm>
            <a:prstGeom prst="curvedConnector5">
              <a:avLst>
                <a:gd name="adj1" fmla="val -55300000"/>
                <a:gd name="adj2" fmla="val 49990"/>
                <a:gd name="adj3" fmla="val -55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800600" y="2666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6400" y="1981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194" idx="4"/>
              <a:endCxn id="202" idx="2"/>
            </p:cNvCxnSpPr>
            <p:nvPr/>
          </p:nvCxnSpPr>
          <p:spPr>
            <a:xfrm flipH="1" flipV="1" rot="5400000">
              <a:off x="5878440" y="3211560"/>
              <a:ext cx="91080" cy="1105560"/>
            </a:xfrm>
            <a:prstGeom prst="curvedConnector5">
              <a:avLst>
                <a:gd name="adj1" fmla="val -1054365"/>
                <a:gd name="adj2" fmla="val 50000"/>
                <a:gd name="adj3" fmla="val -10543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194" idx="4"/>
              <a:endCxn id="202" idx="2"/>
            </p:cNvCxnSpPr>
            <p:nvPr/>
          </p:nvCxnSpPr>
          <p:spPr>
            <a:xfrm flipH="1" flipV="1" rot="5400000">
              <a:off x="5878440" y="3211560"/>
              <a:ext cx="91080" cy="1105560"/>
            </a:xfrm>
            <a:prstGeom prst="curvedConnector5">
              <a:avLst>
                <a:gd name="adj1" fmla="val -1773412"/>
                <a:gd name="adj2" fmla="val 50000"/>
                <a:gd name="adj3" fmla="val -177341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5638680" y="4724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2720" y="5257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95880" y="3276720"/>
            <a:ext cx="3812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09680" y="32000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209680" y="35053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715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 que o estado codifica o que é relevant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mória implíci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04920"/>
            <a:ext cx="77724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áquina para vender bilhetes de metrô (R$ 1,00 cada). Não dá tr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{S1=1, S2=0.75, S3=0.5,S4=0.25,S5=0}, cada estado identificando o quanto falta para que se libere um bilhete de metr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1, 0.5, 0.25, 0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... 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1 = 1.0, F = {S5=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CBD9-7FD1-4453-B9DE-D9A153D2A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tomata Finitos e Máquinas de Est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utomato finito é um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registrador de estado interno (controle finito) + uma fita segmentada + cabeça de lei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19520" y="1981080"/>
            <a:ext cx="3124080" cy="1600200"/>
            <a:chOff x="2819520" y="1981080"/>
            <a:chExt cx="3124080" cy="1600200"/>
          </a:xfrm>
        </p:grpSpPr>
        <p:sp>
          <p:nvSpPr>
            <p:cNvPr id="231" name=""/>
            <p:cNvSpPr/>
            <p:nvPr/>
          </p:nvSpPr>
          <p:spPr>
            <a:xfrm>
              <a:off x="3276720" y="198108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81640" y="1981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198108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6040" y="1981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1120" y="198108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0600" y="198108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297144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5320" y="304776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733920" y="23619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8840" y="304776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e fin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0600" y="2285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25142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be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2120" y="37339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a: armazena uma cadeia d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 símbolo/segmen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eça: lê segmento da fita (um símbolo da cade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dor: altera estado de acordo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move a fita um segmento para a esquerda (computaçã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computaçã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ndo a cade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acab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i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o AF se a computação termina em um estado 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ita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o AF se a computação termina em um estado 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422E-E283-4A5E-9617-D03E135F34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 = 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)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{a, b}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b)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 = {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)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b)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 a               a b  a              a b  a                a b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480" y="3429000"/>
            <a:ext cx="8534160" cy="2057400"/>
            <a:chOff x="609480" y="3429000"/>
            <a:chExt cx="8534160" cy="2057400"/>
          </a:xfrm>
        </p:grpSpPr>
        <p:grpSp>
          <p:nvGrpSpPr>
            <p:cNvPr id="246" name=""/>
            <p:cNvGrpSpPr/>
            <p:nvPr/>
          </p:nvGrpSpPr>
          <p:grpSpPr>
            <a:xfrm>
              <a:off x="609480" y="3429000"/>
              <a:ext cx="1904760" cy="2057400"/>
              <a:chOff x="609480" y="3429000"/>
              <a:chExt cx="1904760" cy="2057400"/>
            </a:xfrm>
          </p:grpSpPr>
          <p:sp>
            <p:nvSpPr>
              <p:cNvPr id="247" name=""/>
              <p:cNvSpPr/>
              <p:nvPr/>
            </p:nvSpPr>
            <p:spPr>
              <a:xfrm>
                <a:off x="761760" y="358128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358128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240" y="358128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76160" y="358128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81080" y="3429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480" y="487692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5440" y="49528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914040" y="39625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74284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776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52680" y="35812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724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16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95480" y="48769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144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200040" y="3962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796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52880" y="35812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44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236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7280" y="342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05160" y="48769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10080" y="3962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5812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8624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91160" y="3581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96080" y="35812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0064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43440" y="487692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976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848360" y="3962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7040" y="4419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4440" y="4419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44956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0640" y="39625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dei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eita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EC80-D451-4348-A8CC-8CAE4D817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 = {S1,S2,S3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1, a) = 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{a, b}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1, b) =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 = {S3}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2, a) = 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S1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S2, b) = S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 a           a b  a             a b  a                 a b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3886200"/>
            <a:ext cx="1904760" cy="2057400"/>
            <a:chOff x="914400" y="3886200"/>
            <a:chExt cx="1904760" cy="2057400"/>
          </a:xfrm>
        </p:grpSpPr>
        <p:sp>
          <p:nvSpPr>
            <p:cNvPr id="286" name=""/>
            <p:cNvSpPr/>
            <p:nvPr/>
          </p:nvSpPr>
          <p:spPr>
            <a:xfrm>
              <a:off x="106668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160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616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8108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3886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14400" y="53341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903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21896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13372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590920" y="3886200"/>
            <a:ext cx="5790600" cy="2057400"/>
            <a:chOff x="2590920" y="3886200"/>
            <a:chExt cx="5790600" cy="2057400"/>
          </a:xfrm>
        </p:grpSpPr>
        <p:sp>
          <p:nvSpPr>
            <p:cNvPr id="296" name=""/>
            <p:cNvSpPr/>
            <p:nvPr/>
          </p:nvSpPr>
          <p:spPr>
            <a:xfrm>
              <a:off x="259092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9548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00400" y="4038480"/>
              <a:ext cx="304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496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5334120"/>
              <a:ext cx="6091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1916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04776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4038480"/>
              <a:ext cx="304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495680" y="4038480"/>
              <a:ext cx="913680" cy="304920"/>
              <a:chOff x="4495680" y="4038480"/>
              <a:chExt cx="913680" cy="304920"/>
            </a:xfrm>
          </p:grpSpPr>
          <p:sp>
            <p:nvSpPr>
              <p:cNvPr id="306" name=""/>
              <p:cNvSpPr/>
              <p:nvPr/>
            </p:nvSpPr>
            <p:spPr>
              <a:xfrm>
                <a:off x="4495680" y="403848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04800" y="403848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541008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15000" y="388620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5334120"/>
              <a:ext cx="60912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410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5780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9400" y="4038480"/>
              <a:ext cx="304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396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8880" y="40384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3800" y="4038480"/>
              <a:ext cx="304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360" y="3886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160" y="53341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6748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69608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62160" y="51055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2200" y="5181480"/>
              <a:ext cx="380520" cy="228600"/>
            </a:xfrm>
            <a:prstGeom prst="rightArrow">
              <a:avLst>
                <a:gd name="adj1" fmla="val 50000"/>
                <a:gd name="adj2" fmla="val 416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696080" y="44956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e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usa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43200" y="152280"/>
            <a:ext cx="4191120" cy="1907640"/>
            <a:chOff x="2743200" y="152280"/>
            <a:chExt cx="4191120" cy="1907640"/>
          </a:xfrm>
        </p:grpSpPr>
        <p:sp>
          <p:nvSpPr>
            <p:cNvPr id="326" name=""/>
            <p:cNvSpPr/>
            <p:nvPr/>
          </p:nvSpPr>
          <p:spPr>
            <a:xfrm>
              <a:off x="4267440" y="8380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91320" y="8380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83808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3040" y="114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6920" y="1143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8" idx="7"/>
              <a:endCxn id="328" idx="1"/>
            </p:cNvCxnSpPr>
            <p:nvPr/>
          </p:nvCxnSpPr>
          <p:spPr>
            <a:xfrm rot="5400000">
              <a:off x="3046680" y="711720"/>
              <a:ext cx="2160" cy="43272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4"/>
              <a:endCxn id="328" idx="4"/>
            </p:cNvCxnSpPr>
            <p:nvPr/>
          </p:nvCxnSpPr>
          <p:spPr>
            <a:xfrm rot="5400000">
              <a:off x="3808440" y="686160"/>
              <a:ext cx="2520" cy="15246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stCxn id="327" idx="7"/>
              <a:endCxn id="327" idx="1"/>
            </p:cNvCxnSpPr>
            <p:nvPr/>
          </p:nvCxnSpPr>
          <p:spPr>
            <a:xfrm rot="5400000">
              <a:off x="6094440" y="711720"/>
              <a:ext cx="216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4" name=""/>
            <p:cNvSpPr/>
            <p:nvPr/>
          </p:nvSpPr>
          <p:spPr>
            <a:xfrm>
              <a:off x="281952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64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640" y="9144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71800" y="152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16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64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609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6240" y="152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30D9-EB32-425D-8035-32EDD16271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438280" y="304920"/>
            <a:ext cx="4191120" cy="1907280"/>
            <a:chOff x="2438280" y="304920"/>
            <a:chExt cx="4191120" cy="1907280"/>
          </a:xfrm>
        </p:grpSpPr>
        <p:sp>
          <p:nvSpPr>
            <p:cNvPr id="345" name=""/>
            <p:cNvSpPr/>
            <p:nvPr/>
          </p:nvSpPr>
          <p:spPr>
            <a:xfrm>
              <a:off x="3962520" y="99036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99036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280" y="99036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8120" y="1295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1295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0" name=""/>
            <p:cNvCxnSpPr>
              <a:stCxn id="347" idx="7"/>
              <a:endCxn id="347" idx="1"/>
            </p:cNvCxnSpPr>
            <p:nvPr/>
          </p:nvCxnSpPr>
          <p:spPr>
            <a:xfrm rot="5400000">
              <a:off x="2742120" y="862920"/>
              <a:ext cx="1800" cy="432720"/>
            </a:xfrm>
            <a:prstGeom prst="curvedConnector5">
              <a:avLst>
                <a:gd name="adj1" fmla="val -20000000"/>
                <a:gd name="adj2" fmla="val 49958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45" idx="4"/>
              <a:endCxn id="347" idx="4"/>
            </p:cNvCxnSpPr>
            <p:nvPr/>
          </p:nvCxnSpPr>
          <p:spPr>
            <a:xfrm rot="5400000">
              <a:off x="3503520" y="838440"/>
              <a:ext cx="2160" cy="15246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2" name=""/>
            <p:cNvCxnSpPr>
              <a:stCxn id="346" idx="7"/>
              <a:endCxn id="346" idx="1"/>
            </p:cNvCxnSpPr>
            <p:nvPr/>
          </p:nvCxnSpPr>
          <p:spPr>
            <a:xfrm rot="5400000">
              <a:off x="5789880" y="862920"/>
              <a:ext cx="1800" cy="432360"/>
            </a:xfrm>
            <a:prstGeom prst="curvedConnector5">
              <a:avLst>
                <a:gd name="adj1" fmla="val -20000000"/>
                <a:gd name="adj2" fmla="val 50000"/>
                <a:gd name="adj3" fmla="val -2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3" name=""/>
            <p:cNvSpPr/>
            <p:nvPr/>
          </p:nvSpPr>
          <p:spPr>
            <a:xfrm>
              <a:off x="2514600" y="1066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38480" y="1066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2720" y="1066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1066680"/>
              <a:ext cx="45720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66880" y="304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6720" y="1752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76720" y="838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00600" y="761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1320" y="304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2362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09480" y="2286000"/>
            <a:ext cx="2489400" cy="1836720"/>
            <a:chOff x="609480" y="2286000"/>
            <a:chExt cx="2489400" cy="1836720"/>
          </a:xfrm>
        </p:grpSpPr>
        <p:sp>
          <p:nvSpPr>
            <p:cNvPr id="364" name=""/>
            <p:cNvSpPr/>
            <p:nvPr/>
          </p:nvSpPr>
          <p:spPr>
            <a:xfrm>
              <a:off x="2590920" y="228600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80" y="3581280"/>
              <a:ext cx="57960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914400" y="27432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2320" y="3352680"/>
              <a:ext cx="527040" cy="211320"/>
            </a:xfrm>
            <a:prstGeom prst="rightArrow">
              <a:avLst>
                <a:gd name="adj1" fmla="val 50000"/>
                <a:gd name="adj2" fmla="val 623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1080" y="24382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24382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71600" y="24382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66680" y="24382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2438280"/>
              <a:ext cx="2887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6000" y="2438280"/>
              <a:ext cx="28908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580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029200" y="22860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3352680"/>
            <a:ext cx="527040" cy="211320"/>
          </a:xfrm>
          <a:prstGeom prst="rightArrow">
            <a:avLst>
              <a:gd name="adj1" fmla="val 50000"/>
              <a:gd name="adj2" fmla="val 62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43828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243828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438280" y="4724280"/>
            <a:ext cx="838080" cy="1379520"/>
            <a:chOff x="2438280" y="4724280"/>
            <a:chExt cx="838080" cy="1379520"/>
          </a:xfrm>
        </p:grpSpPr>
        <p:sp>
          <p:nvSpPr>
            <p:cNvPr id="384" name=""/>
            <p:cNvSpPr/>
            <p:nvPr/>
          </p:nvSpPr>
          <p:spPr>
            <a:xfrm>
              <a:off x="2438280" y="5562360"/>
              <a:ext cx="57924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742840" y="47242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240" y="5562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315200" y="22860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243828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0080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243828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10280" y="243828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2670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104800" y="53341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94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343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0120" y="3657600"/>
            <a:ext cx="685800" cy="2057400"/>
          </a:xfrm>
          <a:custGeom>
            <a:avLst/>
            <a:gdLst>
              <a:gd name="textAreaLeft" fmla="*/ 91800 w 685800"/>
              <a:gd name="textAreaRight" fmla="*/ 594000 w 6858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047400" y="53341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384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10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4419720"/>
            <a:ext cx="289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4419720"/>
            <a:ext cx="28872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2362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2362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0080" y="4343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4343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4343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b  a  b  b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943600" y="2743200"/>
            <a:ext cx="838080" cy="1379520"/>
            <a:chOff x="5943600" y="2743200"/>
            <a:chExt cx="838080" cy="1379520"/>
          </a:xfrm>
        </p:grpSpPr>
        <p:sp>
          <p:nvSpPr>
            <p:cNvPr id="422" name=""/>
            <p:cNvSpPr/>
            <p:nvPr/>
          </p:nvSpPr>
          <p:spPr>
            <a:xfrm>
              <a:off x="5943600" y="3581280"/>
              <a:ext cx="57924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248160" y="27432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56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172200" y="4724280"/>
            <a:ext cx="838080" cy="1379520"/>
            <a:chOff x="6172200" y="4724280"/>
            <a:chExt cx="838080" cy="1379520"/>
          </a:xfrm>
        </p:grpSpPr>
        <p:sp>
          <p:nvSpPr>
            <p:cNvPr id="426" name=""/>
            <p:cNvSpPr/>
            <p:nvPr/>
          </p:nvSpPr>
          <p:spPr>
            <a:xfrm>
              <a:off x="6172200" y="5562360"/>
              <a:ext cx="57924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476760" y="47242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8160" y="5562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191120" y="4724280"/>
            <a:ext cx="838080" cy="1379520"/>
            <a:chOff x="4191120" y="4724280"/>
            <a:chExt cx="838080" cy="1379520"/>
          </a:xfrm>
        </p:grpSpPr>
        <p:sp>
          <p:nvSpPr>
            <p:cNvPr id="430" name=""/>
            <p:cNvSpPr/>
            <p:nvPr/>
          </p:nvSpPr>
          <p:spPr>
            <a:xfrm>
              <a:off x="4191120" y="5562360"/>
              <a:ext cx="57924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495680" y="47242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67080" y="5562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352680" y="2743200"/>
            <a:ext cx="838080" cy="1379520"/>
            <a:chOff x="3352680" y="2743200"/>
            <a:chExt cx="838080" cy="1379520"/>
          </a:xfrm>
        </p:grpSpPr>
        <p:sp>
          <p:nvSpPr>
            <p:cNvPr id="434" name=""/>
            <p:cNvSpPr/>
            <p:nvPr/>
          </p:nvSpPr>
          <p:spPr>
            <a:xfrm>
              <a:off x="3352680" y="3581280"/>
              <a:ext cx="579240" cy="5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657240" y="274320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28640" y="3581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838080" y="5181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e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i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57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DAF6-F9E6-44F2-9CAC-BCDA51041E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Carlos Henrique</cp:lastModifiedBy>
  <cp:lastPrinted>2001-03-09T12:09:01Z</cp:lastPrinted>
  <dcterms:modified xsi:type="dcterms:W3CDTF">2007-02-27T11:48:55Z</dcterms:modified>
  <cp:revision>229</cp:revision>
  <dc:subject/>
  <dc:title>Linguagens Regulares e Máquinas de Estados Finitos</dc:title>
</cp:coreProperties>
</file>