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4B80-C1EB-4BB0-BF59-3EC271EE9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F145-B839-40C8-89F9-FA5A8F52B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5D43-5D7F-444E-9C00-1C92ABF2A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67A0-AE2A-4569-A071-B29506F0D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0DC8E-02C4-4643-84C4-152B11C4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C077B-CECA-49DE-B91C-8856B131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C45CE-8F9D-46FA-A465-13C2CC11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49B22-7D8B-42DD-8EDF-E02C0E4B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6BD8-7C5E-429D-AFBD-93EB959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41B1-8DF7-430A-A733-8976B3DB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F4776-5C38-4771-A295-9523EE0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C1E3-1C1C-463B-A79B-FF036C401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954A-C165-469C-9B7A-73A8EDB8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617BF-7EAE-4AEB-93F4-EDCD686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D07E1-8DF0-4C4C-B73D-297F2065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EEC59-C119-4F34-A4EA-2B92101E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B861D-B240-43A4-9123-020735E6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1D01-5F2A-4196-B278-24F5C5F12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D400-B2D9-4FE7-BAED-CE1F6E62F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BF49-3949-4A91-8C77-83A7DDE3C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AF05-0569-4DB6-9F90-BCDBC8D17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64F6-D920-4CD9-920B-02ECB7FB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9C08-81D7-4C90-B482-CFC7054B3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FB8E-7CA3-4911-95FF-661586FED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609120" cy="6858000"/>
            <a:chOff x="-720" y="-4680"/>
            <a:chExt cx="609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3400" y="-4680"/>
              <a:ext cx="579960" cy="6857640"/>
              <a:chOff x="23400" y="-4680"/>
              <a:chExt cx="57996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27720" y="-4680"/>
                <a:ext cx="567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28080" y="1693080"/>
                <a:ext cx="567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28080" y="12873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28080" y="14940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8080" y="98496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8080" y="680400"/>
                <a:ext cx="567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8080" y="372240"/>
                <a:ext cx="5749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3400" y="393948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3400" y="35337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3760" y="239544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3400" y="323028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3400" y="29268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3760" y="2617920"/>
                <a:ext cx="5749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7720" y="497052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7720" y="456444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3400" y="5672520"/>
                <a:ext cx="567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34280" y="6395760"/>
                <a:ext cx="345960" cy="5684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3400" y="62046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3400" y="5895000"/>
                <a:ext cx="5749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42520" y="3236760"/>
              <a:ext cx="6858000" cy="374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905560" y="3337560"/>
              <a:ext cx="6856200" cy="1717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410920" y="6381720"/>
            <a:ext cx="5473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6360" y="6381720"/>
            <a:ext cx="9586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B881-6C23-44EF-B01F-8CB48DE4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83CD-DE42-4107-8984-597C7365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</a:t>
            </a:r>
            <a:br>
              <a:rPr sz="2000"/>
            </a:b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3800" y="3716280"/>
            <a:ext cx="2950920" cy="21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LA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Sintática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r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LCs ambíg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fos de GL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atégias par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724280" y="685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S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1430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971800" y="1143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2096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343400" y="22096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20968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80720" y="220968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b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Abb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5053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800600" y="350532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8006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10080" y="48006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23520" y="35053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43792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302200">
            <a:off x="3124440" y="114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8015000">
            <a:off x="3847680" y="2305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882800">
            <a:off x="5256720" y="114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3773400">
            <a:off x="4594680" y="264276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A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15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gramática não-ambígu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68580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aSb | A |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aAbb | ab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1341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401F-5957-461D-BC52-9A28B9DE8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m Analisador Sintático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Breadth-First, Top-Dow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p-down: derivações à esquerda a partir de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fixo da foram sentencial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Vw: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readth-first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completa (garant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rsing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cadeia seja da gramát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o uma fila com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movo nó do início da fila. Tem prefixo consistente com cadeia a ser analis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: Expando o nó do inicio da fila. Cada filho é uma derivação à esquerda possível, rotulado pela cadeia resultante da derivação. Coloco os nós correspondentes n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inal da f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: Apenas removo o nó do início da f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que o nó do início da fila seja igual a cadeia analisada ou fila fique vaz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 parsing de (b+b) para gra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: V= {S, A, 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{ b,+, (, 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:           S</a:t>
            </a:r>
            <a:r>
              <a:rPr b="0" lang="pt-BR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18B7-37B3-4EAC-B7CD-832E964D1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932600" cy="613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EFC5-89DF-4362-A254-AB228617D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m Analisador Sintático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Depth-first, Top-dow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p-down: derivações à esquerda a partir de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o uma pilha com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op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Nó do topo da pilha tem prefixo consistente com cadeia a ser analis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m: Removo  o espaço o nó do topo da pilha. Cada filho é uma derivação à esquerda possível, rotulado pela cadeia resultante da derivação. Coloco os nós correspondentes no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opo da pilh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ão: Removo o nó do topo da pilh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que nó do topo da pilha seja igual a cadeia analisada ou pilha fique vaz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 parsing de (b+b) para a gra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:  V = {S, A, 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{b, +, (, 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:              S </a:t>
            </a:r>
            <a:r>
              <a:rPr b="0" lang="pt-BR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103F-E3EB-465E-B69A-7DE57107DD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934320" cy="53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70DE-A3F5-4990-BCA4-6D53E9AAF4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arsing </a:t>
            </a:r>
            <a:r>
              <a:rPr b="0" i="1" lang="pt-BR" sz="3200" spc="-1" strike="noStrike">
                <a:solidFill>
                  <a:srgbClr val="003366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é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lizar busca no grafo a partir da cadeia a ser analisada (geração de caminhos na direção da raiz). Como as únicas derivações consideradas são as que podem gerar a cadeia, o tamanho da árvore expandida tende a ser me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ocesso de geração das formas sentenciais em níveis cada vez mais altos da árvore é conhecido com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: Redução de (b) + b para gra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V = { S, A, 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b, +, (, 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:           S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095880" y="3048120"/>
          <a:ext cx="1981440" cy="3014640"/>
        </p:xfrm>
        <a:graphic>
          <a:graphicData uri="http://schemas.openxmlformats.org/drawingml/2006/table">
            <a:tbl>
              <a:tblPr/>
              <a:tblGrid>
                <a:gridCol w="1030320"/>
                <a:gridCol w="951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 +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)+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+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+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AE75-EFF0-4A74-8E8E-40EBA1BE35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arsing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Bottom-Up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Geração Automática das Reduçõ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914400"/>
            <a:ext cx="803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. Escrev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na primeira interação,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, v=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cada reg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. Comparo lado direito das regras com sufixos de 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P?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Reduz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w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. Volto a 1, fazendo w=u’v’ tal que u’é u concatenado ao primeiro elemento de v, e v’é v sem o seu primeiro elemento (processo d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i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mplo: Redução de (A+T) para gra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:    V = {S,A,T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 {b,+, (, 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:   S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+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657600" y="3276720"/>
          <a:ext cx="4952880" cy="2425680"/>
        </p:xfrm>
        <a:graphic>
          <a:graphicData uri="http://schemas.openxmlformats.org/drawingml/2006/table">
            <a:tbl>
              <a:tblPr/>
              <a:tblGrid>
                <a:gridCol w="836640"/>
                <a:gridCol w="992160"/>
                <a:gridCol w="1065240"/>
                <a:gridCol w="1030320"/>
                <a:gridCol w="1028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+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+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+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+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+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59F1-452E-4499-9713-AC3E75CEEE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m Analisador Sintático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Breadth-First, Bottom-U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ttom-up: derivações à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reit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partir de S, pois as reduções são feita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à esquerd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artir da cadeia terminal.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readth- first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completa (garant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rsing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cadeia seja da gramát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o uma fila com cadeia ter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movo nó do início da fila. Existe redução de uwv deste nó para uAv com v formado só por símbolos termina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m: Expando o nó do inicio da fila. Cada filho é uma redução à esquerda possível, rotulando pela cadeia resultante da redução. Coloco os nós correspondentes no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inal da fi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ão: Apenas removo o n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que o nó do início da fila seja igual a S ou fila fique faz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parsing de (b+b) para gra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: V= {S, A, T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{ b,+, (, 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:           S</a:t>
            </a:r>
            <a:r>
              <a:rPr b="0" lang="pt-BR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+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CE71-3690-4F87-BBB2-C361DE6D50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548400" cy="50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4507-A919-4730-A434-E5D71E87CC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iações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752400"/>
            <a:ext cx="803124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s de busca:Aumento da eficiência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rofundamento iterativo (depth-first com aumento gradual do nível de   profundida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usca bidirecional  (top-down e bottom-up simultân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tc,etc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eurísticas: Diminuem o espaço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a priori da cadeia (uso de contadores, etc.): por exemplo, formas sentenciais com mais símbolos terminais do que a sentença analisada certamente não levam a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pars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malização de GLCs:Normalização Greibach garante completeza da análise sintátic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pth-first top-dow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cularização do process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rs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classes particulares de GLCs: por exemplo, a classe LL (k) permi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rsing top-dow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terminístico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de que se utilize o concei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ook-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uA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btido durante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arsing de p=uaw.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o invés de considerar apenas o prefix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u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lho mais adiante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look-ahead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analizo regras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quelas cuja produção não começa com a podem ser consider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determinismo surge naturalmente: a classe LL (1) obriga uma única regra aplicável se for usado look-ahead de 1 símbolo, a classe LL(2) obriga uma única regra se for usado look-ahead de 2 símbol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DE24-E9EE-4837-A370-B10268684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nálise Sintática (</a:t>
            </a:r>
            <a:r>
              <a:rPr b="0" i="1" lang="pt-BR" sz="3200" spc="-1" strike="noStrike">
                <a:solidFill>
                  <a:srgbClr val="003366"/>
                </a:solidFill>
                <a:latin typeface="Times New Roman"/>
              </a:rPr>
              <a:t>Parsing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rivações em uma GLC: mecanismo para gerar cadeias de uma linguagem livre de contexto. Ok, m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determinar se uma dada cadeia pode ser gerada por uma dada gramát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outras palavr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determinar se uma dada cadeia é sintaticamente correta (ou seja, se está de acordo com a sintaxe definida pela gramática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sso objetivo: determinar um algoritmo para produzir derivações das cadeias se uma linguagem de uma gramática dada. Se a cadeia não estiver na linguagem, o algoritmo deve descobrir que não existe derivação capaz de produzí-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algoritmo é conhecido com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nalisador sintát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par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ser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variações de algoritmos de percurso em gra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BC13-ED83-4812-9265-46383CF6D0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rivações à Direita e à Esquerda (revisão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erivação à Direit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ada passo de derivação aplicado à variável mais à dire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erivação à Esquerd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ada passo de derivação aplicado à variável mais à esquer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 = ({S,A}, {a,b}, P,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:              S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A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a |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bA |SS|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À direita: S =&gt;aAS=&gt;aAb=&gt; aSbAb=&gt; aSbbab=&gt; aabbab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À esquerda: S =&gt;aAS=&gt;aSbAS=&gt;aabAS=&gt; aabbaS=&gt;aabb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F68B-2D28-41D6-A876-AE9BC4B98A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m Teorema Óbv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ja G=( V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P,S ) uma gramática livre de contexto.Uma sentenç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á em  L(G) sss existe uma derivação à esquerda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 partir de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) Para qualquer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entenç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xiste uma derivação à esquerda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Óbv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) Se existe derivação à esquerda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ntã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stá em L(G)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Óbvio ul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:  S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 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B | 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Gera L(G)=a</a:t>
            </a:r>
            <a:r>
              <a:rPr b="0" lang="pt-BR" sz="17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b*. Para qualquer </a:t>
            </a:r>
            <a:r>
              <a:rPr b="0" lang="pt-BR" sz="1700" spc="-1" strike="noStrike" u="sng">
                <a:solidFill>
                  <a:srgbClr val="000000"/>
                </a:solidFill>
                <a:uFillTx/>
                <a:latin typeface="Arial"/>
              </a:rPr>
              <a:t>sentença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de l(G), existe uma derivação à esquerd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or outro lado,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não há derivação à esquerda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ara a </a:t>
            </a:r>
            <a:r>
              <a:rPr b="0" lang="pt-BR" sz="1700" spc="-1" strike="noStrike" u="sng">
                <a:solidFill>
                  <a:srgbClr val="000000"/>
                </a:solidFill>
                <a:uFillTx/>
                <a:latin typeface="Arial"/>
              </a:rPr>
              <a:t>forma sentencial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A... Mas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 derivação à direita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xiste um teorema idêntico para derivações à direita. Dada a dualidade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vamos a partir de agora nos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concentrar apenas em derivações à esquer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9E81-7020-4A69-8A9A-349634721B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mbigüidade em GLCs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914040"/>
            <a:ext cx="85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ringir a atenção a derivações à esquerda é suficiente para estabelecer uma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erivação canônica para qualquer cadeia de lingu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uma gramát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elizmente, nã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A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A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b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b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ba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L           L          L                  L                    L                    L                        L                     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A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A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bAA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ba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baa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L           L                 L                  L                     L                     L                       L                       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menos duas derivações à esquerda para uma dada cadeia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amática ambígua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 o mesmo conceito de ambigüidade em linguagens natur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João ganhou um livro de Jorge Am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3643-F20F-4741-814D-F586D0F092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mbigüidade em GL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: Uma GLC é ambígua se existir alguma cadei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m L (G) derivada por duas derivações à esquerda disti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S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 L(G) =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uas derivações à esquerda distintas para aa (quais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S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 L(G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 é não-ambí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serve portanto que a ambigüidade é propriedade da gramática e não da linguag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gun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da uma linguagem livre de contexto, é sempre possível achar uma GLC não-ambígua que a g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s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ã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6283-B596-4FF2-A38A-C64081619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Grafos de GLCs e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Pars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ja G = (V,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P,S) uma GLC. O grafo da gramática G, g(G), é o grafo direcionado (N,P,A) 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 = 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V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Σ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pt-BR" sz="12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{[v,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r]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N x N x P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r aplicação da regra 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caminho de S a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m g(G) representa uma derivação à esquerda para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rótulo no arco de v a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indica a regra utilizada para obte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partir de 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cidir se uma dada cadeia pode ser gerada por G (ou seja, se está de acordo com a sintaxe da linguagem de G) equivale a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achar um caminho de S a </a:t>
            </a:r>
            <a:r>
              <a:rPr b="0" i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o grafo g (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xemplos: págs.95 e 96, Sudk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déia para a análise Sintática: Expansão do grafo da GL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ratég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-down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eço com nó S e tento achar caminho para cadeia 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ttom-up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eço com cadeia w e tento chegar no nó inicial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o não-determinístico: para construir uma derivação, em geral existem várias possíveis regras a serem aplicadas à forma sentencial. Nunca se sabe qual a “melhor”regra a ser aplic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CB22-B074-4093-8FA0-0B8D9AE7D9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3822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51512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77A7-AAFC-43E2-AF94-36FD4983F1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7027920" cy="490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F3C6-FF3B-48F4-901A-DC626E82F2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10:43:04Z</dcterms:created>
  <dc:creator>Carlos H. C. Ribeiro</dc:creator>
  <dc:description/>
  <dc:language>en-US</dc:language>
  <cp:lastModifiedBy>Prof. Carlos H. C. Ribeiro</cp:lastModifiedBy>
  <cp:lastPrinted>2001-03-18T14:52:09Z</cp:lastPrinted>
  <dcterms:modified xsi:type="dcterms:W3CDTF">2005-10-19T11:14:49Z</dcterms:modified>
  <cp:revision>239</cp:revision>
  <dc:subject/>
  <dc:title>Análise sintática</dc:title>
</cp:coreProperties>
</file>