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402120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6714-9AA5-4FEA-99E4-3D2556BCBE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x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y sss (x-y) é divisível por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 é reflexiva, pois x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(x-x) div. por n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(x-x) = k.n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0 = k.n (OK, para k=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é transitiva, pois x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y e y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z implica x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z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x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(x-y) = k1.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y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z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(y-z) = k2.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mando: (x-y+y-z) = (k1+k2).n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(x-z) = k3.n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x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é simétrica, pois x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y implica y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z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x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(x-y) = k.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(y-x) = -k.n = k’.n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 Classe de equivalência sobre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do elemento 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 R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y, y=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lasse são os elementos y tais que 10-y é divisível por 2, ou sej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10]={...,-8,-6,-4,-2,0,2,4,6,..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A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 com card(A)=card(B): A=inteiros pares, B=Z. Basta mapear a cada i em A o elemento i/2 em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A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 com card(A)&lt;card(B): A=inteiros, B=R. Agora não tenho mais uma correspondência um-para-um... “Sobram” elementos em B não associados a nenhum em A, e portanto card(B)&gt;card(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FD25-D47C-4260-B3C5-B75A372FD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68CD-9B4E-4870-AC76-EE18A85AE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1BA8-EB7F-4443-9500-77EF52F66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6DD8-6B9C-4B23-A0CD-A13BC72CB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2FA81-1564-4931-99AC-A22BEB4C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D6786-1532-40A3-A1B9-BF8A3040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88CD3-DDB3-49D4-9858-98DB77ED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A017C-4F96-4599-BF7B-8B7A7CE4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5E775-1760-4E22-B48B-B9BC04E3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80D97-3352-426C-94DA-6BAD6FBD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51160-AB10-4E32-A4A7-E644222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CE08-C454-4FBA-A1E5-451A30B12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1C364-EAB2-48FD-9B74-844745CA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71FE3-9F87-41BE-9135-BDC36A5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D451B-1CB8-4E02-A0B9-1305AD37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F4D79-2D6F-49A6-8F57-671B232A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C8496-F773-4AD0-ACA7-13780197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164B-719F-4C5E-B7D8-AF519FA7E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2F92-2FB7-43BB-890B-B47BA497E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DA59-9439-4A05-B283-A5AECC80F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A246-FF2D-401D-A7ED-C4AA3A184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99D3-A14C-48DA-A3F7-A2B1C532A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8E68-23F3-4A8D-BDA9-C0DFBE23B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043C-6A3A-40B2-8693-1AC40280B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534240" cy="6858000"/>
            <a:chOff x="-720" y="-4680"/>
            <a:chExt cx="53424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0520" y="-4680"/>
              <a:ext cx="507960" cy="6857640"/>
              <a:chOff x="20520" y="-4680"/>
              <a:chExt cx="50796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25200" y="-4680"/>
                <a:ext cx="49680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25200" y="1692720"/>
                <a:ext cx="49680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25200" y="1287000"/>
                <a:ext cx="49680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25200" y="149040"/>
                <a:ext cx="49680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5200" y="984600"/>
                <a:ext cx="49680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25200" y="680040"/>
                <a:ext cx="49680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25200" y="371880"/>
                <a:ext cx="50328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1240" y="3939480"/>
                <a:ext cx="49680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1240" y="3533760"/>
                <a:ext cx="49680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1240" y="2395080"/>
                <a:ext cx="49680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1240" y="3230280"/>
                <a:ext cx="49680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1240" y="2926800"/>
                <a:ext cx="49680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1240" y="2617560"/>
                <a:ext cx="50328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25200" y="4970520"/>
                <a:ext cx="49680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25200" y="4564440"/>
                <a:ext cx="49680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1240" y="5672520"/>
                <a:ext cx="49680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96120" y="6431040"/>
                <a:ext cx="345960" cy="4975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1240" y="6204600"/>
                <a:ext cx="49680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1240" y="5895000"/>
                <a:ext cx="50328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65920" y="3260160"/>
              <a:ext cx="6858000" cy="3279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969640" y="3348000"/>
              <a:ext cx="6856200" cy="1504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2123640" y="6308280"/>
            <a:ext cx="53276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740360" y="6308280"/>
            <a:ext cx="11746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9546-A879-4FF4-A718-B86AA45BC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A329-5782-4A8A-BEF2-89F01B5BA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rlos@comp.ita.br" TargetMode="External"/><Relationship Id="rId2" Type="http://schemas.openxmlformats.org/officeDocument/2006/relationships/hyperlink" Target="mailto:tasinafo@comp.ita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185400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T200</a:t>
            </a:r>
            <a:br>
              <a:rPr sz="3600"/>
            </a:b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damentos de Automata e Linguagens Formais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s. Carlos H. C. Ribeiro e Paulo M. Tasinaffo  </a:t>
            </a:r>
            <a:br>
              <a:rPr sz="2000"/>
            </a:b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carlos@comp.ita.br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t-BR" sz="20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tasinafo@comp.ita.br</a:t>
            </a:r>
            <a:br>
              <a:rPr sz="2000"/>
            </a:br>
            <a:br>
              <a:rPr sz="54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3962520"/>
            <a:ext cx="4419720" cy="205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UL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rientações gerais (estrutura do cu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Grafos e ár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Provas indu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Cadeias, alfabetos e lingu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Definições recur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xpressões re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empl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143000"/>
            <a:ext cx="7542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ja X um conjunto qualquer, e R a igualdade. R é relação de equivalência, po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) É reflexiva (a = 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) É transitiva (se a=b e b=c, então a=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) É simétrica (se a=b, então b=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 X = N, qual é a classe de equivalência do elemento 2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ja X o conjunto dos inteiros. Definamos uma relação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tal que xRy sss (x - y) é divisível por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) Mostre que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é uma relação de equivalê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) Qual é classe de equivalência sobre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do elemento 10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B810-CA72-41E7-AE42-33868E6D6A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f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066680"/>
            <a:ext cx="7848720" cy="54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grafo G=(V,E) é um conjunto finito de vértices (nós) V e um conjunto de pares (ligações) de vértices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={1,2,3,4,5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={(n,m)| n+m=4 ou n+m=7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aminh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em um grafo G=(V,E) é uma sequência de vértices 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...,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k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1, tais que existem ligações (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,       1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rimento do caminh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é k-1. Se 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o caminho é um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icl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grau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um nó é o número de ligações àquele n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05120" y="1980720"/>
            <a:ext cx="2971800" cy="1831680"/>
            <a:chOff x="1905120" y="1980720"/>
            <a:chExt cx="2971800" cy="1831680"/>
          </a:xfrm>
        </p:grpSpPr>
        <p:sp>
          <p:nvSpPr>
            <p:cNvPr id="170" name=""/>
            <p:cNvSpPr/>
            <p:nvPr/>
          </p:nvSpPr>
          <p:spPr>
            <a:xfrm>
              <a:off x="2590920" y="2209680"/>
              <a:ext cx="38124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90920" y="3276360"/>
              <a:ext cx="38124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5120" y="274284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440" y="2209680"/>
              <a:ext cx="38088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440" y="3352680"/>
              <a:ext cx="380880" cy="38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210040" y="251424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10040" y="304776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419720" y="25905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>
              <a:stCxn id="173" idx="6"/>
              <a:endCxn id="173" idx="1"/>
            </p:cNvCxnSpPr>
            <p:nvPr/>
          </p:nvCxnSpPr>
          <p:spPr>
            <a:xfrm flipH="1" flipV="1">
              <a:off x="4322520" y="2264760"/>
              <a:ext cx="326160" cy="135360"/>
            </a:xfrm>
            <a:prstGeom prst="curvedConnector5">
              <a:avLst>
                <a:gd name="adj1" fmla="val -70165"/>
                <a:gd name="adj2" fmla="val 155200"/>
                <a:gd name="adj3" fmla="val -7016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2590920" y="2133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5120" y="27428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0920" y="3200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6744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744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7438-B2C7-40A1-BD30-73C98ADD0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afos Direcionad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1371600"/>
            <a:ext cx="815328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grafo direcionado G=(V,E) é um conjunto finito de vértices (nós) V e um conjunto de pares ordenados (arcos) de vértices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aminho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em um grafo direcionado G=(V,E) é uma sequência de vértices 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...,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k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1, tais que existem arcos  (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,       1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 v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w é um arco, v é dito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edecesso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de w e w é dito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ucesso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de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{{1,2,3,4},{i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j | i&lt;j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00400" y="2132280"/>
            <a:ext cx="2971800" cy="1832760"/>
            <a:chOff x="3200400" y="2132280"/>
            <a:chExt cx="2971800" cy="1832760"/>
          </a:xfrm>
        </p:grpSpPr>
        <p:sp>
          <p:nvSpPr>
            <p:cNvPr id="187" name=""/>
            <p:cNvSpPr/>
            <p:nvPr/>
          </p:nvSpPr>
          <p:spPr>
            <a:xfrm>
              <a:off x="3886200" y="23623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6200" y="34290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2895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2362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505320" y="266652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5320" y="320040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15000" y="2742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0" idx="6"/>
              <a:endCxn id="190" idx="1"/>
            </p:cNvCxnSpPr>
            <p:nvPr/>
          </p:nvCxnSpPr>
          <p:spPr>
            <a:xfrm flipH="1" flipV="1">
              <a:off x="5617800" y="2417040"/>
              <a:ext cx="326160" cy="135720"/>
            </a:xfrm>
            <a:prstGeom prst="curvedConnector5">
              <a:avLst>
                <a:gd name="adj1" fmla="val -70165"/>
                <a:gd name="adj2" fmla="val 155053"/>
                <a:gd name="adj3" fmla="val -7016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3886200" y="2286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00400" y="2895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86200" y="3352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272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676520" y="5150880"/>
            <a:ext cx="3657240" cy="921960"/>
            <a:chOff x="1676520" y="5150880"/>
            <a:chExt cx="3657240" cy="921960"/>
          </a:xfrm>
        </p:grpSpPr>
        <p:sp>
          <p:nvSpPr>
            <p:cNvPr id="202" name=""/>
            <p:cNvSpPr/>
            <p:nvPr/>
          </p:nvSpPr>
          <p:spPr>
            <a:xfrm>
              <a:off x="2680560" y="5410080"/>
              <a:ext cx="50148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76520" y="5410080"/>
              <a:ext cx="50184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84600" y="5410080"/>
              <a:ext cx="50184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32280" y="5410080"/>
              <a:ext cx="50148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78360" y="5605200"/>
              <a:ext cx="5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82400" y="5605200"/>
              <a:ext cx="5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86800" y="5605200"/>
              <a:ext cx="64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3" idx="7"/>
              <a:endCxn id="204" idx="0"/>
            </p:cNvCxnSpPr>
            <p:nvPr/>
          </p:nvCxnSpPr>
          <p:spPr>
            <a:xfrm flipH="1" flipV="1" rot="5400000">
              <a:off x="2986920" y="4527720"/>
              <a:ext cx="66960" cy="1830960"/>
            </a:xfrm>
            <a:prstGeom prst="curvedConnector5">
              <a:avLst>
                <a:gd name="adj1" fmla="val 393513"/>
                <a:gd name="adj2" fmla="val 49990"/>
                <a:gd name="adj3" fmla="val 3935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3" idx="4"/>
              <a:endCxn id="205" idx="4"/>
            </p:cNvCxnSpPr>
            <p:nvPr/>
          </p:nvCxnSpPr>
          <p:spPr>
            <a:xfrm flipH="1" rot="16200000">
              <a:off x="3504600" y="4287960"/>
              <a:ext cx="1800" cy="3156480"/>
            </a:xfrm>
            <a:prstGeom prst="curvedConnector5">
              <a:avLst>
                <a:gd name="adj1" fmla="val 14400000"/>
                <a:gd name="adj2" fmla="val 49994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2" idx="0"/>
              <a:endCxn id="205" idx="0"/>
            </p:cNvCxnSpPr>
            <p:nvPr/>
          </p:nvCxnSpPr>
          <p:spPr>
            <a:xfrm flipH="1" rot="16200000">
              <a:off x="4006800" y="4335120"/>
              <a:ext cx="2160" cy="21517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1748160" y="541008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52200" y="541008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56240" y="541008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03560" y="541008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B67A-0854-4390-A4C2-BEB9EB7187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Árv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871560"/>
            <a:ext cx="8305920" cy="22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a árvore é um grafo direcionado com as seguintes proprie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 nó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ai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em predecessores, a partir do qual há um caminho para todo n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s os outros nós têm exatamente um predeces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 sucessores de cada nó são ordenados a partir da esquer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286000"/>
            <a:ext cx="8381520" cy="4337280"/>
            <a:chOff x="457200" y="2286000"/>
            <a:chExt cx="8381520" cy="4337280"/>
          </a:xfrm>
        </p:grpSpPr>
        <p:sp>
          <p:nvSpPr>
            <p:cNvPr id="219" name=""/>
            <p:cNvSpPr/>
            <p:nvPr/>
          </p:nvSpPr>
          <p:spPr>
            <a:xfrm>
              <a:off x="3561480" y="22860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sentenc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97240" y="268308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subject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5040" y="268308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predicat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6600" y="3136680"/>
              <a:ext cx="17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noun phras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68960" y="3136680"/>
              <a:ext cx="162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verb phras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35928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adjectiv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09520" y="3592800"/>
              <a:ext cx="162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noun phras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88160" y="41022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adjectiv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40840" y="4102200"/>
              <a:ext cx="186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noun phras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19480" y="46116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adjectiv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9560" y="4611600"/>
              <a:ext cx="162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noun phras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0560" y="35928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verb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7640" y="5120640"/>
              <a:ext cx="93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noun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89960" y="3592800"/>
              <a:ext cx="23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adverbial phras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79280" y="4158720"/>
              <a:ext cx="162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preposition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09000" y="4158720"/>
              <a:ext cx="162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noun phras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9960" y="4611600"/>
              <a:ext cx="162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adjectiv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09000" y="4611600"/>
              <a:ext cx="162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noun phras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44760" y="5234040"/>
              <a:ext cx="162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adjectiv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19680" y="5798880"/>
              <a:ext cx="10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&lt;noun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096000" y="2512800"/>
              <a:ext cx="9309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59880" y="2512800"/>
              <a:ext cx="6984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630160" y="2966400"/>
              <a:ext cx="15480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155240" y="3363480"/>
              <a:ext cx="116388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30160" y="3420360"/>
              <a:ext cx="31032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086560" y="3873960"/>
              <a:ext cx="62100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96000" y="3873960"/>
              <a:ext cx="62064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940840" y="4384440"/>
              <a:ext cx="69840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27320" y="4327560"/>
              <a:ext cx="69840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25720" y="4894920"/>
              <a:ext cx="7740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647600" y="5405400"/>
              <a:ext cx="15516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707920" y="4894920"/>
              <a:ext cx="23256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543320" y="4384440"/>
              <a:ext cx="46548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67520" y="3930840"/>
              <a:ext cx="15480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46360" y="2966400"/>
              <a:ext cx="62100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191200" y="3363480"/>
              <a:ext cx="69840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7680" y="3420360"/>
              <a:ext cx="38808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8640" y="3817080"/>
              <a:ext cx="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277320" y="3817080"/>
              <a:ext cx="46548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09000" y="3817080"/>
              <a:ext cx="69840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656680" y="4441320"/>
              <a:ext cx="387720" cy="51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734440" y="4894920"/>
              <a:ext cx="775800" cy="56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665760" y="4384440"/>
              <a:ext cx="116388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62920" y="4384440"/>
              <a:ext cx="7704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821280" y="4838040"/>
              <a:ext cx="1008720" cy="45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40320" y="4838040"/>
              <a:ext cx="7740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985160" y="5518800"/>
              <a:ext cx="15480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752600" y="6086160"/>
              <a:ext cx="1548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" y="421668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11120" y="4669200"/>
              <a:ext cx="8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qui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97240" y="5290560"/>
              <a:ext cx="10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br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37640" y="579888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fo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92800" y="4102200"/>
              <a:ext cx="10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jump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46360" y="4896000"/>
              <a:ext cx="7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01880" y="540432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77680" y="5744520"/>
              <a:ext cx="69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l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19680" y="6255000"/>
              <a:ext cx="7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d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588000" y="5518800"/>
              <a:ext cx="7740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39152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oun phra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F0FA-C930-4048-81F5-1FF7C8C49C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v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1268280"/>
            <a:ext cx="8137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ês mecanismos bás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a por constr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provas envolvendo teoremas que afirmam a existência de um objeto. Consiste em produzir uma demonstração de como construir o objet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a por contradição (ou por absur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 em assumir que o teorema é falso e mostrar que isto leva a uma contradi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a por in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a o princípio da indução matemática: uma propriedade P(n) é resultado de P(0) e da implicação P(n-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D483-4192-4005-8553-52C3BFBEB2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4572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emplo de prova por constru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765000"/>
            <a:ext cx="815364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orema: Para qualquer número pa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2 existe um grafo formado apenas p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értices de grau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a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Construa um grafo G=(V,E) da seguinte manei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= {0,1,...,n-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 = {{i, i+1} para 0&lt;i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-1}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{{n-1,0}}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{{i, i+n/2} para 0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/2-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senhe o grafo e verifique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3789360"/>
            <a:ext cx="815328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Teorema: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é irr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va: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Suponha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√2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racional. Então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√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= m/n, onde m e n são inteiros. Divida agora m e n pelo MDC(m,n), de modo que a fração não tem seu valor alterado, mas agora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m e n não podem mais ser ambos pare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Multiplicando os dois lados por n e elevando ao quadrado: 2n</a:t>
            </a:r>
            <a:r>
              <a:rPr b="0" i="1" lang="pt-B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i="1" lang="pt-B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. Portanto, m</a:t>
            </a:r>
            <a:r>
              <a:rPr b="0" i="1" lang="pt-B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é par. Logo, m é par, e então m=2k. Substitui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0" i="1" lang="pt-B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=(2k)</a:t>
            </a:r>
            <a:r>
              <a:rPr b="0" i="1" lang="pt-B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=4k</a:t>
            </a:r>
            <a:r>
              <a:rPr b="0" i="1" lang="pt-B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pt-BR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= 2k</a:t>
            </a:r>
            <a:r>
              <a:rPr b="0" i="1" lang="pt-B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n é par (contradição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3070080"/>
            <a:ext cx="77724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emplo de prova por contrad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78F3-9387-422F-AF37-88C9A1C1A5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42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va por Indução: Exemplo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144792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) Base para n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) Passo indu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971800" y="1371600"/>
                <a:ext cx="26668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429000" y="2438280"/>
                <a:ext cx="34606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3505320"/>
                <a:ext cx="4734000" cy="24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754380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439E-7ECB-4FD5-8BCF-B982179B8A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vas por Indução: Exemplo 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1447920"/>
            <a:ext cx="8153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ve qu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 fator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-n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) Base par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=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-0+3 = 0+3=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i) Passo indu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352680" y="2514600"/>
                <a:ext cx="5486400" cy="24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75438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A451-1B06-4AA7-B734-AB1AEADDC6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nguagens: Conceitos Bás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675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ímbol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é um símbol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lfabet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é um conjunto finito de símbo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ma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adeia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(string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é uma sequência finita de símbo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quência d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símbolos: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cadeia vaz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junto d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todas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s cadeia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um alfabeto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peração de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concatenaçã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de duas cadeias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ma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linguagem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é um subconjunto (possivelmente infinito) d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intaxe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 linguagem é o conjunto de propriedades satisfeitas por suas cade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conjunto vazio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é uma linguagem. O conjunto formado pela cadeia vazia {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} é uma lingu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conjunto de palíndromos sobre {0,1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ímbolos: 0 1, Alfabeto: {0,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nguagem: {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0, 1, 00, 11, 010, 1101011, 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= 00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= 010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uv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= 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é uma linguagem sobre um alfabeto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={a}.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={0,1}.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ercício: Uma linguagem natural encaixa-se na definição formal de linguagem? Em caso positivo, que símbolos seriam mais adequados: letras ou palavr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D96A-4241-4208-B434-9478852BCA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presentações Finitas de Linguage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140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tage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tar enumeração exaus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ar a sintaxe da linguagem de modo não-ambíg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écn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ação recur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efino um conjunto de elementos básicos da lingu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Defino um passo recursivo que permite obter qualquer string que obedeça à sintaxe da lingu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mponho o fechamento: passos 1 e 2 definem todos os elementos da linguagem, e somente 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ação com uso de op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o operadores sobre lingu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o a linguagem através de um conjunto de operações sobre linguagens mais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760A-BBA2-412F-B4DA-78E5B30C57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tiva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tivo do curs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esentar os fundamentos da Teoria da Compu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o definir o processo computacional de maneira for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is as capacidades / limitações da comput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o definir uma máquina abstrata que realiza computaçõ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 suma: quais as capacidades e limitações de um computad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emos que existe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ár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os, e que a capacidade computacional de uma máquina é caracterizada pe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nguagem for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la pode reconhe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to mais “poderosa” uma máquina, maior a complex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 linguagem que ela pode reconhe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824C-D42D-4DBC-BE39-517D30FD06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presentação Recursiva: Exempl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1371600"/>
            <a:ext cx="81532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 = cadeias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bre {a,b} começando com a e com comprimento p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a, ab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(elementos bás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a,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b,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a,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(passo recurs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L apenas se obtido dos elementos básicos por um número finito de aplicações do passo recursivo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(fecha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 = cadeias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bre {a,b} em que cada b é imediatamente precedido por um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(elemento bás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(passo recurs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L apenas se obtido dos elementos básicos por um número finito de aplicações do passo recursivo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(fecha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4529-78FD-4717-B9E7-09158501A2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lguns Operadores sobre Linguage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catena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de linguagens X e Y: XY = {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emplo: X = {a,b,c}, Y = {abb,b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XY = {aabb, aba, babb, bba, cabb, cb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X = {a,b,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XX = {aa, ab, ac, ba, bb, bc , ca, cb, c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echamento de Kleen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a linguagem 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Uni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de linguagens X e Y:  X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emplo: X = {a,b,c}, Y = {abb,b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Y = {a, b, c, abb, b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Note que 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=X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versã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linguagem X: X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{u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| u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X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284800" y="2997360"/>
                <a:ext cx="1447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 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limUpp>
                          <m:e/>
                          <m:lim>
                            <m:r>
                              <m:t xml:space="preserve">∞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16000" y="4797360"/>
                <a:ext cx="1371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limUpp>
                          <m:e/>
                          <m:lim>
                            <m:r>
                              <m:t xml:space="preserve">∞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812B-19AD-4779-B2D2-BBCDBC75FA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720" y="43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presentação com Operadores: Exempl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341360"/>
            <a:ext cx="7848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 1: L = cadeias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bre {a,b} com comprimento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aa, bb, ab, ba}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 2: L = cadeias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e começam e terminam com a e que contém pelo menos um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a}{a, b}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b}{a, b}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 3: L = cadeias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bre {a,b} começando com aa ou  terminando com 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aa}{a, b}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{a, b}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b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D730-14B0-4A50-A689-E0489A15E9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inguagens Regulares: Defini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Ø,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 {a}, para todo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ão linguagens 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o recursiv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e Y linguagens regular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, XY 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linguagens 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chamen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é linguagem regular apenas se obtido dos elementos básicos por um número finito de aplicações do passo recur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7240" y="1330200"/>
            <a:ext cx="7772400" cy="245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41497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notação simplificada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ões re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, b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ecedência * &gt; concatenação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F694-49AA-4777-85BE-617444F495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971640" y="177840"/>
            <a:ext cx="77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emplo: O conjunto de cadeias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tendo a sub-cadeia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{a}, {b}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{a, b}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nião, fechamento de Kle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{b}{b}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{bb}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cate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{a, b}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{bb}{a, b}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catenação (duas vez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b (a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xpressão regular correspo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emplo: O conjunto de cadeias contendo dois ou mais b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 (a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(a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(a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pt-BR" sz="1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pressões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quival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lgumas identidades (existem outras!) envolvendo expressões regul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4360" y="4076640"/>
          <a:ext cx="8208720" cy="1860480"/>
        </p:xfrm>
        <a:graphic>
          <a:graphicData uri="http://schemas.openxmlformats.org/drawingml/2006/table">
            <a:tbl>
              <a:tblPr/>
              <a:tblGrid>
                <a:gridCol w="2016000"/>
                <a:gridCol w="6192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 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b)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= a(ba)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096A-28D7-4941-8EB5-C1C01AC5EE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ibliografia Bási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tion to Automata Theory, Languages and Computatio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J.E. Hopcroft e J.D. Ullman. Addison-Wesley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m clássico na área, razoavelmente completo e didático. Provas sumárias de teoremas. Apresenta soluções comentadas para alguns exercí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ção à Teoria de Autômatos, Linguagens e Comput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– J.E. Hopcroft, J.D. Ullman e R. Motwami. Campus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radução da 2a. edição americana de versão estendida do Hopcroft/Ullman. Vários erros de tradução. Bem comp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lements of the Theory of Computatio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H.R. Lewis e C.H. Papadimitriou. Prentice-Hall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m pouco mais pesado e menos didático do que o anterior.Conciso e obje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nguages and Machin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T. Sudkamp. Addison-Wesley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ais didático do que os anteriores. Ordenação não muito ortodoxa: primeiro discute linguagens e gramáticas e só então introduz a teoria de autôm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roduction to the Theory of Computatio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M. Sipser. PWS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nciso e did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 de a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38E8-0220-4BA8-93A7-74D858A614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rientações Gerais: Horários e Avaliaçã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2441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ár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tempos semanais (teo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li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s exames escritos individuais em sa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 seminári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latado e apresenta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 proje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latado e apresenta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s listas de exercícios realizada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vidu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860640"/>
            <a:ext cx="77724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 (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° bimestre)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1 = (5*s + 4*e1 +l1)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nota do seminá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1 = nota do exam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1= nota da list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 (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° bimestre)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2 = (5*p + 4*e2 +l2)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nota do pro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2 = nota do exam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2 = nota da list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 final: (N1+N2)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1517760"/>
            <a:ext cx="2952720" cy="50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Critérios para avaliação do proj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Qualidade do relatório (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Adequação da 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Qualidade d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Capacidade cr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Qualidade do 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Integração com demais projeto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(3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Qualidade da apresentação (2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avaliação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Cada projeto desenvolvido por grupo de 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x alu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ECE4-2F8D-4E30-8FA6-C41BDEFFA9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oria da Computação: Visão Gera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809640"/>
          <a:ext cx="663876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809640"/>
                    <a:ext cx="66387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443640" y="2362320"/>
            <a:ext cx="25146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á problemas simples e problemas difíce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namento: simple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cação de recursos: complex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QUE TORNA ALGUNS PROBLEMAS FÁCEIS E OUTROS DIFÍCEIS? COMO CLASSIFICAR PROBLEM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2709720" cy="293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á problemas que podem ser resolvidos por computadores, e outros que não pod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emplo: Teorema de G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ö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O QUE TORNA ALGUNS PROBLEMAS COMPUTÁVEIS E OUTROS NÃO COMPUTÁVE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QUAIS AS CONSEQUÊNCIAS DISSO PARA O PROJETO DE COMPUTADOR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365200"/>
            <a:ext cx="2806560" cy="3030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QUE É UM COMPUTAD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em modelos gerais de computadores que não referenciam nenhuma implementação particular? Como verificar o que um computador faz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os de modelos computaciona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ômato finito: processamento de texto, compiladores e projeto d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ática livre de contexto: linguagens de programação e Inteligência Artifi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AE01-9F15-410F-AE65-64E8E785E1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Kurt G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ö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scido em 1906 (Brno, Rep. Tcheca), faleceu em 1978 (Princeton, EU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utorado em 1929 (Univ. de Vie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orema provado em 1931: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qualquer sistema matemático baseado em axiomas tem proposições que não podem ser provad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orema de G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ödel encerrou uma busca de mais de 100 anos por uma base axiomática completa para a Matemática (Hilbert, Russell e outros). É um dos dez mais importantes teoremas provados, considerando-se qualquer área da Ci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57150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ais info: http://www-groups.dcs.st-and.ac.uk/~history/Mathematicians/Godel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31291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3834-2CA9-49D6-A45A-4C50AD846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lembrando Teoria dos Conjun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926640"/>
            <a:ext cx="8137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juntos: letras maiúsculas, elementos: letras minúsc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. de conjuntos: chaves+enumeração, chaves+cond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mp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{1,2,3}, B={a,b,c,...,z}, C={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| x&lt;100 e x é primo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.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junto vazio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conjunto sem ele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.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se x é um elemento do conjunto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.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=Y se X e Y têm os mesmos ele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.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se todo elemento de Y é elemento de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.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se todo elemento de Y é elemento de X e 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(Y subconjun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ópr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 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defini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conjunto vazio é subconjunto (próprio) de qualquer conj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quer conjunto X é subconjunto de si próp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D543-BA36-43E4-8A10-0900E39BB7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ções sobre Conjun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 = {x | x está em A ou x está em 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 = {x | x está em A e x está em B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-B = {x | x está em A e x não está em 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 = {(x,y) | x está em A e y está em B}     (produto cartesiano de A e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ma relação binária de A e B é um subconjunto de A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o conjunto das partes (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power se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 de A é o conjunto dos subconjuntos d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emplo: A={1,2}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{1}, {2}, A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is conjuntos A e B têm a mesma cardinalidade se existir um mapeamento (função) de um-para-um dos elementos de A para os elementos de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m conjunto A tem cardinalidade menor do que um conjunto B se existir um mapeamento (função) de um-para-um dos elementos de A para apenas alguns dos elementos de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cardinalidade de um conjunto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it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A é o número de elementos d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 A e B são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ito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e 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B então card(A) &lt; card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 A e B são infinitos e 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B então card(A) &lt; card(B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card(A)=card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m conjunto A é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tável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se card(A) = card(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5516640"/>
            <a:ext cx="1727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5445000"/>
            <a:ext cx="2000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C731-FE5D-4269-8CCC-12AA09AECA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priedades das Relações e Classes de Equivalênc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143000"/>
            <a:ext cx="72392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flex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se aRa para todo 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nsit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se aRb e bRc implica aRc para todo a,b,c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métri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se aRb implica bRa para todo a,b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relação que satisfaz as três propriedades acima é dita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lação de equivalênci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j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uma relação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equivalência em um conjunto X. A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lasse de equivalênci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de um element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 (definida pela relação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) é o conjunto [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] = {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 |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u seja: a classe de equivalência do element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é o subconjunto formado por aqueles elementos de X que se relacionam com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pela relação de equivalência em quest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T200 - Fundamentos de Automata e Linguagens Form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8547-4650-443F-B2BD-5F1427F0E4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10:43:04Z</dcterms:created>
  <dc:creator>Carlos H. C. Ribeiro</dc:creator>
  <dc:description/>
  <dc:language>en-US</dc:language>
  <cp:lastModifiedBy>Carlos Henrique</cp:lastModifiedBy>
  <cp:lastPrinted>2001-03-05T17:27:27Z</cp:lastPrinted>
  <dcterms:modified xsi:type="dcterms:W3CDTF">2007-02-28T13:08:53Z</dcterms:modified>
  <cp:revision>331</cp:revision>
  <dc:subject/>
  <dc:title>Linguagens Regulares e Máquinas de Estados Finitos</dc:title>
</cp:coreProperties>
</file>