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marL="21600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02264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0" y="9743760"/>
            <a:ext cx="3076560" cy="4777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4022640" y="9743760"/>
            <a:ext cx="3076560" cy="4777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30960" y="9798120"/>
            <a:ext cx="992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5DD55-E785-4EE9-857D-CB704E48D2E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FF93-A94B-4C3F-AC2F-583FD9C58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6EA2-902D-4FB8-8DE5-12673EF15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19AD-593A-4E99-80F1-CB991934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BF35-BEDF-4796-804A-261DBD98D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2AFA9-307A-4395-8ED3-A702EDA8B5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71593-F403-48B2-9CC9-0AE048077B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782BC-8611-4043-ABA9-7CF671E975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AB9F1-B5A0-4F55-BD70-738399B7A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A40B-B212-4F4B-B540-B5ED28C3DC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42FE-BC9C-473D-AD58-A9254F8FAD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B84CF-FF90-495E-A86E-C101C78FF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89DD-01BD-4369-ABD8-6B6129560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6156-5F82-46EB-BE2F-2CC0191D23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8FB6-61AB-4504-84D3-E812117A9B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5B3AE-5646-4BF2-91D3-D6C3C25A29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907EE-4F77-4DAF-8ACE-2BF3B5F7F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4713F-3228-40A9-84F2-4ACD71F341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48E-C9EC-4911-9028-C25AE10AE8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B80-E426-4BFE-ADC6-50508014FB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27B-4C31-407E-806B-A5F935AD7C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C581-CF51-415A-901E-C04F27BD34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415E-D193-4419-B1F0-CDDD4101E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0F5D-D1CF-418C-B1BE-F5DEFE536F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5981-B5F9-4664-9B8D-A429C62652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BD7-5D49-4C57-96E8-F95954388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649B-DCED-4CE5-8554-5E8C4492EF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CAA6-E069-4C42-A160-B5DD1121B3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EBCA-C58B-4FFB-8E4D-8EE39A4C7F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B5E-845E-4C4F-B597-5417772128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7952-C189-4BD0-B4E7-64F45F1830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8CD8-B659-44A9-8098-DA6B3247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C9CA-E71D-4843-9EEF-2173A4A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EBA6-43D1-41F5-9EBA-AEA9E4F8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F4B0-D4EB-4225-BBA2-CFA5077CF0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63C3-072A-46C1-BCA3-B5C8931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937F-18B4-46D2-9400-62F14803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4DBF-8ACE-4103-8D01-62C68AC4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3D2F-BFA3-4DE2-BE37-38E841B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4CE7-6158-4B52-AC59-D97BFD5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DA80-36C8-431E-AB11-A9640A6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6FEC-BD34-4D92-A669-4435D989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87CE-F297-4B93-90B4-B0AC73EF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9CDE-9A10-493D-BE54-7FE65CFA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D80B-FB1F-4DE6-8C68-2A31B9941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61E1-1618-479C-89F4-F717C1290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5F05-B007-42BE-99AA-0059AAB31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7BDE-51B8-4EDB-9299-B2F742950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0475-B26F-4F2F-BCF6-A88E4F7B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4680"/>
            <a:ext cx="553680" cy="6858000"/>
            <a:chOff x="0" y="-4680"/>
            <a:chExt cx="553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1240" y="-4680"/>
              <a:ext cx="527040" cy="6857640"/>
              <a:chOff x="21240" y="-4680"/>
              <a:chExt cx="52704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5200" y="-4680"/>
                <a:ext cx="51588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5560" y="1693080"/>
                <a:ext cx="51588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5560" y="1287360"/>
                <a:ext cx="5158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5560" y="149400"/>
                <a:ext cx="5158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5560" y="984960"/>
                <a:ext cx="5158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5560" y="680400"/>
                <a:ext cx="51588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5560" y="372240"/>
                <a:ext cx="5223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1240" y="3939480"/>
                <a:ext cx="5158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1240" y="3533760"/>
                <a:ext cx="5158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1600" y="2395440"/>
                <a:ext cx="5158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1240" y="3230280"/>
                <a:ext cx="5158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1240" y="2926800"/>
                <a:ext cx="5158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1600" y="2617920"/>
                <a:ext cx="5223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5200" y="4970520"/>
                <a:ext cx="5158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5200" y="4564440"/>
                <a:ext cx="5158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1240" y="5672520"/>
                <a:ext cx="515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06200" y="6421680"/>
                <a:ext cx="345960" cy="5166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1240" y="6204600"/>
                <a:ext cx="5158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1240" y="5895000"/>
                <a:ext cx="5223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58360" y="3254040"/>
              <a:ext cx="6858000" cy="340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52360" y="3345120"/>
              <a:ext cx="6856200" cy="156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F82-28FC-4BAB-88FC-53A997C8FD0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028960" y="6248520"/>
            <a:ext cx="549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954920" y="624852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059-ACD1-4721-A914-246443C4CA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720" y="-4680"/>
            <a:ext cx="685440" cy="6858000"/>
            <a:chOff x="-720" y="-4680"/>
            <a:chExt cx="6854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26640" y="-4680"/>
              <a:ext cx="652320" cy="6857640"/>
              <a:chOff x="26640" y="-4680"/>
              <a:chExt cx="652320" cy="6857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32400" y="-468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400" y="169272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400" y="128700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2400" y="14904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2400" y="98460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400" y="68004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32400" y="37188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7360" y="393948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360" y="353376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7360" y="239508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7360" y="3230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27360" y="292680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7360" y="261756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2400" y="497052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2400" y="4564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7360" y="567252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rot="16200000">
                <a:off x="173160" y="636012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7360" y="620460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7360" y="589500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 rot="16200000">
              <a:off x="-3219120" y="321336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16200000">
              <a:off x="-2840040" y="332676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5"/>
          </p:nvPr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6"/>
          </p:nvPr>
        </p:nvSpPr>
        <p:spPr>
          <a:xfrm>
            <a:off x="795636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F0BA-6F32-4B0C-9085-4A2F326D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89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90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E282-6B04-48BE-AFA3-D897A5E4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1422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8360" y="3860640"/>
            <a:ext cx="518328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plificação de GL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s normais de Chomsky e Greib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13960" y="167652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GLCs, é possível restringir a quantidade e forma das produções, sem reduzirmos seu poder gerador de linguagem. Isto garante propriedades interess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ia de terminação do processo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álise sintátic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ção da caracterização das linguagens geradas pela gra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os preliminares para normaliz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ção de Recursão sobre Símbolo Inicial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ção de Reg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ção de Regras Encad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ção de Símbolos Inút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738360" y="49320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rmalização de GLC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2F31-110B-49BF-858C-F0B505E43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13960" y="16765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ça o símbolo inicial S a atuar apenas como u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iciad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deriv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a G=(V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,S) uma GLC. Existe uma GLC G’ =(V’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’,S’) (e um algoritmo correspondente para produzí-la) que satisf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 L(G’)=L(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) As regras de P’ são da forma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onde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’ e 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V-{S’}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93720" y="47736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liminação de Recursão sobre 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0160" y="2879640"/>
            <a:ext cx="8007480" cy="264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54D7-594C-4368-B82D-D412D743C9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71480" y="1457280"/>
            <a:ext cx="808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 regras que produzem cadeias nulas (a menos que seja parte da linguagem e a única regr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ja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gramática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tisfazendo estas condições é di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sencialmente não-contr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723960" y="43452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liminação de Regras </a:t>
            </a:r>
            <a:r>
              <a:rPr b="0" lang="en-US" sz="36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440" y="2527200"/>
            <a:ext cx="8243640" cy="249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 G=(V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,S) uma GLC. Existe uma GLC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e um algoritmo correspondente para produzí-la) que satisf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) L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)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é variável não-recur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)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(G) e A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FDB3-99CB-473D-8BD1-17F1C328F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13960" y="1676520"/>
            <a:ext cx="786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 regras do tipo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que não são nada mais do que uma renomeação de variáv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650880" y="47736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liminação de Regras em Cadei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520" y="2759040"/>
            <a:ext cx="8243640" cy="24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 G=(V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,S) uma GLC essencialmente não-contrátil. Existe uma GLC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S) (e um algoritmo correspondente para produzí-la) que satisf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) L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)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ão tem regras em cade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60A8-B28C-49DF-9554-A3E0BA056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740880" y="1284120"/>
            <a:ext cx="786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 variáveis que não contribuem para a geração de cadeias da linguagem gerada pela gra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.: Seja G uma GLC. Um símbol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é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ú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existir derivação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 onde u,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aso contrário, o símbolo é di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ú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795240" y="44892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liminação de Símbolos Inút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9440" y="3222720"/>
            <a:ext cx="8243640" cy="207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 G=(V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,S) uma GLC. Existe uma GLC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S) (e um algoritmo correspondente para produzí-la) que satisf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) L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)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ão tem símbolos inú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54600" y="232740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24440" y="234144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8227-0792-4F31-A882-5F128195A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50880" y="1414440"/>
            <a:ext cx="820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GLC G está na forma normal de Chomsky se cada regra estiver em uma das seguintes formas: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GLC G está na forma normal de Greibach se cada regra estiver em uma das seguintes formas: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780840" y="448920"/>
            <a:ext cx="816444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ormas Normais de Chomsky e Greib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800" y="2860560"/>
            <a:ext cx="8359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 G=(V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P,S) uma GLC. Existem GLCs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G’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 algoritmos correspondente para produzí-las) que satisfaz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) L(G’’)=L(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)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á na forma normal de Chom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) G” está na forma normal de Greib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6764-082B-49CB-9A41-206D4C5AF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23:29:22Z</dcterms:created>
  <dc:creator>Carlos Ribeiro</dc:creator>
  <dc:description/>
  <dc:language>en-US</dc:language>
  <cp:lastModifiedBy>C. Henrique</cp:lastModifiedBy>
  <cp:lastPrinted>2001-04-01T13:35:18Z</cp:lastPrinted>
  <dcterms:modified xsi:type="dcterms:W3CDTF">2006-05-08T21:36:22Z</dcterms:modified>
  <cp:revision>779</cp:revision>
  <dc:subject/>
  <dc:title>Simplificação de GLCs e formas normais</dc:title>
</cp:coreProperties>
</file>