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72288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60E8-9756-482F-94F9-4DF8D6210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E545-33DB-406F-9B4B-0C98BD259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9B04-7B61-440E-AAC5-A4383C6A0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170C-825F-4981-AFBE-BEE718D2C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A661-5763-49AE-AA55-68880D1A3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5B32-8A95-435A-8E3B-F2E70F109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F5C2-F839-4E49-B797-79583B2B8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5598-7552-46CB-871D-2D7AA5EC7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4770-D3AB-48F1-A107-C556A70D1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D58B-04A8-4406-ACF7-03B50DA09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CD51-79C3-4C9D-845E-3DEEF3E57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9A00-6E5E-4A3D-9FCE-8D569083B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B32EF-C8F6-41C0-AF29-CE506A194CF1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argouml.tigris.org/" TargetMode="Externa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560" y="836280"/>
            <a:ext cx="722484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 guide to map application components to support multi-user real-time collabor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34600" y="3962520"/>
            <a:ext cx="6318360" cy="14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auro Carlos Pichiliani (pichilia@ita.b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elso Massaki Hirata (hirata@ita.b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200400" y="5796000"/>
            <a:ext cx="1981080" cy="6811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3860640"/>
            <a:ext cx="8604360" cy="144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ED7E-8FA4-4E7F-9037-577CC900CDDC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26920" y="549000"/>
            <a:ext cx="7655040" cy="7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Proof of concept - ArgoUM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676520"/>
            <a:ext cx="8305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1676520"/>
            <a:ext cx="85345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reated by Robins, Hilbert and Redmiles in 1997 in the University of California, Irv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ain characteristic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2800" indent="-53352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Implemented in Java (Sw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2800" indent="-53352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pen source CASE tool largely u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2800" indent="-53352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Its internal representation of the model is based of grap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2800" indent="-53352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Uses the MVC (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Model View Controler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) achitectural sty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2800" indent="-53352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Has a strong community of developers and users (~200 developers around the worl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2800" indent="-53352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eceived good assessments from the specialized p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2800" indent="-53352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Large number of classes (more than 1,000 class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2800" indent="-53352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Lack of documentation about th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2800" indent="-53352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oes not support all the UML diagr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Web Site: </a:t>
            </a:r>
            <a:r>
              <a:rPr b="0" lang="pt-BR" sz="2000" spc="-1" strike="noStrike" u="sng">
                <a:solidFill>
                  <a:srgbClr val="3333cc"/>
                </a:solidFill>
                <a:uFillTx/>
                <a:latin typeface="Arial"/>
                <a:hlinkClick r:id="rId1"/>
              </a:rPr>
              <a:t>http://argouml.tigris.org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1197000"/>
            <a:ext cx="8604360" cy="7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197000"/>
            <a:ext cx="8604360" cy="144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52D7-8278-4CEC-BCB5-28BC120C3D6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8920" y="549000"/>
            <a:ext cx="8339400" cy="7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roof of concept - Features implemen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560" y="1676520"/>
            <a:ext cx="8305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1676520"/>
            <a:ext cx="85345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575"/>
              </a:spcBef>
              <a:buClr>
                <a:srgbClr val="99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A Collaboration Server to enable session control and the communication between the applications in the Interne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75"/>
              </a:spcBef>
              <a:buClr>
                <a:srgbClr val="99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A chat tool integrated with the GUI of ArgoUM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75"/>
              </a:spcBef>
              <a:buClr>
                <a:srgbClr val="99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Shared diagram workspace capable of replicating all the creation, modification and deletion of elements on the shared mod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75"/>
              </a:spcBef>
              <a:buClr>
                <a:srgbClr val="99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A level-based lock mechanism for the concurrency control of the elements on the shared diagram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75"/>
              </a:spcBef>
              <a:buClr>
                <a:srgbClr val="99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Buttons to change the lock level for each diagram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75"/>
              </a:spcBef>
              <a:buClr>
                <a:srgbClr val="99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The lock window that shows the elements currently locked and its owner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75"/>
              </a:spcBef>
              <a:buClr>
                <a:srgbClr val="99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Telepointers to enhance user percep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1197000"/>
            <a:ext cx="8604360" cy="7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1197000"/>
            <a:ext cx="8604360" cy="144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53FD-3885-456F-91FD-701D3AA4A5C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55040" cy="7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Proof of concept - Modif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560" y="1676520"/>
            <a:ext cx="8305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1676520"/>
            <a:ext cx="85345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ain modifications include code for support external concurrent modifications on the internal hash table stored by GEF (Graphic Editing Framework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) used by ArgoUM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ee new user interface widgets: a text box and a button for the chat tool, colors on elements to display the lock (green: no lock; red: locked by some user) and telepointer with the user’s name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original classes were inherited and their functional methods overwritten. Composition was also used in many cases, especially in classes where notifications must be propagated.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design patterns were used on the original code : Singleton, Observer, Proxy, Factory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he Collaboration Server was implemented using Sockets. The TCP/IP protocol was used for communication and the XMI format to foward the UML modific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197000"/>
            <a:ext cx="8604360" cy="144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0AEA-7D54-4F7F-8621-A82BC9F255F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55040" cy="7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Demonstration - CoArgoUM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560" y="1676520"/>
            <a:ext cx="8305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763640" y="1700280"/>
            <a:ext cx="5688000" cy="45702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0" y="1197000"/>
            <a:ext cx="8604360" cy="144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6FF0-8391-4164-A5AE-EDB76D08A71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55040" cy="7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Experimen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560" y="1676520"/>
            <a:ext cx="8305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50920" y="1557360"/>
            <a:ext cx="853416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elve students divided into pairs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erformed three collaborative modeling sessions using the proto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hey receive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ctitious scenario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and were asked to model uses cases and class diagrams based on the presented scenar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cial, effort perception and general questionnaires were used to collect data. Logs of the tool (i.e. elements created by users), a camera and quick interviews were also used to gather data related to the experi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1197000"/>
            <a:ext cx="8604360" cy="7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197000"/>
            <a:ext cx="8604360" cy="144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CBC8-D55E-41D0-A60C-08637596487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Results of the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0920" y="1557360"/>
            <a:ext cx="853416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liminary results indicate that the collaborative models produced by the students with a high level of interaction during the sessions were more complete than oth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the students indicated that they enjoyed the experience and prefer to use a collaborative modeling tool instead of a single-user modeling too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hough we have not completed the analysis of the data collected, the initial results indicate that the mapping allowed the building a collaborative prototype that satisfy the basic collaborative require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197000"/>
            <a:ext cx="8604360" cy="144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6285-CB78-48C8-8D43-7F989429067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55040" cy="7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Conclusions and future 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1197000"/>
            <a:ext cx="8604360" cy="7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1197000"/>
            <a:ext cx="8604360" cy="144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50920" y="1557360"/>
            <a:ext cx="8534160" cy="53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roposed mapping provides a guide that helps the developers of applications to implement aspects of collaboration on their proje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resence of such a mapping can encourage developers and the open-source community to extend existing applications therefore increase the number of domains of groupware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implications of the experiment can lead to new opportunities not only on real software projects but also on e-learning environ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ially automate the mapp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 new groupware requirement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ArgoUML can be downloaded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2800" indent="-533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 u="sng">
                <a:solidFill>
                  <a:srgbClr val="000000"/>
                </a:solidFill>
                <a:uFillTx/>
                <a:latin typeface="Arial"/>
              </a:rPr>
              <a:t>http://paginas.terra.com.br/informatica/pichiliani/argo.htm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5DB8-C9D6-47F8-A46B-6EAEEF2A878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esent a mapping to extend single-user applications to support multi-user real-time collaboration over the Internet.</a:t>
            </a: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1197000"/>
            <a:ext cx="8604360" cy="144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042920" y="476280"/>
            <a:ext cx="716112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</a:t>
            </a: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9B8E-1E75-487E-90DD-42FF58987DC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87280" y="549000"/>
            <a:ext cx="7156800" cy="66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verview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48960" y="1341000"/>
            <a:ext cx="766116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Related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ping of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of of conce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ons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ri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lusions and future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268280"/>
            <a:ext cx="8604360" cy="71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197000"/>
            <a:ext cx="8604360" cy="144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6B15-A5C7-4D0B-A805-DBAB5828C50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3000" y="531720"/>
            <a:ext cx="7161120" cy="7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tivation</a:t>
            </a: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1197000"/>
            <a:ext cx="8604360" cy="144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1600200"/>
            <a:ext cx="86104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ing a groupware application from scratch is hard and lengthy ta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valid approach is to reuse existing applications to support real-time collabor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veraging single-user applications to allow multi-user collaboration  increases the availability and improve the usability of collaborative applications [Xi et al., 2004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roposed mapping use the idea of extend single-user applications to support multi-user real-time collaboration over the 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the mapping, it is assumed Model-View-Controller (MVC) architecture style for the single user 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99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single-user applications can be extended to groupware application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FE8E-5E67-4A16-AEEE-2D9A0C37B5A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15640" y="549000"/>
            <a:ext cx="7467480" cy="7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Related 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560" y="1676520"/>
            <a:ext cx="8305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4920" y="1600200"/>
            <a:ext cx="86104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Toolkit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: Reusable 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up components and awareness-enhanced widgets [Dourish  &amp; Edwards, 2000]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llaboration-transparent system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: 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ternal application that masks the necessary communications and notifications to support basic aspects of collabo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lligent Collaboration Transparency (ICT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Application sharing infrastructure interposed between the heterogeneous applications to be shared on the applications [Li &amp; Li, 2002]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placement of componen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Dynamic replacement of single-user interface objects with collaborative user interface component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[Begole et. al, 1999]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nsparent Adaptation (TA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 of the application API (Application Programming Interface) to intercept, convert, handle and interpret the interactions of the user [Xia et. al, 2004]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1197000"/>
            <a:ext cx="8604360" cy="144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D887-7EA2-4B79-B7C7-36E556B88FC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15640" y="549000"/>
            <a:ext cx="7543800" cy="7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lated work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197000"/>
            <a:ext cx="8604360" cy="7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1197000"/>
            <a:ext cx="8604360" cy="144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04920" y="1600200"/>
            <a:ext cx="86104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rawbacks of the existing approach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Toolkits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ire the implementation of specific details of the toolkit, which are not always compatible with existing single-user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llaboration-transparent system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 not really modify the applications, just share them with another applic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C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not modify the application - its connect them with a new layer of software on top of the operating syst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placement of componen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equires that the application meet certain conditions, such as capabilities for process migration, run-time component replacement, dynamic binding, and user input event interception and repl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entirely based on the existing of an API that can handle almost every aspect of the application. Few applications provide such a rich API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C98B-0D1D-4712-A508-30E57EF790B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42920" y="549000"/>
            <a:ext cx="7158240" cy="7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50920" y="1413000"/>
            <a:ext cx="8458200" cy="378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s that support essential CSCW features have specific requirements that are not addressed by single user application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imal requirements that can be implemented on applications to make them collaborative are addressed: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2800" indent="-53352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upport for communication (user and model comunication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2800" indent="-53352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Group awarenes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2800" indent="-53352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ession management,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2800" indent="-53352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ncurrency contro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challenging to design and build a system that supports the requirements mentioned above effectively, especially on single user applications that already have many features and a complete set of functionalities for its domain.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197000"/>
            <a:ext cx="8604360" cy="7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1197000"/>
            <a:ext cx="8604360" cy="144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AF25-6AEB-47EE-9FC7-B3CF0B1DE42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55040" cy="7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Mapping of compon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676520"/>
            <a:ext cx="8305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50920" y="1773360"/>
            <a:ext cx="8458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r proposed mapping allows a uniform handling of the minimal groupware specific aspects: communication, session management, concurrency control, and group awareness on a high abstraction level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wadays the MVC architectural style is the most accepted and used in the development of single-user applications providing the developers with a common framework for its architecture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ing from a generic MVC-based application, we can assume that a logical and consistent distribution of functional components on the application has been made: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2800" indent="-53352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the View part is common to find components that handle the display of da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2800" indent="-53352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the Controller part there are components that handle user’s data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2800" indent="-53352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del part usually contains persistence components and customized components that represent specific domain r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197000"/>
            <a:ext cx="8604360" cy="7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1197000"/>
            <a:ext cx="8604360" cy="144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C6DB-E86F-4F6F-93BA-471D767A2E9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Mapping of components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2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04920" y="1676520"/>
            <a:ext cx="8458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349"/>
              </a:spcBef>
              <a:buClr>
                <a:srgbClr val="99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755640" y="2060640"/>
          <a:ext cx="7416720" cy="4390920"/>
        </p:xfrm>
        <a:graphic>
          <a:graphicData uri="http://schemas.openxmlformats.org/drawingml/2006/table">
            <a:tbl>
              <a:tblPr/>
              <a:tblGrid>
                <a:gridCol w="1852560"/>
                <a:gridCol w="1855800"/>
                <a:gridCol w="1855800"/>
                <a:gridCol w="185256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onents of the applicatio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VC pa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pped Compon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quirement adress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 presentation compone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e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lti-user widgets, Communication components on the GU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r Comunication and Group awaren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action user compone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oll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lti-user controls, Communication components on the GU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r Comunication, Group awareness and Session Manage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ssion Control compone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oll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currency Control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chanism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oup awareness and Concurrency Contro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 Validation compone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oll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currency Control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chanism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currency Contro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l and data logic compone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ect modification on the components of the Mod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l Comunication and Concurrency Contro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" name=""/>
          <p:cNvSpPr/>
          <p:nvPr/>
        </p:nvSpPr>
        <p:spPr>
          <a:xfrm>
            <a:off x="539640" y="1700280"/>
            <a:ext cx="8458200" cy="7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mapping table for the components of a  generic MVC applic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1197000"/>
            <a:ext cx="8604360" cy="7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1197000"/>
            <a:ext cx="8604360" cy="144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4F64-B196-4944-8EC4-47C7B4C0AD8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07T16:29:44Z</dcterms:created>
  <dc:creator>Mauro Pichiliani</dc:creator>
  <dc:description/>
  <dc:language>en-US</dc:language>
  <cp:lastModifiedBy>teste</cp:lastModifiedBy>
  <dcterms:modified xsi:type="dcterms:W3CDTF">2006-11-15T18:19:13Z</dcterms:modified>
  <cp:revision>983</cp:revision>
  <dc:subject/>
  <dc:title>WS-DRem - Web Service para Desenvolvimento Remoto</dc:title>
</cp:coreProperties>
</file>